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8ED-8A22-4D22-97C3-6794057B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AC7-BA9E-4BA7-BB35-F6A7B147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551-52E5-4CC3-B0B9-AD4D4B92F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43B1-D3FB-4225-A903-3742CFC26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F8B7-A33E-4325-92B6-5DA74520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DDC-0370-4DA8-8CBC-FF336A1B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F1CA-D16E-4CB9-AD4A-72F85CD22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7D38-6E93-46F1-B48A-7E4F797F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213-B8BF-4436-A2E8-D33151B3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E615-1364-4316-B1DA-4338DCC2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925-969F-4A42-B606-620DA90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ACF-6C3B-4457-AAFC-4BC3A9BC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B5E7-CF99-43EB-A9F4-27F2EB9EC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1241793834_soviet_heroes_10718047"/>
          <p:cNvPicPr/>
          <p:nvPr/>
        </p:nvPicPr>
        <p:blipFill>
          <a:blip r:embed="rId1"/>
          <a:stretch/>
        </p:blipFill>
        <p:spPr>
          <a:xfrm>
            <a:off x="174600" y="428760"/>
            <a:ext cx="8794800" cy="62532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3995640" y="1630440"/>
            <a:ext cx="489600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«ВОСПИТАТ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00000"/>
                </a:solidFill>
                <a:latin typeface="Times New Roman"/>
              </a:rPr>
              <a:t>ПАТРИОТ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00000"/>
                </a:solidFill>
                <a:latin typeface="Times New Roman"/>
              </a:rPr>
              <a:t>РОССИ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476360" y="404640"/>
            <a:ext cx="538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униципальное бюджетное общеобразовательное учреждение г. Иркутска средняя общеобразовательная школа №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-635040" y="1417680"/>
            <a:ext cx="61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d2d8a"/>
                </a:solidFill>
                <a:latin typeface="comic"/>
              </a:rPr>
              <a:t>школьный проек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b00000"/>
                </a:solidFill>
                <a:uFillTx/>
                <a:latin typeface="Times New Roman"/>
              </a:rPr>
              <a:t>ЦЕЛЬ  ПРОЕКТ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6920" y="1792440"/>
            <a:ext cx="727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презентации, альманахов, поста, паспорта проек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765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ЗАДАЧ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86920" y="1628640"/>
            <a:ext cx="7272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нинг на командообразование и сплочения коллекти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опроса среди учащихся 6 класс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бор фотографий, грамот  и информ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формление плакат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е странички альмонаха и поста, презент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готовка к защите проек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Times New Roman"/>
              </a:rPr>
              <a:t>АКТУАЛЬНОСТЬ  ПРОЕК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99640" y="2332080"/>
            <a:ext cx="741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блема гражданско-патриотического воспитания приобретает особую актуальность для российского общества, переживающего выход из кризиса. В этих условиях патриотизм становится важнейшей ценностью, интегрирующейся в социальную, духовно-нравственную, идеологическую, культурно-историческую, военно-патриотическую сферы обществ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800000"/>
                </a:solidFill>
                <a:uFillTx/>
                <a:latin typeface="Times New Roman"/>
              </a:rPr>
              <a:t>Выводы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обходимо больше внимания уделять в школе воспитанию патриотизма и любви к Родине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800000"/>
                </a:solidFill>
                <a:uFillTx/>
                <a:latin typeface="Times New Roman"/>
              </a:rPr>
              <a:t>Необходимо дальнейшее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влечение внимания общественности, средств массовой информации к проблеме сохранения исторической памяти народ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бота о физическом и духовном здоровье подрост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учение исторических данных на уроках и во внеурочное время. Работа в музеях, архивах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ограмм обучения поисковой работ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воение военно-прикладных видов спорта. Организация просмотра кинофильмов о Великой Отечественной войн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тематических проектов («Бессмертный полк», «Книга памяти»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00000"/>
                </a:solidFill>
                <a:uFillTx/>
                <a:latin typeface="Times New Roman"/>
              </a:rPr>
              <a:t>Перспективы развития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атриотического движения на ближайший период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19160" y="2133720"/>
            <a:ext cx="712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недрение новых технологий в процесс формирования гражданско-патриотических ценностей обучающихся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ширение круга участников проекта. Сетевое взаимодействие с другими образовательными учреждениями, учреждениями культуры для создания более благоприятных условий, направленных на повышение активной гражданской пози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рганизация экспозиций в школе «Трудовая галерея почета и славы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3 очередь),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Служу Отечеству»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Мои предки в труде и бою»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Roman Zaripov</cp:lastModifiedBy>
  <dcterms:modified xsi:type="dcterms:W3CDTF">2022-03-25T03:31:50Z</dcterms:modified>
  <cp:revision>19</cp:revision>
  <dc:subject/>
  <dc:title>Слайд 1</dc:title>
</cp:coreProperties>
</file>