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1E3-6EF9-4829-8AF6-F47CC892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396-BE88-421F-AF91-4FC8852D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7DA-93B0-4BB9-9046-4029B29F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D087-FF68-4D10-AFAB-C9403631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57D-375C-4BAD-B8E9-0322C6C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618-EE85-4EAD-9AFE-4D53F3A6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D9D-D81B-4CA2-BBA4-901A607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635-F7D3-4711-8C01-1B52287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1F4-DF2A-4EE7-BBF3-6F8DFEE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B905-6AB2-4030-B144-7E9BED3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3E54-86E5-4BEA-B339-263A5B8A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E2C-CD5B-474C-BDD8-36AC984F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803-5EF1-421F-9D11-0624068A03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1241793834_soviet_heroes_10718047"/>
          <p:cNvPicPr/>
          <p:nvPr/>
        </p:nvPicPr>
        <p:blipFill>
          <a:blip r:embed="rId1"/>
          <a:stretch/>
        </p:blipFill>
        <p:spPr>
          <a:xfrm>
            <a:off x="174600" y="428760"/>
            <a:ext cx="8794800" cy="625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995640" y="1630440"/>
            <a:ext cx="4896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«ВОСПИТА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ПАТРИ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РОСС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476360" y="404640"/>
            <a:ext cx="53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униципальное бюджетное общеобразовательное учреждение г. Иркутска средняя общеобразовательная школа №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-635040" y="1417680"/>
            <a:ext cx="61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comic"/>
              </a:rPr>
              <a:t>школьный прое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00000"/>
                </a:solidFill>
                <a:uFillTx/>
                <a:latin typeface="Times New Roman"/>
              </a:rPr>
              <a:t>ЦЕЛЬ  ПРО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9244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презентации, альманахов, поста, паспорта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 на командообразование и сплочения коллекти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опроса среди учащихся 6 кла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фотографий, грамот  и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формление плак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странички альмонаха и поста, през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 к защит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Times New Roman"/>
              </a:rPr>
              <a:t>АКТУАЛЬНОСТЬ 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33208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 гражданско-патриотического воспитания приобретает особую актуальность для российского общества, переживающего выход из кризиса. В этих условиях патриотизм становится важнейшей ценностью, интегрирующейся в социальную, духовно-нравственную, идеологическую, культурно-историческую, военно-патриотическую сферы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Times New Roman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в школе воспитанию патриотизма и любви к Родине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Необходимо дальнейше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внимания общественности, средств массовой информации к проблеме сохранения исторической памяти на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ота о физическом и духовном здоровье подрост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исторических данных на уроках и во внеурочное время. Работа в музеях, архив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ограмм обучения поисковой работ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ие военно-прикладных видов спорта. Организация просмотра кинофильмов 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тематических проектов («Бессмертный полк», «Книга памяти»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ерспективы развития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атриотического движения на ближайший период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9160" y="213372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недрение новых технологий в процесс формирования гражданско-патриотических ценностей обучающихся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ширение круга участников проекта. Сетевое взаимодействие с другими образовательными учреждениями, учреждениями культуры для создания более благоприятных условий, направленных на повышение активной гражданской пози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экспозиций в школе «Трудовая галерея почета и славы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3 очередь)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Служу Отечеству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Мои предки в труде и бою»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oman Zaripov</cp:lastModifiedBy>
  <dcterms:modified xsi:type="dcterms:W3CDTF">2022-03-25T03:31:50Z</dcterms:modified>
  <cp:revision>19</cp:revision>
  <dc:subject/>
  <dc:title>Слайд 1</dc:title>
</cp:coreProperties>
</file>