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657-B870-4A53-A5DF-7178E863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F7C-A72C-4DB7-9A11-10DDAF92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D01-5D49-4535-885B-46F5C642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5B6-B806-42C9-B9B1-B176A077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D2B-4373-47AB-9944-E885582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F2A-3E83-4A6E-8921-E1421A11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2975-D829-47C2-A920-F27A4201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96F-4665-4E3F-9AD2-76923BAE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2DB-F188-42DD-9EA1-E7B8BFA6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900-EBBF-46FE-A0F9-8D19E061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653-9A98-41B8-902B-B2AC4496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18D-3FE7-48C5-9477-AB09D79B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F41-0E6B-4949-A7F9-4568236BE4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1241793834_soviet_heroes_10718047"/>
          <p:cNvPicPr/>
          <p:nvPr/>
        </p:nvPicPr>
        <p:blipFill>
          <a:blip r:embed="rId1"/>
          <a:stretch/>
        </p:blipFill>
        <p:spPr>
          <a:xfrm>
            <a:off x="174600" y="428760"/>
            <a:ext cx="8794800" cy="625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995640" y="1630440"/>
            <a:ext cx="4896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«ВОСПИТА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ПАТРИ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РОСС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476360" y="404640"/>
            <a:ext cx="53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униципальное бюджетное общеобразовательное учреждение г. Иркутска средняя общеобразовательная школа №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-635040" y="1417680"/>
            <a:ext cx="61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comic"/>
              </a:rPr>
              <a:t>школьный прое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00000"/>
                </a:solidFill>
                <a:uFillTx/>
                <a:latin typeface="Times New Roman"/>
              </a:rPr>
              <a:t>ЦЕЛЬ  ПРО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9244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презентации, альманахов, поста, паспорта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 на командообразование и сплочения коллекти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опроса среди учащихся 6 кла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фотографий, грамот  и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формление плак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странички альмонаха и поста, през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 к защит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Times New Roman"/>
              </a:rPr>
              <a:t>АКТУАЛЬНОСТЬ 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33208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 гражданско-патриотического воспитания приобретает особую актуальность для российского общества, переживающего выход из кризиса. В этих условиях патриотизм становится важнейшей ценностью, интегрирующейся в социальную, духовно-нравственную, идеологическую, культурно-историческую, военно-патриотическую сферы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Times New Roman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в школе воспитанию патриотизма и любви к Родине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Необходимо дальнейше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внимания общественности, средств массовой информации к проблеме сохранения исторической памяти на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ота о физическом и духовном здоровье подрост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исторических данных на уроках и во внеурочное время. Работа в музеях, архив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ограмм обучения поисковой работ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ие военно-прикладных видов спорта. Организация просмотра кинофильмов 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тематических проектов («Бессмертный полк», «Книга памяти»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ерспективы развития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атриотического движения на ближайший период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9160" y="213372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недрение новых технологий в процесс формирования гражданско-патриотических ценностей обучающихся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ширение круга участников проекта. Сетевое взаимодействие с другими образовательными учреждениями, учреждениями культуры для создания более благоприятных условий, направленных на повышение активной гражданской пози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экспозиций в школе «Трудовая галерея почета и славы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3 очередь)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Служу Отечеству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Мои предки в труде и бою»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oman Zaripov</cp:lastModifiedBy>
  <dcterms:modified xsi:type="dcterms:W3CDTF">2022-03-25T03:31:50Z</dcterms:modified>
  <cp:revision>19</cp:revision>
  <dc:subject/>
  <dc:title>Слайд 1</dc:title>
</cp:coreProperties>
</file>