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346-3FF6-439E-9E4B-AD1B3635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5B6-EA83-4C00-91F6-48F54273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0C3-9A05-4D38-B601-ADC05235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BE8-9FF1-41E7-AC67-371050A0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A42-6936-4487-9A8F-8E06DC3A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078B-77F7-40AF-94EE-09367340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124-A386-491B-9C88-47674000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B238-8B42-4ED5-A711-1067BFA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DCF-7366-426C-BE96-3110D531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68A-C38B-442E-8311-3BFB6CE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50F-3B26-4CDB-B9CB-D0E517B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EB9-4808-4DDF-BC6E-B86FE717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FF9D-26A9-47D7-B452-854A0E2B8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…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5386320" y="1349280"/>
            <a:ext cx="357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листов А4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атной сторо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тч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ма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не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5148360" y="260280"/>
            <a:ext cx="357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– гармонирует с текстом и рисунками, не отвлек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а – минимум (не более 30 %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иси должны быть крупными, хорошо читаемы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меньше мелких детал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зображения, графики и т.д. должны быть подписа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аличие раздаточного/рекламного материала (если есть такая необходимост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сполож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73360"/>
          <a:ext cx="1871640" cy="4751280"/>
        </p:xfrm>
        <a:graphic>
          <a:graphicData uri="http://schemas.openxmlformats.org/drawingml/2006/table">
            <a:tbl>
              <a:tblPr/>
              <a:tblGrid>
                <a:gridCol w="934920"/>
                <a:gridCol w="93672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56000" y="1700280"/>
          <a:ext cx="2087280" cy="48974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700280"/>
          <a:ext cx="1800360" cy="4898880"/>
        </p:xfrm>
        <a:graphic>
          <a:graphicData uri="http://schemas.openxmlformats.org/drawingml/2006/table">
            <a:tbl>
              <a:tblPr/>
              <a:tblGrid>
                <a:gridCol w="900360"/>
                <a:gridCol w="900000"/>
              </a:tblGrid>
              <a:tr h="37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020000" y="1700280"/>
          <a:ext cx="1873080" cy="4897440"/>
        </p:xfrm>
        <a:graphic>
          <a:graphicData uri="http://schemas.openxmlformats.org/drawingml/2006/table">
            <a:tbl>
              <a:tblPr/>
              <a:tblGrid>
                <a:gridCol w="936720"/>
                <a:gridCol w="936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т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340000" y="1349280"/>
            <a:ext cx="680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(тема, автор, название организации, руководитель, допустимо - эмблем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ты: проблема, актуальность, цель, задачи, методы, гипотеза / практическая, социальная значим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й материал (сжатая информация о работе, основные результаты, выводы, интересные факты и т.д.): фотографии, таблицы, схемы, диаграммы, отрывки из источников, графики и д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2089080" cy="504216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2"/>
          <p:cNvSpPr/>
          <p:nvPr/>
        </p:nvSpPr>
        <p:spPr>
          <a:xfrm>
            <a:off x="4722840" y="950760"/>
            <a:ext cx="3806640" cy="1484640"/>
          </a:xfrm>
          <a:custGeom>
            <a:avLst/>
            <a:gdLst/>
            <a:ahLst/>
            <a:rect l="l" t="t" r="r" b="b"/>
            <a:pathLst>
              <a:path w="10573" h="4121">
                <a:moveTo>
                  <a:pt x="16002" y="2643"/>
                </a:moveTo>
                <a:cubicBezTo>
                  <a:pt x="15610" y="2661"/>
                  <a:pt x="15320" y="2722"/>
                  <a:pt x="14954" y="2905"/>
                </a:cubicBezTo>
                <a:cubicBezTo>
                  <a:pt x="14703" y="3031"/>
                  <a:pt x="14475" y="3168"/>
                  <a:pt x="14288" y="3381"/>
                </a:cubicBezTo>
                <a:cubicBezTo>
                  <a:pt x="13785" y="3954"/>
                  <a:pt x="13210" y="4689"/>
                  <a:pt x="13121" y="5477"/>
                </a:cubicBezTo>
                <a:cubicBezTo>
                  <a:pt x="13104" y="5626"/>
                  <a:pt x="13068" y="5957"/>
                  <a:pt x="13145" y="6096"/>
                </a:cubicBezTo>
                <a:cubicBezTo>
                  <a:pt x="13216" y="6223"/>
                  <a:pt x="13412" y="6339"/>
                  <a:pt x="13526" y="6429"/>
                </a:cubicBezTo>
                <a:cubicBezTo>
                  <a:pt x="13740" y="6598"/>
                  <a:pt x="14036" y="6699"/>
                  <a:pt x="14311" y="6715"/>
                </a:cubicBezTo>
                <a:cubicBezTo>
                  <a:pt x="14812" y="6745"/>
                  <a:pt x="15329" y="6672"/>
                  <a:pt x="15835" y="6691"/>
                </a:cubicBezTo>
                <a:cubicBezTo>
                  <a:pt x="16192" y="6704"/>
                  <a:pt x="16512" y="6743"/>
                  <a:pt x="16859" y="6715"/>
                </a:cubicBezTo>
                <a:cubicBezTo>
                  <a:pt x="18086" y="6616"/>
                  <a:pt x="19333" y="6802"/>
                  <a:pt x="20550" y="6644"/>
                </a:cubicBezTo>
                <a:cubicBezTo>
                  <a:pt x="21408" y="6532"/>
                  <a:pt x="22439" y="6529"/>
                  <a:pt x="23217" y="6215"/>
                </a:cubicBezTo>
                <a:cubicBezTo>
                  <a:pt x="23312" y="6177"/>
                  <a:pt x="23382" y="5895"/>
                  <a:pt x="23432" y="5834"/>
                </a:cubicBezTo>
                <a:cubicBezTo>
                  <a:pt x="23618" y="5605"/>
                  <a:pt x="23678" y="5113"/>
                  <a:pt x="23622" y="4905"/>
                </a:cubicBezTo>
                <a:cubicBezTo>
                  <a:pt x="23571" y="4715"/>
                  <a:pt x="23313" y="4509"/>
                  <a:pt x="23217" y="4334"/>
                </a:cubicBezTo>
                <a:cubicBezTo>
                  <a:pt x="23080" y="4084"/>
                  <a:pt x="23037" y="3759"/>
                  <a:pt x="22908" y="3524"/>
                </a:cubicBezTo>
                <a:cubicBezTo>
                  <a:pt x="22797" y="3322"/>
                  <a:pt x="22867" y="3375"/>
                  <a:pt x="22503" y="3262"/>
                </a:cubicBezTo>
                <a:cubicBezTo>
                  <a:pt x="22138" y="3149"/>
                  <a:pt x="21760" y="3131"/>
                  <a:pt x="21384" y="3096"/>
                </a:cubicBezTo>
                <a:cubicBezTo>
                  <a:pt x="21297" y="3088"/>
                  <a:pt x="21184" y="3089"/>
                  <a:pt x="21098" y="3072"/>
                </a:cubicBezTo>
                <a:cubicBezTo>
                  <a:pt x="20547" y="2962"/>
                  <a:pt x="19997" y="2859"/>
                  <a:pt x="19431" y="2810"/>
                </a:cubicBezTo>
                <a:cubicBezTo>
                  <a:pt x="19085" y="2780"/>
                  <a:pt x="18702" y="2802"/>
                  <a:pt x="18359" y="2738"/>
                </a:cubicBezTo>
                <a:cubicBezTo>
                  <a:pt x="18091" y="2688"/>
                  <a:pt x="17874" y="2647"/>
                  <a:pt x="17574" y="2691"/>
                </a:cubicBezTo>
                <a:cubicBezTo>
                  <a:pt x="17201" y="2745"/>
                  <a:pt x="16921" y="2749"/>
                  <a:pt x="16550" y="2738"/>
                </a:cubicBezTo>
                <a:cubicBezTo>
                  <a:pt x="16428" y="2734"/>
                  <a:pt x="16219" y="2697"/>
                  <a:pt x="16169" y="2691"/>
                </a:cubicBezTo>
                <a:cubicBezTo>
                  <a:pt x="16087" y="2681"/>
                  <a:pt x="16002" y="2681"/>
                  <a:pt x="15931" y="2667"/>
                </a:cubicBezTo>
                <a:cubicBezTo>
                  <a:pt x="15904" y="2667"/>
                  <a:pt x="15893" y="2665"/>
                  <a:pt x="15883" y="2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3"/>
          <p:cNvSpPr/>
          <p:nvPr/>
        </p:nvSpPr>
        <p:spPr>
          <a:xfrm>
            <a:off x="3386160" y="2254320"/>
            <a:ext cx="1192320" cy="360360"/>
          </a:xfrm>
          <a:custGeom>
            <a:avLst/>
            <a:gdLst/>
            <a:ahLst/>
            <a:rect l="l" t="t" r="r" b="b"/>
            <a:pathLst>
              <a:path w="3311" h="1001">
                <a:moveTo>
                  <a:pt x="9454" y="7263"/>
                </a:moveTo>
                <a:cubicBezTo>
                  <a:pt x="9430" y="7263"/>
                  <a:pt x="9422" y="7263"/>
                  <a:pt x="9406" y="7263"/>
                </a:cubicBezTo>
                <a:cubicBezTo>
                  <a:pt x="9433" y="7227"/>
                  <a:pt x="9395" y="7218"/>
                  <a:pt x="9454" y="7191"/>
                </a:cubicBezTo>
                <a:cubicBezTo>
                  <a:pt x="9521" y="7160"/>
                  <a:pt x="9596" y="7143"/>
                  <a:pt x="9668" y="7120"/>
                </a:cubicBezTo>
                <a:cubicBezTo>
                  <a:pt x="9850" y="7061"/>
                  <a:pt x="10040" y="7002"/>
                  <a:pt x="10216" y="6929"/>
                </a:cubicBezTo>
                <a:cubicBezTo>
                  <a:pt x="10351" y="6873"/>
                  <a:pt x="10478" y="6826"/>
                  <a:pt x="10620" y="6787"/>
                </a:cubicBezTo>
                <a:cubicBezTo>
                  <a:pt x="10757" y="6749"/>
                  <a:pt x="10885" y="6736"/>
                  <a:pt x="11025" y="6715"/>
                </a:cubicBezTo>
                <a:cubicBezTo>
                  <a:pt x="11272" y="6679"/>
                  <a:pt x="11503" y="6652"/>
                  <a:pt x="11740" y="6572"/>
                </a:cubicBezTo>
                <a:cubicBezTo>
                  <a:pt x="11794" y="6554"/>
                  <a:pt x="11849" y="6489"/>
                  <a:pt x="11882" y="6477"/>
                </a:cubicBezTo>
                <a:cubicBezTo>
                  <a:pt x="11920" y="6463"/>
                  <a:pt x="11964" y="6466"/>
                  <a:pt x="12002" y="6453"/>
                </a:cubicBezTo>
                <a:cubicBezTo>
                  <a:pt x="12040" y="6433"/>
                  <a:pt x="12047" y="6425"/>
                  <a:pt x="12073" y="6429"/>
                </a:cubicBezTo>
                <a:cubicBezTo>
                  <a:pt x="12033" y="6421"/>
                  <a:pt x="11998" y="6415"/>
                  <a:pt x="11954" y="6406"/>
                </a:cubicBezTo>
                <a:cubicBezTo>
                  <a:pt x="11895" y="6395"/>
                  <a:pt x="11848" y="6384"/>
                  <a:pt x="11787" y="6382"/>
                </a:cubicBezTo>
                <a:cubicBezTo>
                  <a:pt x="11732" y="6380"/>
                  <a:pt x="11676" y="6382"/>
                  <a:pt x="11621" y="6382"/>
                </a:cubicBezTo>
                <a:cubicBezTo>
                  <a:pt x="11651" y="6368"/>
                  <a:pt x="11651" y="6355"/>
                  <a:pt x="11692" y="6334"/>
                </a:cubicBezTo>
                <a:cubicBezTo>
                  <a:pt x="11749" y="6305"/>
                  <a:pt x="11837" y="6289"/>
                  <a:pt x="11906" y="6287"/>
                </a:cubicBezTo>
                <a:cubicBezTo>
                  <a:pt x="12151" y="6280"/>
                  <a:pt x="12415" y="6295"/>
                  <a:pt x="12644" y="6263"/>
                </a:cubicBezTo>
                <a:cubicBezTo>
                  <a:pt x="12668" y="6263"/>
                  <a:pt x="12676" y="6263"/>
                  <a:pt x="12692" y="6263"/>
                </a:cubicBezTo>
                <a:cubicBezTo>
                  <a:pt x="12664" y="6285"/>
                  <a:pt x="12676" y="6273"/>
                  <a:pt x="12644" y="6287"/>
                </a:cubicBezTo>
                <a:cubicBezTo>
                  <a:pt x="12611" y="6301"/>
                  <a:pt x="12619" y="6316"/>
                  <a:pt x="12597" y="6334"/>
                </a:cubicBezTo>
                <a:cubicBezTo>
                  <a:pt x="12546" y="6375"/>
                  <a:pt x="12471" y="6412"/>
                  <a:pt x="12430" y="6453"/>
                </a:cubicBezTo>
                <a:cubicBezTo>
                  <a:pt x="12337" y="6547"/>
                  <a:pt x="12242" y="6663"/>
                  <a:pt x="12192" y="6787"/>
                </a:cubicBezTo>
                <a:cubicBezTo>
                  <a:pt x="12166" y="6853"/>
                  <a:pt x="12118" y="6877"/>
                  <a:pt x="12097" y="6929"/>
                </a:cubicBezTo>
                <a:cubicBezTo>
                  <a:pt x="12078" y="6976"/>
                  <a:pt x="12066" y="7042"/>
                  <a:pt x="12049" y="7096"/>
                </a:cubicBezTo>
                <a:cubicBezTo>
                  <a:pt x="12036" y="7135"/>
                  <a:pt x="12033" y="7175"/>
                  <a:pt x="12025" y="7215"/>
                </a:cubicBezTo>
                <a:cubicBezTo>
                  <a:pt x="12025" y="7223"/>
                  <a:pt x="12025" y="7231"/>
                  <a:pt x="12025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хождения защ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стен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находится около своего стен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должен быть готов кратко представить свою работу (2 – 3 мин.), затронув самые интересные ее момен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ы, участники и автор работы обсуждают представленную работу (вопросы-ответы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втору могут подойти несколько раз и вопросы могут быть разными, а могут и повторятьс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Админ\Рабочий стол\5 марта\фото 001.jpg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\Рабочий стол\5 марта\фото 002.jpg"/>
          <p:cNvPicPr/>
          <p:nvPr/>
        </p:nvPicPr>
        <p:blipFill>
          <a:blip r:embed="rId2"/>
          <a:stretch/>
        </p:blipFill>
        <p:spPr>
          <a:xfrm>
            <a:off x="5076720" y="1197000"/>
            <a:ext cx="3841920" cy="5122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164628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Админ\Рабочий стол\5 марта\фото 003.jpg"/>
          <p:cNvPicPr/>
          <p:nvPr/>
        </p:nvPicPr>
        <p:blipFill>
          <a:blip r:embed="rId1"/>
          <a:stretch/>
        </p:blipFill>
        <p:spPr>
          <a:xfrm>
            <a:off x="5435640" y="1268280"/>
            <a:ext cx="3254400" cy="433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Админ\Рабочий стол\5 марта\фото 004.jpg"/>
          <p:cNvPicPr/>
          <p:nvPr/>
        </p:nvPicPr>
        <p:blipFill>
          <a:blip r:embed="rId2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28592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2"/>
          <p:cNvSpPr/>
          <p:nvPr/>
        </p:nvSpPr>
        <p:spPr>
          <a:xfrm>
            <a:off x="428760" y="3780000"/>
            <a:ext cx="5349600" cy="1758960"/>
          </a:xfrm>
          <a:custGeom>
            <a:avLst/>
            <a:gdLst/>
            <a:ahLst/>
            <a:rect l="l" t="t" r="r" b="b"/>
            <a:pathLst>
              <a:path w="14860" h="4883">
                <a:moveTo>
                  <a:pt x="6453" y="10573"/>
                </a:moveTo>
                <a:cubicBezTo>
                  <a:pt x="6254" y="10548"/>
                  <a:pt x="6060" y="10515"/>
                  <a:pt x="5858" y="10501"/>
                </a:cubicBezTo>
                <a:cubicBezTo>
                  <a:pt x="5391" y="10468"/>
                  <a:pt x="4899" y="10575"/>
                  <a:pt x="4453" y="10692"/>
                </a:cubicBezTo>
                <a:cubicBezTo>
                  <a:pt x="4029" y="10804"/>
                  <a:pt x="3616" y="10964"/>
                  <a:pt x="3191" y="11073"/>
                </a:cubicBezTo>
                <a:cubicBezTo>
                  <a:pt x="3013" y="11119"/>
                  <a:pt x="2847" y="11168"/>
                  <a:pt x="2667" y="11216"/>
                </a:cubicBezTo>
                <a:cubicBezTo>
                  <a:pt x="2438" y="11278"/>
                  <a:pt x="2174" y="11311"/>
                  <a:pt x="1976" y="11454"/>
                </a:cubicBezTo>
                <a:cubicBezTo>
                  <a:pt x="1911" y="11501"/>
                  <a:pt x="1860" y="11533"/>
                  <a:pt x="1810" y="11573"/>
                </a:cubicBezTo>
                <a:cubicBezTo>
                  <a:pt x="1772" y="11604"/>
                  <a:pt x="1742" y="11667"/>
                  <a:pt x="1715" y="11692"/>
                </a:cubicBezTo>
                <a:cubicBezTo>
                  <a:pt x="1573" y="11821"/>
                  <a:pt x="1469" y="11939"/>
                  <a:pt x="1381" y="12121"/>
                </a:cubicBezTo>
                <a:cubicBezTo>
                  <a:pt x="1225" y="12444"/>
                  <a:pt x="1234" y="12742"/>
                  <a:pt x="1214" y="13073"/>
                </a:cubicBezTo>
                <a:cubicBezTo>
                  <a:pt x="1213" y="13084"/>
                  <a:pt x="1191" y="13246"/>
                  <a:pt x="1191" y="13287"/>
                </a:cubicBezTo>
                <a:cubicBezTo>
                  <a:pt x="1188" y="13701"/>
                  <a:pt x="1176" y="14286"/>
                  <a:pt x="1524" y="14549"/>
                </a:cubicBezTo>
                <a:cubicBezTo>
                  <a:pt x="1974" y="14890"/>
                  <a:pt x="2903" y="14824"/>
                  <a:pt x="3405" y="14835"/>
                </a:cubicBezTo>
                <a:cubicBezTo>
                  <a:pt x="4043" y="14849"/>
                  <a:pt x="4154" y="14855"/>
                  <a:pt x="4667" y="14930"/>
                </a:cubicBezTo>
                <a:cubicBezTo>
                  <a:pt x="5864" y="15105"/>
                  <a:pt x="7024" y="15234"/>
                  <a:pt x="8239" y="15264"/>
                </a:cubicBezTo>
                <a:cubicBezTo>
                  <a:pt x="8739" y="15276"/>
                  <a:pt x="8921" y="15260"/>
                  <a:pt x="9311" y="15288"/>
                </a:cubicBezTo>
                <a:cubicBezTo>
                  <a:pt x="10552" y="15378"/>
                  <a:pt x="11851" y="15505"/>
                  <a:pt x="13097" y="15383"/>
                </a:cubicBezTo>
                <a:cubicBezTo>
                  <a:pt x="13419" y="15352"/>
                  <a:pt x="13830" y="15193"/>
                  <a:pt x="14121" y="15097"/>
                </a:cubicBezTo>
                <a:cubicBezTo>
                  <a:pt x="14290" y="15042"/>
                  <a:pt x="15861" y="14537"/>
                  <a:pt x="16050" y="14478"/>
                </a:cubicBezTo>
                <a:cubicBezTo>
                  <a:pt x="15918" y="14236"/>
                  <a:pt x="15768" y="13991"/>
                  <a:pt x="15645" y="13740"/>
                </a:cubicBezTo>
                <a:cubicBezTo>
                  <a:pt x="15442" y="13327"/>
                  <a:pt x="15330" y="12918"/>
                  <a:pt x="15216" y="12478"/>
                </a:cubicBezTo>
                <a:cubicBezTo>
                  <a:pt x="15200" y="12406"/>
                  <a:pt x="15185" y="12335"/>
                  <a:pt x="15169" y="12263"/>
                </a:cubicBezTo>
                <a:cubicBezTo>
                  <a:pt x="14811" y="12235"/>
                  <a:pt x="14520" y="12166"/>
                  <a:pt x="14168" y="12049"/>
                </a:cubicBezTo>
                <a:cubicBezTo>
                  <a:pt x="13808" y="11930"/>
                  <a:pt x="13206" y="11536"/>
                  <a:pt x="12859" y="11478"/>
                </a:cubicBezTo>
                <a:cubicBezTo>
                  <a:pt x="12645" y="11442"/>
                  <a:pt x="12417" y="11562"/>
                  <a:pt x="12192" y="11525"/>
                </a:cubicBezTo>
                <a:cubicBezTo>
                  <a:pt x="11622" y="11431"/>
                  <a:pt x="11044" y="11197"/>
                  <a:pt x="10501" y="11001"/>
                </a:cubicBezTo>
                <a:cubicBezTo>
                  <a:pt x="10371" y="10954"/>
                  <a:pt x="10223" y="10878"/>
                  <a:pt x="10120" y="10859"/>
                </a:cubicBezTo>
                <a:cubicBezTo>
                  <a:pt x="9816" y="10804"/>
                  <a:pt x="9504" y="10803"/>
                  <a:pt x="9192" y="10739"/>
                </a:cubicBezTo>
                <a:cubicBezTo>
                  <a:pt x="8993" y="10698"/>
                  <a:pt x="8768" y="10615"/>
                  <a:pt x="8573" y="10644"/>
                </a:cubicBezTo>
                <a:cubicBezTo>
                  <a:pt x="7855" y="10750"/>
                  <a:pt x="7149" y="11187"/>
                  <a:pt x="6406" y="11287"/>
                </a:cubicBezTo>
                <a:cubicBezTo>
                  <a:pt x="6382" y="11287"/>
                  <a:pt x="6358" y="11287"/>
                  <a:pt x="6334" y="11287"/>
                </a:cubicBezTo>
                <a:cubicBezTo>
                  <a:pt x="6340" y="11122"/>
                  <a:pt x="6442" y="10622"/>
                  <a:pt x="6406" y="10549"/>
                </a:cubicBezTo>
                <a:cubicBezTo>
                  <a:pt x="6399" y="10535"/>
                  <a:pt x="6266" y="10563"/>
                  <a:pt x="6263" y="105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3"/>
          <p:cNvSpPr/>
          <p:nvPr/>
        </p:nvSpPr>
        <p:spPr>
          <a:xfrm>
            <a:off x="2657520" y="3386160"/>
            <a:ext cx="446040" cy="385920"/>
          </a:xfrm>
          <a:custGeom>
            <a:avLst/>
            <a:gdLst/>
            <a:ahLst/>
            <a:rect l="l" t="t" r="r" b="b"/>
            <a:pathLst>
              <a:path w="1239" h="1073">
                <a:moveTo>
                  <a:pt x="8620" y="9406"/>
                </a:moveTo>
                <a:cubicBezTo>
                  <a:pt x="8581" y="9451"/>
                  <a:pt x="8574" y="9445"/>
                  <a:pt x="8525" y="9477"/>
                </a:cubicBezTo>
                <a:cubicBezTo>
                  <a:pt x="8441" y="9533"/>
                  <a:pt x="8365" y="9606"/>
                  <a:pt x="8287" y="9668"/>
                </a:cubicBezTo>
                <a:cubicBezTo>
                  <a:pt x="8196" y="9740"/>
                  <a:pt x="8150" y="9868"/>
                  <a:pt x="8049" y="9930"/>
                </a:cubicBezTo>
                <a:cubicBezTo>
                  <a:pt x="7942" y="9996"/>
                  <a:pt x="7851" y="10052"/>
                  <a:pt x="7763" y="10144"/>
                </a:cubicBezTo>
                <a:cubicBezTo>
                  <a:pt x="7701" y="10208"/>
                  <a:pt x="7606" y="10248"/>
                  <a:pt x="7549" y="10311"/>
                </a:cubicBezTo>
                <a:cubicBezTo>
                  <a:pt x="7478" y="10389"/>
                  <a:pt x="7513" y="10361"/>
                  <a:pt x="7453" y="10406"/>
                </a:cubicBezTo>
                <a:cubicBezTo>
                  <a:pt x="7448" y="10362"/>
                  <a:pt x="7437" y="10329"/>
                  <a:pt x="7430" y="10287"/>
                </a:cubicBezTo>
                <a:cubicBezTo>
                  <a:pt x="7412" y="10176"/>
                  <a:pt x="7430" y="9894"/>
                  <a:pt x="7430" y="9858"/>
                </a:cubicBezTo>
                <a:cubicBezTo>
                  <a:pt x="7430" y="9924"/>
                  <a:pt x="7427" y="9964"/>
                  <a:pt x="7406" y="10025"/>
                </a:cubicBezTo>
                <a:cubicBezTo>
                  <a:pt x="7380" y="10100"/>
                  <a:pt x="7382" y="10160"/>
                  <a:pt x="7382" y="10239"/>
                </a:cubicBezTo>
                <a:cubicBezTo>
                  <a:pt x="7382" y="10319"/>
                  <a:pt x="7382" y="10398"/>
                  <a:pt x="7382" y="10478"/>
                </a:cubicBezTo>
                <a:cubicBezTo>
                  <a:pt x="7415" y="10474"/>
                  <a:pt x="7454" y="10457"/>
                  <a:pt x="7477" y="10454"/>
                </a:cubicBezTo>
                <a:cubicBezTo>
                  <a:pt x="7531" y="10447"/>
                  <a:pt x="7570" y="10446"/>
                  <a:pt x="7620" y="10430"/>
                </a:cubicBezTo>
                <a:cubicBezTo>
                  <a:pt x="7683" y="10410"/>
                  <a:pt x="7746" y="10391"/>
                  <a:pt x="7811" y="10382"/>
                </a:cubicBezTo>
                <a:cubicBezTo>
                  <a:pt x="7902" y="10369"/>
                  <a:pt x="8003" y="10382"/>
                  <a:pt x="8096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брана именно эта тем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ее актуальность (принципиальная новизна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ны ли цель и задач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образом были достигнуты задачи работы (про методы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опросить описать (пояснить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пользованный мето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ю, рисунок, график и др. изображение на стен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точник в списке литера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2"/>
          <p:cNvSpPr/>
          <p:nvPr/>
        </p:nvSpPr>
        <p:spPr>
          <a:xfrm>
            <a:off x="368280" y="146160"/>
            <a:ext cx="4167360" cy="1568520"/>
          </a:xfrm>
          <a:custGeom>
            <a:avLst/>
            <a:gdLst/>
            <a:ahLst/>
            <a:rect l="l" t="t" r="r" b="b"/>
            <a:pathLst>
              <a:path w="11574" h="4359">
                <a:moveTo>
                  <a:pt x="4286" y="4501"/>
                </a:moveTo>
                <a:cubicBezTo>
                  <a:pt x="4294" y="4499"/>
                  <a:pt x="4371" y="4462"/>
                  <a:pt x="4405" y="4453"/>
                </a:cubicBezTo>
                <a:cubicBezTo>
                  <a:pt x="4642" y="4387"/>
                  <a:pt x="4902" y="4339"/>
                  <a:pt x="5144" y="4310"/>
                </a:cubicBezTo>
                <a:cubicBezTo>
                  <a:pt x="5954" y="4213"/>
                  <a:pt x="6608" y="4406"/>
                  <a:pt x="7358" y="4501"/>
                </a:cubicBezTo>
                <a:cubicBezTo>
                  <a:pt x="7464" y="4514"/>
                  <a:pt x="7562" y="4454"/>
                  <a:pt x="7668" y="4453"/>
                </a:cubicBezTo>
                <a:cubicBezTo>
                  <a:pt x="8097" y="4450"/>
                  <a:pt x="8524" y="4371"/>
                  <a:pt x="8954" y="4358"/>
                </a:cubicBezTo>
                <a:cubicBezTo>
                  <a:pt x="9317" y="4347"/>
                  <a:pt x="9692" y="4366"/>
                  <a:pt x="10049" y="4334"/>
                </a:cubicBezTo>
                <a:cubicBezTo>
                  <a:pt x="10464" y="4296"/>
                  <a:pt x="10865" y="4184"/>
                  <a:pt x="11287" y="4167"/>
                </a:cubicBezTo>
                <a:cubicBezTo>
                  <a:pt x="11520" y="4158"/>
                  <a:pt x="12111" y="4196"/>
                  <a:pt x="12263" y="4048"/>
                </a:cubicBezTo>
                <a:cubicBezTo>
                  <a:pt x="12382" y="3932"/>
                  <a:pt x="12456" y="3680"/>
                  <a:pt x="12502" y="3524"/>
                </a:cubicBezTo>
                <a:cubicBezTo>
                  <a:pt x="12617" y="3131"/>
                  <a:pt x="12602" y="2835"/>
                  <a:pt x="12525" y="2429"/>
                </a:cubicBezTo>
                <a:cubicBezTo>
                  <a:pt x="12457" y="2070"/>
                  <a:pt x="12487" y="1826"/>
                  <a:pt x="12263" y="1619"/>
                </a:cubicBezTo>
                <a:cubicBezTo>
                  <a:pt x="11667" y="1066"/>
                  <a:pt x="10620" y="709"/>
                  <a:pt x="9858" y="524"/>
                </a:cubicBezTo>
                <a:cubicBezTo>
                  <a:pt x="8874" y="285"/>
                  <a:pt x="7968" y="406"/>
                  <a:pt x="7025" y="691"/>
                </a:cubicBezTo>
                <a:cubicBezTo>
                  <a:pt x="6767" y="769"/>
                  <a:pt x="6907" y="752"/>
                  <a:pt x="6620" y="714"/>
                </a:cubicBezTo>
                <a:cubicBezTo>
                  <a:pt x="5733" y="596"/>
                  <a:pt x="4893" y="542"/>
                  <a:pt x="4001" y="691"/>
                </a:cubicBezTo>
                <a:cubicBezTo>
                  <a:pt x="3679" y="745"/>
                  <a:pt x="3368" y="873"/>
                  <a:pt x="3143" y="1095"/>
                </a:cubicBezTo>
                <a:cubicBezTo>
                  <a:pt x="2706" y="1525"/>
                  <a:pt x="2314" y="2047"/>
                  <a:pt x="1929" y="2524"/>
                </a:cubicBezTo>
                <a:cubicBezTo>
                  <a:pt x="1669" y="2846"/>
                  <a:pt x="1417" y="3165"/>
                  <a:pt x="1119" y="3453"/>
                </a:cubicBezTo>
                <a:cubicBezTo>
                  <a:pt x="1062" y="3491"/>
                  <a:pt x="1051" y="3494"/>
                  <a:pt x="1024" y="3524"/>
                </a:cubicBezTo>
                <a:cubicBezTo>
                  <a:pt x="1064" y="3566"/>
                  <a:pt x="1149" y="3645"/>
                  <a:pt x="1191" y="3691"/>
                </a:cubicBezTo>
                <a:cubicBezTo>
                  <a:pt x="1357" y="3872"/>
                  <a:pt x="1513" y="4099"/>
                  <a:pt x="1738" y="4215"/>
                </a:cubicBezTo>
                <a:cubicBezTo>
                  <a:pt x="1981" y="4340"/>
                  <a:pt x="2222" y="4383"/>
                  <a:pt x="2477" y="4453"/>
                </a:cubicBezTo>
                <a:cubicBezTo>
                  <a:pt x="2888" y="4566"/>
                  <a:pt x="3339" y="4679"/>
                  <a:pt x="3762" y="4739"/>
                </a:cubicBezTo>
                <a:cubicBezTo>
                  <a:pt x="3922" y="4762"/>
                  <a:pt x="4059" y="4733"/>
                  <a:pt x="4143" y="4715"/>
                </a:cubicBezTo>
                <a:cubicBezTo>
                  <a:pt x="4175" y="4708"/>
                  <a:pt x="4205" y="4651"/>
                  <a:pt x="4239" y="4643"/>
                </a:cubicBezTo>
                <a:cubicBezTo>
                  <a:pt x="4281" y="4633"/>
                  <a:pt x="4334" y="4607"/>
                  <a:pt x="4382" y="4596"/>
                </a:cubicBezTo>
                <a:cubicBezTo>
                  <a:pt x="4515" y="4565"/>
                  <a:pt x="4656" y="4538"/>
                  <a:pt x="4786" y="4501"/>
                </a:cubicBezTo>
                <a:cubicBezTo>
                  <a:pt x="4821" y="4491"/>
                  <a:pt x="4849" y="4488"/>
                  <a:pt x="4882" y="4477"/>
                </a:cubicBezTo>
                <a:cubicBezTo>
                  <a:pt x="4903" y="4470"/>
                  <a:pt x="4929" y="4461"/>
                  <a:pt x="4953" y="4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3"/>
          <p:cNvSpPr/>
          <p:nvPr/>
        </p:nvSpPr>
        <p:spPr>
          <a:xfrm>
            <a:off x="3300480" y="1628640"/>
            <a:ext cx="506520" cy="892440"/>
          </a:xfrm>
          <a:custGeom>
            <a:avLst/>
            <a:gdLst/>
            <a:ahLst/>
            <a:rect l="l" t="t" r="r" b="b"/>
            <a:pathLst>
              <a:path w="1406" h="2478">
                <a:moveTo>
                  <a:pt x="10573" y="7001"/>
                </a:moveTo>
                <a:cubicBezTo>
                  <a:pt x="10532" y="6954"/>
                  <a:pt x="10511" y="6925"/>
                  <a:pt x="10478" y="6882"/>
                </a:cubicBezTo>
                <a:cubicBezTo>
                  <a:pt x="10406" y="6790"/>
                  <a:pt x="10336" y="6691"/>
                  <a:pt x="10263" y="6596"/>
                </a:cubicBezTo>
                <a:cubicBezTo>
                  <a:pt x="10147" y="6446"/>
                  <a:pt x="10081" y="6297"/>
                  <a:pt x="9977" y="6144"/>
                </a:cubicBezTo>
                <a:cubicBezTo>
                  <a:pt x="9860" y="5973"/>
                  <a:pt x="9761" y="5791"/>
                  <a:pt x="9644" y="5620"/>
                </a:cubicBezTo>
                <a:cubicBezTo>
                  <a:pt x="9549" y="5481"/>
                  <a:pt x="9536" y="5331"/>
                  <a:pt x="9454" y="5191"/>
                </a:cubicBezTo>
                <a:cubicBezTo>
                  <a:pt x="9439" y="5165"/>
                  <a:pt x="9361" y="5034"/>
                  <a:pt x="9358" y="5024"/>
                </a:cubicBezTo>
                <a:cubicBezTo>
                  <a:pt x="9336" y="4941"/>
                  <a:pt x="9332" y="4909"/>
                  <a:pt x="9287" y="4834"/>
                </a:cubicBezTo>
                <a:cubicBezTo>
                  <a:pt x="9265" y="4798"/>
                  <a:pt x="9254" y="4787"/>
                  <a:pt x="9239" y="4763"/>
                </a:cubicBezTo>
                <a:cubicBezTo>
                  <a:pt x="9239" y="4755"/>
                  <a:pt x="9239" y="4747"/>
                  <a:pt x="9239" y="4739"/>
                </a:cubicBezTo>
                <a:cubicBezTo>
                  <a:pt x="9235" y="4751"/>
                  <a:pt x="9216" y="4768"/>
                  <a:pt x="9215" y="4810"/>
                </a:cubicBezTo>
                <a:cubicBezTo>
                  <a:pt x="9211" y="4929"/>
                  <a:pt x="9215" y="5048"/>
                  <a:pt x="9215" y="5167"/>
                </a:cubicBezTo>
                <a:cubicBezTo>
                  <a:pt x="9203" y="5094"/>
                  <a:pt x="9177" y="5074"/>
                  <a:pt x="9168" y="5001"/>
                </a:cubicBezTo>
                <a:cubicBezTo>
                  <a:pt x="9149" y="4847"/>
                  <a:pt x="9168" y="4680"/>
                  <a:pt x="9168" y="4524"/>
                </a:cubicBezTo>
                <a:cubicBezTo>
                  <a:pt x="9212" y="4542"/>
                  <a:pt x="9241" y="4535"/>
                  <a:pt x="9287" y="4572"/>
                </a:cubicBezTo>
                <a:cubicBezTo>
                  <a:pt x="9352" y="4625"/>
                  <a:pt x="9416" y="4660"/>
                  <a:pt x="9477" y="4715"/>
                </a:cubicBezTo>
                <a:cubicBezTo>
                  <a:pt x="9565" y="4794"/>
                  <a:pt x="9654" y="4879"/>
                  <a:pt x="9739" y="4953"/>
                </a:cubicBezTo>
                <a:cubicBezTo>
                  <a:pt x="9809" y="5014"/>
                  <a:pt x="9862" y="5076"/>
                  <a:pt x="9930" y="5144"/>
                </a:cubicBezTo>
                <a:cubicBezTo>
                  <a:pt x="9975" y="5189"/>
                  <a:pt x="10026" y="5236"/>
                  <a:pt x="10073" y="5286"/>
                </a:cubicBezTo>
                <a:cubicBezTo>
                  <a:pt x="10097" y="5312"/>
                  <a:pt x="10123" y="5319"/>
                  <a:pt x="10144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2"/>
          <p:cNvSpPr/>
          <p:nvPr/>
        </p:nvSpPr>
        <p:spPr>
          <a:xfrm>
            <a:off x="6437160" y="4697280"/>
            <a:ext cx="1818000" cy="1227240"/>
          </a:xfrm>
          <a:custGeom>
            <a:avLst/>
            <a:gdLst/>
            <a:ahLst/>
            <a:rect l="l" t="t" r="r" b="b"/>
            <a:pathLst>
              <a:path w="5049" h="3406">
                <a:moveTo>
                  <a:pt x="20431" y="13049"/>
                </a:moveTo>
                <a:cubicBezTo>
                  <a:pt x="20093" y="13060"/>
                  <a:pt x="19777" y="13124"/>
                  <a:pt x="19455" y="13240"/>
                </a:cubicBezTo>
                <a:cubicBezTo>
                  <a:pt x="18904" y="13439"/>
                  <a:pt x="18413" y="13745"/>
                  <a:pt x="17883" y="13978"/>
                </a:cubicBezTo>
                <a:cubicBezTo>
                  <a:pt x="17911" y="14114"/>
                  <a:pt x="17909" y="14251"/>
                  <a:pt x="17978" y="14383"/>
                </a:cubicBezTo>
                <a:cubicBezTo>
                  <a:pt x="18104" y="14624"/>
                  <a:pt x="18215" y="14888"/>
                  <a:pt x="18359" y="15121"/>
                </a:cubicBezTo>
                <a:cubicBezTo>
                  <a:pt x="18434" y="15242"/>
                  <a:pt x="18623" y="15464"/>
                  <a:pt x="18645" y="15526"/>
                </a:cubicBezTo>
                <a:cubicBezTo>
                  <a:pt x="18694" y="15663"/>
                  <a:pt x="18666" y="15762"/>
                  <a:pt x="18740" y="15907"/>
                </a:cubicBezTo>
                <a:cubicBezTo>
                  <a:pt x="18836" y="16094"/>
                  <a:pt x="19052" y="16270"/>
                  <a:pt x="19241" y="16359"/>
                </a:cubicBezTo>
                <a:cubicBezTo>
                  <a:pt x="19362" y="16416"/>
                  <a:pt x="19494" y="16414"/>
                  <a:pt x="19622" y="16431"/>
                </a:cubicBezTo>
                <a:cubicBezTo>
                  <a:pt x="19851" y="16462"/>
                  <a:pt x="20103" y="16472"/>
                  <a:pt x="20336" y="16454"/>
                </a:cubicBezTo>
                <a:cubicBezTo>
                  <a:pt x="21091" y="16397"/>
                  <a:pt x="21815" y="16335"/>
                  <a:pt x="22574" y="16335"/>
                </a:cubicBezTo>
                <a:cubicBezTo>
                  <a:pt x="22881" y="16335"/>
                  <a:pt x="22862" y="16278"/>
                  <a:pt x="22931" y="16002"/>
                </a:cubicBezTo>
                <a:cubicBezTo>
                  <a:pt x="22977" y="15816"/>
                  <a:pt x="22959" y="15377"/>
                  <a:pt x="22908" y="15216"/>
                </a:cubicBezTo>
                <a:cubicBezTo>
                  <a:pt x="22854" y="15044"/>
                  <a:pt x="22731" y="14901"/>
                  <a:pt x="22693" y="14716"/>
                </a:cubicBezTo>
                <a:cubicBezTo>
                  <a:pt x="22648" y="14499"/>
                  <a:pt x="22603" y="14197"/>
                  <a:pt x="22646" y="13978"/>
                </a:cubicBezTo>
                <a:cubicBezTo>
                  <a:pt x="22670" y="13907"/>
                  <a:pt x="22693" y="13835"/>
                  <a:pt x="22717" y="13764"/>
                </a:cubicBezTo>
                <a:cubicBezTo>
                  <a:pt x="22631" y="13749"/>
                  <a:pt x="22544" y="13730"/>
                  <a:pt x="22455" y="13716"/>
                </a:cubicBezTo>
                <a:cubicBezTo>
                  <a:pt x="22229" y="13681"/>
                  <a:pt x="22003" y="13674"/>
                  <a:pt x="21788" y="13597"/>
                </a:cubicBezTo>
                <a:cubicBezTo>
                  <a:pt x="21684" y="13560"/>
                  <a:pt x="21634" y="13565"/>
                  <a:pt x="21527" y="13549"/>
                </a:cubicBezTo>
                <a:cubicBezTo>
                  <a:pt x="21318" y="13517"/>
                  <a:pt x="20983" y="13500"/>
                  <a:pt x="20812" y="13359"/>
                </a:cubicBezTo>
                <a:cubicBezTo>
                  <a:pt x="20761" y="13317"/>
                  <a:pt x="20723" y="13261"/>
                  <a:pt x="20693" y="13240"/>
                </a:cubicBezTo>
                <a:cubicBezTo>
                  <a:pt x="20655" y="13213"/>
                  <a:pt x="20614" y="13185"/>
                  <a:pt x="20574" y="13168"/>
                </a:cubicBezTo>
                <a:cubicBezTo>
                  <a:pt x="20530" y="13149"/>
                  <a:pt x="20520" y="13166"/>
                  <a:pt x="20479" y="13145"/>
                </a:cubicBezTo>
                <a:cubicBezTo>
                  <a:pt x="20458" y="13134"/>
                  <a:pt x="20413" y="13100"/>
                  <a:pt x="20407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3"/>
          <p:cNvSpPr/>
          <p:nvPr/>
        </p:nvSpPr>
        <p:spPr>
          <a:xfrm>
            <a:off x="5425920" y="3994200"/>
            <a:ext cx="1295640" cy="824040"/>
          </a:xfrm>
          <a:custGeom>
            <a:avLst/>
            <a:gdLst/>
            <a:ahLst/>
            <a:rect l="l" t="t" r="r" b="b"/>
            <a:pathLst>
              <a:path w="3597" h="2287">
                <a:moveTo>
                  <a:pt x="15097" y="11144"/>
                </a:moveTo>
                <a:cubicBezTo>
                  <a:pt x="15097" y="11117"/>
                  <a:pt x="15095" y="11107"/>
                  <a:pt x="15073" y="11097"/>
                </a:cubicBezTo>
                <a:cubicBezTo>
                  <a:pt x="15162" y="11101"/>
                  <a:pt x="15247" y="11107"/>
                  <a:pt x="15335" y="11120"/>
                </a:cubicBezTo>
                <a:cubicBezTo>
                  <a:pt x="15435" y="11135"/>
                  <a:pt x="15521" y="11167"/>
                  <a:pt x="15621" y="11192"/>
                </a:cubicBezTo>
                <a:cubicBezTo>
                  <a:pt x="15746" y="11223"/>
                  <a:pt x="15839" y="11258"/>
                  <a:pt x="15954" y="11311"/>
                </a:cubicBezTo>
                <a:cubicBezTo>
                  <a:pt x="16059" y="11359"/>
                  <a:pt x="16159" y="11407"/>
                  <a:pt x="16264" y="11454"/>
                </a:cubicBezTo>
                <a:cubicBezTo>
                  <a:pt x="16346" y="11491"/>
                  <a:pt x="16418" y="11556"/>
                  <a:pt x="16502" y="11597"/>
                </a:cubicBezTo>
                <a:cubicBezTo>
                  <a:pt x="16580" y="11635"/>
                  <a:pt x="16641" y="11674"/>
                  <a:pt x="16716" y="11716"/>
                </a:cubicBezTo>
                <a:cubicBezTo>
                  <a:pt x="16763" y="11742"/>
                  <a:pt x="16817" y="11766"/>
                  <a:pt x="16859" y="11787"/>
                </a:cubicBezTo>
                <a:cubicBezTo>
                  <a:pt x="16918" y="11766"/>
                  <a:pt x="16856" y="11729"/>
                  <a:pt x="16955" y="11740"/>
                </a:cubicBezTo>
                <a:cubicBezTo>
                  <a:pt x="17014" y="11747"/>
                  <a:pt x="17132" y="11810"/>
                  <a:pt x="17193" y="11835"/>
                </a:cubicBezTo>
                <a:cubicBezTo>
                  <a:pt x="17301" y="11880"/>
                  <a:pt x="17395" y="11956"/>
                  <a:pt x="17502" y="12002"/>
                </a:cubicBezTo>
                <a:cubicBezTo>
                  <a:pt x="17622" y="12053"/>
                  <a:pt x="17740" y="12109"/>
                  <a:pt x="17859" y="12168"/>
                </a:cubicBezTo>
                <a:cubicBezTo>
                  <a:pt x="17957" y="12216"/>
                  <a:pt x="18055" y="12261"/>
                  <a:pt x="18145" y="12311"/>
                </a:cubicBezTo>
                <a:cubicBezTo>
                  <a:pt x="18193" y="12338"/>
                  <a:pt x="18268" y="12372"/>
                  <a:pt x="18312" y="12406"/>
                </a:cubicBezTo>
                <a:cubicBezTo>
                  <a:pt x="18356" y="12440"/>
                  <a:pt x="18378" y="12478"/>
                  <a:pt x="18431" y="12502"/>
                </a:cubicBezTo>
                <a:cubicBezTo>
                  <a:pt x="18439" y="12502"/>
                  <a:pt x="18447" y="12502"/>
                  <a:pt x="18455" y="12502"/>
                </a:cubicBezTo>
                <a:cubicBezTo>
                  <a:pt x="18435" y="12448"/>
                  <a:pt x="18433" y="12435"/>
                  <a:pt x="18407" y="12383"/>
                </a:cubicBezTo>
                <a:cubicBezTo>
                  <a:pt x="18344" y="12260"/>
                  <a:pt x="18278" y="12178"/>
                  <a:pt x="18193" y="12073"/>
                </a:cubicBezTo>
                <a:cubicBezTo>
                  <a:pt x="18141" y="12008"/>
                  <a:pt x="18109" y="11928"/>
                  <a:pt x="18074" y="11882"/>
                </a:cubicBezTo>
                <a:cubicBezTo>
                  <a:pt x="18052" y="11853"/>
                  <a:pt x="18002" y="11790"/>
                  <a:pt x="17978" y="11763"/>
                </a:cubicBezTo>
                <a:cubicBezTo>
                  <a:pt x="17953" y="11734"/>
                  <a:pt x="17929" y="11718"/>
                  <a:pt x="17907" y="11692"/>
                </a:cubicBezTo>
                <a:cubicBezTo>
                  <a:pt x="17919" y="11724"/>
                  <a:pt x="17914" y="11757"/>
                  <a:pt x="17931" y="11787"/>
                </a:cubicBezTo>
                <a:cubicBezTo>
                  <a:pt x="17970" y="11856"/>
                  <a:pt x="18034" y="11898"/>
                  <a:pt x="18074" y="11954"/>
                </a:cubicBezTo>
                <a:cubicBezTo>
                  <a:pt x="18120" y="12019"/>
                  <a:pt x="18145" y="12104"/>
                  <a:pt x="18193" y="12168"/>
                </a:cubicBezTo>
                <a:cubicBezTo>
                  <a:pt x="18236" y="12225"/>
                  <a:pt x="18268" y="12275"/>
                  <a:pt x="18312" y="12335"/>
                </a:cubicBezTo>
                <a:cubicBezTo>
                  <a:pt x="18356" y="12395"/>
                  <a:pt x="18408" y="12437"/>
                  <a:pt x="18455" y="12502"/>
                </a:cubicBezTo>
                <a:cubicBezTo>
                  <a:pt x="18502" y="12567"/>
                  <a:pt x="18550" y="12628"/>
                  <a:pt x="18598" y="12692"/>
                </a:cubicBezTo>
                <a:cubicBezTo>
                  <a:pt x="18620" y="12721"/>
                  <a:pt x="18645" y="12779"/>
                  <a:pt x="18669" y="12811"/>
                </a:cubicBezTo>
                <a:cubicBezTo>
                  <a:pt x="18668" y="12811"/>
                  <a:pt x="18634" y="12784"/>
                  <a:pt x="18598" y="12787"/>
                </a:cubicBezTo>
                <a:cubicBezTo>
                  <a:pt x="18511" y="12793"/>
                  <a:pt x="18423" y="12833"/>
                  <a:pt x="18359" y="12883"/>
                </a:cubicBezTo>
                <a:cubicBezTo>
                  <a:pt x="18284" y="12941"/>
                  <a:pt x="18219" y="12993"/>
                  <a:pt x="18145" y="13049"/>
                </a:cubicBezTo>
                <a:cubicBezTo>
                  <a:pt x="18076" y="13101"/>
                  <a:pt x="18038" y="13153"/>
                  <a:pt x="17978" y="13216"/>
                </a:cubicBezTo>
                <a:cubicBezTo>
                  <a:pt x="17926" y="13272"/>
                  <a:pt x="17867" y="13327"/>
                  <a:pt x="17836" y="13359"/>
                </a:cubicBezTo>
                <a:cubicBezTo>
                  <a:pt x="17828" y="13367"/>
                  <a:pt x="17820" y="13375"/>
                  <a:pt x="17812" y="13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556000" y="2060640"/>
            <a:ext cx="5198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форм презентации проектной / исследовательской (реферат) работы Вашего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2"/>
          <p:cNvSpPr/>
          <p:nvPr/>
        </p:nvSpPr>
        <p:spPr>
          <a:xfrm>
            <a:off x="6618240" y="617400"/>
            <a:ext cx="1997280" cy="978120"/>
          </a:xfrm>
          <a:custGeom>
            <a:avLst/>
            <a:gdLst/>
            <a:ahLst/>
            <a:rect l="l" t="t" r="r" b="b"/>
            <a:pathLst>
              <a:path w="5550" h="2715">
                <a:moveTo>
                  <a:pt x="20955" y="1715"/>
                </a:moveTo>
                <a:cubicBezTo>
                  <a:pt x="20639" y="1715"/>
                  <a:pt x="20338" y="1764"/>
                  <a:pt x="20026" y="1786"/>
                </a:cubicBezTo>
                <a:cubicBezTo>
                  <a:pt x="19945" y="1792"/>
                  <a:pt x="19861" y="1767"/>
                  <a:pt x="19788" y="1810"/>
                </a:cubicBezTo>
                <a:cubicBezTo>
                  <a:pt x="19429" y="2022"/>
                  <a:pt x="19113" y="2503"/>
                  <a:pt x="18836" y="2810"/>
                </a:cubicBezTo>
                <a:cubicBezTo>
                  <a:pt x="18675" y="2988"/>
                  <a:pt x="18561" y="3190"/>
                  <a:pt x="18455" y="3405"/>
                </a:cubicBezTo>
                <a:cubicBezTo>
                  <a:pt x="18426" y="3463"/>
                  <a:pt x="18408" y="3538"/>
                  <a:pt x="18383" y="3596"/>
                </a:cubicBezTo>
                <a:cubicBezTo>
                  <a:pt x="18448" y="3628"/>
                  <a:pt x="18525" y="3679"/>
                  <a:pt x="18598" y="3715"/>
                </a:cubicBezTo>
                <a:cubicBezTo>
                  <a:pt x="18860" y="3845"/>
                  <a:pt x="19104" y="3943"/>
                  <a:pt x="19383" y="4048"/>
                </a:cubicBezTo>
                <a:cubicBezTo>
                  <a:pt x="19848" y="4223"/>
                  <a:pt x="20267" y="4389"/>
                  <a:pt x="20765" y="4405"/>
                </a:cubicBezTo>
                <a:cubicBezTo>
                  <a:pt x="21344" y="4423"/>
                  <a:pt x="22031" y="4532"/>
                  <a:pt x="22598" y="4429"/>
                </a:cubicBezTo>
                <a:cubicBezTo>
                  <a:pt x="22791" y="4394"/>
                  <a:pt x="23176" y="4096"/>
                  <a:pt x="23336" y="3977"/>
                </a:cubicBezTo>
                <a:cubicBezTo>
                  <a:pt x="23556" y="3814"/>
                  <a:pt x="23739" y="3622"/>
                  <a:pt x="23932" y="3429"/>
                </a:cubicBezTo>
                <a:cubicBezTo>
                  <a:pt x="23814" y="3335"/>
                  <a:pt x="23687" y="3246"/>
                  <a:pt x="23574" y="3143"/>
                </a:cubicBezTo>
                <a:cubicBezTo>
                  <a:pt x="23384" y="2969"/>
                  <a:pt x="23267" y="2757"/>
                  <a:pt x="23122" y="2548"/>
                </a:cubicBezTo>
                <a:cubicBezTo>
                  <a:pt x="23023" y="2406"/>
                  <a:pt x="23014" y="2196"/>
                  <a:pt x="22860" y="2119"/>
                </a:cubicBezTo>
                <a:cubicBezTo>
                  <a:pt x="22687" y="2033"/>
                  <a:pt x="22234" y="2000"/>
                  <a:pt x="22050" y="1976"/>
                </a:cubicBezTo>
                <a:cubicBezTo>
                  <a:pt x="21746" y="1936"/>
                  <a:pt x="21420" y="1973"/>
                  <a:pt x="21122" y="1905"/>
                </a:cubicBezTo>
                <a:cubicBezTo>
                  <a:pt x="21039" y="1886"/>
                  <a:pt x="20987" y="1822"/>
                  <a:pt x="20931" y="1810"/>
                </a:cubicBezTo>
                <a:cubicBezTo>
                  <a:pt x="20825" y="1788"/>
                  <a:pt x="20673" y="1802"/>
                  <a:pt x="20574" y="1834"/>
                </a:cubicBezTo>
                <a:cubicBezTo>
                  <a:pt x="20534" y="1847"/>
                  <a:pt x="20531" y="1869"/>
                  <a:pt x="20503" y="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3"/>
          <p:cNvSpPr/>
          <p:nvPr/>
        </p:nvSpPr>
        <p:spPr>
          <a:xfrm>
            <a:off x="5692680" y="1722600"/>
            <a:ext cx="1603440" cy="755640"/>
          </a:xfrm>
          <a:custGeom>
            <a:avLst/>
            <a:gdLst/>
            <a:ahLst/>
            <a:rect l="l" t="t" r="r" b="b"/>
            <a:pathLst>
              <a:path w="4453" h="2097">
                <a:moveTo>
                  <a:pt x="15812" y="6882"/>
                </a:moveTo>
                <a:cubicBezTo>
                  <a:pt x="15866" y="6839"/>
                  <a:pt x="15890" y="6806"/>
                  <a:pt x="15978" y="6763"/>
                </a:cubicBezTo>
                <a:cubicBezTo>
                  <a:pt x="16516" y="6500"/>
                  <a:pt x="17075" y="6291"/>
                  <a:pt x="17621" y="6048"/>
                </a:cubicBezTo>
                <a:cubicBezTo>
                  <a:pt x="17916" y="5917"/>
                  <a:pt x="18199" y="5756"/>
                  <a:pt x="18479" y="5596"/>
                </a:cubicBezTo>
                <a:cubicBezTo>
                  <a:pt x="18575" y="5541"/>
                  <a:pt x="18675" y="5486"/>
                  <a:pt x="18764" y="5429"/>
                </a:cubicBezTo>
                <a:cubicBezTo>
                  <a:pt x="18853" y="5372"/>
                  <a:pt x="18936" y="5318"/>
                  <a:pt x="19050" y="5286"/>
                </a:cubicBezTo>
                <a:cubicBezTo>
                  <a:pt x="19214" y="5240"/>
                  <a:pt x="19267" y="5229"/>
                  <a:pt x="19383" y="5120"/>
                </a:cubicBezTo>
                <a:cubicBezTo>
                  <a:pt x="19457" y="5050"/>
                  <a:pt x="19471" y="5032"/>
                  <a:pt x="19574" y="4977"/>
                </a:cubicBezTo>
                <a:cubicBezTo>
                  <a:pt x="19663" y="4929"/>
                  <a:pt x="19749" y="4881"/>
                  <a:pt x="19836" y="4834"/>
                </a:cubicBezTo>
                <a:cubicBezTo>
                  <a:pt x="19874" y="4813"/>
                  <a:pt x="19897" y="4804"/>
                  <a:pt x="19931" y="4786"/>
                </a:cubicBezTo>
                <a:cubicBezTo>
                  <a:pt x="19707" y="4794"/>
                  <a:pt x="19553" y="4841"/>
                  <a:pt x="19336" y="4905"/>
                </a:cubicBezTo>
                <a:cubicBezTo>
                  <a:pt x="19224" y="4938"/>
                  <a:pt x="19112" y="4966"/>
                  <a:pt x="19002" y="5001"/>
                </a:cubicBezTo>
                <a:cubicBezTo>
                  <a:pt x="18963" y="5020"/>
                  <a:pt x="18957" y="5028"/>
                  <a:pt x="18931" y="5024"/>
                </a:cubicBezTo>
                <a:cubicBezTo>
                  <a:pt x="18996" y="4993"/>
                  <a:pt x="19046" y="4948"/>
                  <a:pt x="19121" y="4929"/>
                </a:cubicBezTo>
                <a:cubicBezTo>
                  <a:pt x="19242" y="4899"/>
                  <a:pt x="19377" y="4905"/>
                  <a:pt x="19502" y="4882"/>
                </a:cubicBezTo>
                <a:cubicBezTo>
                  <a:pt x="19639" y="4857"/>
                  <a:pt x="19771" y="4838"/>
                  <a:pt x="19907" y="4810"/>
                </a:cubicBezTo>
                <a:cubicBezTo>
                  <a:pt x="19972" y="4796"/>
                  <a:pt x="20032" y="4792"/>
                  <a:pt x="20098" y="4786"/>
                </a:cubicBezTo>
                <a:cubicBezTo>
                  <a:pt x="20153" y="4781"/>
                  <a:pt x="20209" y="4786"/>
                  <a:pt x="20264" y="4786"/>
                </a:cubicBezTo>
                <a:cubicBezTo>
                  <a:pt x="20245" y="4830"/>
                  <a:pt x="20234" y="4883"/>
                  <a:pt x="20217" y="4929"/>
                </a:cubicBezTo>
                <a:cubicBezTo>
                  <a:pt x="20178" y="5036"/>
                  <a:pt x="20145" y="5132"/>
                  <a:pt x="20122" y="5239"/>
                </a:cubicBezTo>
                <a:cubicBezTo>
                  <a:pt x="20104" y="5320"/>
                  <a:pt x="20077" y="5396"/>
                  <a:pt x="20050" y="5477"/>
                </a:cubicBezTo>
                <a:cubicBezTo>
                  <a:pt x="20032" y="5529"/>
                  <a:pt x="20018" y="5587"/>
                  <a:pt x="20003" y="5644"/>
                </a:cubicBezTo>
                <a:cubicBezTo>
                  <a:pt x="19992" y="5684"/>
                  <a:pt x="19966" y="5699"/>
                  <a:pt x="19955" y="5739"/>
                </a:cubicBezTo>
                <a:cubicBezTo>
                  <a:pt x="19955" y="5763"/>
                  <a:pt x="19955" y="5770"/>
                  <a:pt x="19955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ебование ФГОС (Гла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. 6 «Требования к результатам освоения основной образовательной программы»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, который будет востребован при написании курсовых, дипломных, магистерских и т.д. рабо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 самопрезентации, публичной защиты  (своих достижений, своей идеи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"/>
          <p:cNvSpPr/>
          <p:nvPr/>
        </p:nvSpPr>
        <p:spPr>
          <a:xfrm>
            <a:off x="703440" y="4518000"/>
            <a:ext cx="5160960" cy="1809720"/>
          </a:xfrm>
          <a:custGeom>
            <a:avLst/>
            <a:gdLst/>
            <a:ahLst/>
            <a:rect l="l" t="t" r="r" b="b"/>
            <a:pathLst>
              <a:path w="14336" h="5026">
                <a:moveTo>
                  <a:pt x="7596" y="12787"/>
                </a:moveTo>
                <a:cubicBezTo>
                  <a:pt x="7037" y="12787"/>
                  <a:pt x="6450" y="12930"/>
                  <a:pt x="5906" y="12883"/>
                </a:cubicBezTo>
                <a:cubicBezTo>
                  <a:pt x="5679" y="12863"/>
                  <a:pt x="5472" y="12811"/>
                  <a:pt x="5239" y="12811"/>
                </a:cubicBezTo>
                <a:cubicBezTo>
                  <a:pt x="4943" y="12811"/>
                  <a:pt x="4726" y="12889"/>
                  <a:pt x="4453" y="13002"/>
                </a:cubicBezTo>
                <a:cubicBezTo>
                  <a:pt x="4217" y="13100"/>
                  <a:pt x="4011" y="13255"/>
                  <a:pt x="3786" y="13359"/>
                </a:cubicBezTo>
                <a:cubicBezTo>
                  <a:pt x="3634" y="13429"/>
                  <a:pt x="3433" y="13460"/>
                  <a:pt x="3286" y="13549"/>
                </a:cubicBezTo>
                <a:cubicBezTo>
                  <a:pt x="2985" y="13732"/>
                  <a:pt x="2670" y="14009"/>
                  <a:pt x="2429" y="14264"/>
                </a:cubicBezTo>
                <a:cubicBezTo>
                  <a:pt x="2280" y="14421"/>
                  <a:pt x="2125" y="14597"/>
                  <a:pt x="2024" y="14788"/>
                </a:cubicBezTo>
                <a:cubicBezTo>
                  <a:pt x="1997" y="14839"/>
                  <a:pt x="1986" y="14753"/>
                  <a:pt x="1953" y="14883"/>
                </a:cubicBezTo>
                <a:cubicBezTo>
                  <a:pt x="1880" y="15170"/>
                  <a:pt x="1993" y="15665"/>
                  <a:pt x="2096" y="15931"/>
                </a:cubicBezTo>
                <a:cubicBezTo>
                  <a:pt x="2184" y="16158"/>
                  <a:pt x="2373" y="16343"/>
                  <a:pt x="2524" y="16526"/>
                </a:cubicBezTo>
                <a:cubicBezTo>
                  <a:pt x="3060" y="17176"/>
                  <a:pt x="3774" y="17291"/>
                  <a:pt x="4572" y="17383"/>
                </a:cubicBezTo>
                <a:cubicBezTo>
                  <a:pt x="5360" y="17474"/>
                  <a:pt x="6163" y="17487"/>
                  <a:pt x="6953" y="17526"/>
                </a:cubicBezTo>
                <a:cubicBezTo>
                  <a:pt x="7144" y="17535"/>
                  <a:pt x="7357" y="17568"/>
                  <a:pt x="7549" y="17574"/>
                </a:cubicBezTo>
                <a:cubicBezTo>
                  <a:pt x="8095" y="17590"/>
                  <a:pt x="8625" y="17504"/>
                  <a:pt x="9168" y="17455"/>
                </a:cubicBezTo>
                <a:cubicBezTo>
                  <a:pt x="9868" y="17392"/>
                  <a:pt x="10503" y="17236"/>
                  <a:pt x="11192" y="17145"/>
                </a:cubicBezTo>
                <a:cubicBezTo>
                  <a:pt x="12120" y="17023"/>
                  <a:pt x="12966" y="17017"/>
                  <a:pt x="13907" y="16788"/>
                </a:cubicBezTo>
                <a:cubicBezTo>
                  <a:pt x="14334" y="16684"/>
                  <a:pt x="14497" y="16585"/>
                  <a:pt x="14835" y="16335"/>
                </a:cubicBezTo>
                <a:cubicBezTo>
                  <a:pt x="15378" y="15933"/>
                  <a:pt x="15826" y="15369"/>
                  <a:pt x="16288" y="14883"/>
                </a:cubicBezTo>
                <a:cubicBezTo>
                  <a:pt x="16235" y="14829"/>
                  <a:pt x="16133" y="14763"/>
                  <a:pt x="16073" y="14692"/>
                </a:cubicBezTo>
                <a:cubicBezTo>
                  <a:pt x="15858" y="14437"/>
                  <a:pt x="15648" y="14183"/>
                  <a:pt x="15431" y="13930"/>
                </a:cubicBezTo>
                <a:cubicBezTo>
                  <a:pt x="15348" y="13832"/>
                  <a:pt x="15216" y="13653"/>
                  <a:pt x="15145" y="13621"/>
                </a:cubicBezTo>
                <a:cubicBezTo>
                  <a:pt x="14798" y="13465"/>
                  <a:pt x="13958" y="13398"/>
                  <a:pt x="13621" y="13311"/>
                </a:cubicBezTo>
                <a:cubicBezTo>
                  <a:pt x="13066" y="13168"/>
                  <a:pt x="11858" y="12529"/>
                  <a:pt x="11335" y="12549"/>
                </a:cubicBezTo>
                <a:cubicBezTo>
                  <a:pt x="11279" y="12551"/>
                  <a:pt x="11296" y="12663"/>
                  <a:pt x="11240" y="12668"/>
                </a:cubicBezTo>
                <a:cubicBezTo>
                  <a:pt x="10818" y="12708"/>
                  <a:pt x="10392" y="12841"/>
                  <a:pt x="9954" y="12859"/>
                </a:cubicBezTo>
                <a:cubicBezTo>
                  <a:pt x="9543" y="12876"/>
                  <a:pt x="9127" y="12880"/>
                  <a:pt x="8715" y="12883"/>
                </a:cubicBezTo>
                <a:cubicBezTo>
                  <a:pt x="8482" y="12885"/>
                  <a:pt x="8045" y="12733"/>
                  <a:pt x="7930" y="12740"/>
                </a:cubicBezTo>
                <a:cubicBezTo>
                  <a:pt x="7873" y="12743"/>
                  <a:pt x="7834" y="12760"/>
                  <a:pt x="7787" y="12764"/>
                </a:cubicBezTo>
                <a:cubicBezTo>
                  <a:pt x="7703" y="12772"/>
                  <a:pt x="7653" y="12861"/>
                  <a:pt x="7549" y="12859"/>
                </a:cubicBezTo>
                <a:cubicBezTo>
                  <a:pt x="7517" y="12858"/>
                  <a:pt x="7533" y="12809"/>
                  <a:pt x="7501" y="12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3"/>
          <p:cNvSpPr/>
          <p:nvPr/>
        </p:nvSpPr>
        <p:spPr>
          <a:xfrm>
            <a:off x="3257640" y="3917880"/>
            <a:ext cx="352440" cy="608040"/>
          </a:xfrm>
          <a:custGeom>
            <a:avLst/>
            <a:gdLst/>
            <a:ahLst/>
            <a:rect l="l" t="t" r="r" b="b"/>
            <a:pathLst>
              <a:path w="977" h="1692">
                <a:moveTo>
                  <a:pt x="9858" y="10882"/>
                </a:moveTo>
                <a:cubicBezTo>
                  <a:pt x="9840" y="10905"/>
                  <a:pt x="9844" y="10926"/>
                  <a:pt x="9811" y="10954"/>
                </a:cubicBezTo>
                <a:cubicBezTo>
                  <a:pt x="9759" y="10999"/>
                  <a:pt x="9736" y="11033"/>
                  <a:pt x="9692" y="11097"/>
                </a:cubicBezTo>
                <a:cubicBezTo>
                  <a:pt x="9638" y="11176"/>
                  <a:pt x="9570" y="11288"/>
                  <a:pt x="9549" y="11382"/>
                </a:cubicBezTo>
                <a:cubicBezTo>
                  <a:pt x="9533" y="11454"/>
                  <a:pt x="9500" y="11526"/>
                  <a:pt x="9477" y="11597"/>
                </a:cubicBezTo>
                <a:cubicBezTo>
                  <a:pt x="9449" y="11684"/>
                  <a:pt x="9411" y="11778"/>
                  <a:pt x="9382" y="11859"/>
                </a:cubicBezTo>
                <a:cubicBezTo>
                  <a:pt x="9368" y="11900"/>
                  <a:pt x="9354" y="11962"/>
                  <a:pt x="9335" y="12002"/>
                </a:cubicBezTo>
                <a:cubicBezTo>
                  <a:pt x="9312" y="12050"/>
                  <a:pt x="9267" y="12128"/>
                  <a:pt x="9239" y="12168"/>
                </a:cubicBezTo>
                <a:cubicBezTo>
                  <a:pt x="9223" y="12191"/>
                  <a:pt x="9199" y="12209"/>
                  <a:pt x="9168" y="12240"/>
                </a:cubicBezTo>
                <a:cubicBezTo>
                  <a:pt x="9151" y="12257"/>
                  <a:pt x="9139" y="12285"/>
                  <a:pt x="9120" y="12311"/>
                </a:cubicBezTo>
                <a:cubicBezTo>
                  <a:pt x="9120" y="12335"/>
                  <a:pt x="9120" y="12343"/>
                  <a:pt x="9096" y="12335"/>
                </a:cubicBezTo>
                <a:cubicBezTo>
                  <a:pt x="9089" y="12273"/>
                  <a:pt x="9059" y="12226"/>
                  <a:pt x="9049" y="12168"/>
                </a:cubicBezTo>
                <a:cubicBezTo>
                  <a:pt x="9028" y="12040"/>
                  <a:pt x="9049" y="11893"/>
                  <a:pt x="9049" y="11763"/>
                </a:cubicBezTo>
                <a:cubicBezTo>
                  <a:pt x="9049" y="11794"/>
                  <a:pt x="9043" y="11780"/>
                  <a:pt x="9049" y="11811"/>
                </a:cubicBezTo>
                <a:cubicBezTo>
                  <a:pt x="9066" y="11899"/>
                  <a:pt x="9100" y="11985"/>
                  <a:pt x="9120" y="12073"/>
                </a:cubicBezTo>
                <a:cubicBezTo>
                  <a:pt x="9145" y="12185"/>
                  <a:pt x="9187" y="12293"/>
                  <a:pt x="9192" y="12406"/>
                </a:cubicBezTo>
                <a:cubicBezTo>
                  <a:pt x="9194" y="12454"/>
                  <a:pt x="9192" y="12501"/>
                  <a:pt x="9192" y="12549"/>
                </a:cubicBezTo>
                <a:cubicBezTo>
                  <a:pt x="9214" y="12526"/>
                  <a:pt x="9208" y="12556"/>
                  <a:pt x="9215" y="12525"/>
                </a:cubicBezTo>
                <a:cubicBezTo>
                  <a:pt x="9231" y="12453"/>
                  <a:pt x="9288" y="12429"/>
                  <a:pt x="9358" y="12383"/>
                </a:cubicBezTo>
                <a:cubicBezTo>
                  <a:pt x="9452" y="12320"/>
                  <a:pt x="9564" y="12261"/>
                  <a:pt x="9668" y="12216"/>
                </a:cubicBezTo>
                <a:cubicBezTo>
                  <a:pt x="9754" y="12179"/>
                  <a:pt x="9813" y="12135"/>
                  <a:pt x="9906" y="12121"/>
                </a:cubicBezTo>
                <a:cubicBezTo>
                  <a:pt x="9971" y="12111"/>
                  <a:pt x="9990" y="12118"/>
                  <a:pt x="1002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своему ребен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с выбором работы для защиты (уже написанный реферат или новая работа, написание которой планируется в 9 класс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лан работы и контролировать его выполн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докла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епетицию защи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овать на защи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Ink 2"/>
          <p:cNvSpPr/>
          <p:nvPr/>
        </p:nvSpPr>
        <p:spPr>
          <a:xfrm>
            <a:off x="6865920" y="4911840"/>
            <a:ext cx="1827360" cy="1242720"/>
          </a:xfrm>
          <a:custGeom>
            <a:avLst/>
            <a:gdLst/>
            <a:ahLst/>
            <a:rect l="l" t="t" r="r" b="b"/>
            <a:pathLst>
              <a:path w="5073" h="3453">
                <a:moveTo>
                  <a:pt x="21598" y="13645"/>
                </a:moveTo>
                <a:cubicBezTo>
                  <a:pt x="21390" y="13645"/>
                  <a:pt x="21229" y="13671"/>
                  <a:pt x="21026" y="13716"/>
                </a:cubicBezTo>
                <a:cubicBezTo>
                  <a:pt x="20719" y="13784"/>
                  <a:pt x="20336" y="13814"/>
                  <a:pt x="20050" y="13954"/>
                </a:cubicBezTo>
                <a:cubicBezTo>
                  <a:pt x="19982" y="13987"/>
                  <a:pt x="19714" y="14140"/>
                  <a:pt x="19645" y="14192"/>
                </a:cubicBezTo>
                <a:cubicBezTo>
                  <a:pt x="19458" y="14334"/>
                  <a:pt x="19362" y="14607"/>
                  <a:pt x="19264" y="14811"/>
                </a:cubicBezTo>
                <a:cubicBezTo>
                  <a:pt x="19126" y="15097"/>
                  <a:pt x="19030" y="15400"/>
                  <a:pt x="19098" y="15716"/>
                </a:cubicBezTo>
                <a:cubicBezTo>
                  <a:pt x="19133" y="15878"/>
                  <a:pt x="19191" y="15985"/>
                  <a:pt x="19288" y="16121"/>
                </a:cubicBezTo>
                <a:cubicBezTo>
                  <a:pt x="19456" y="16356"/>
                  <a:pt x="19607" y="16496"/>
                  <a:pt x="19836" y="16669"/>
                </a:cubicBezTo>
                <a:cubicBezTo>
                  <a:pt x="20033" y="16818"/>
                  <a:pt x="20155" y="16951"/>
                  <a:pt x="20407" y="16978"/>
                </a:cubicBezTo>
                <a:cubicBezTo>
                  <a:pt x="21051" y="17047"/>
                  <a:pt x="21692" y="16979"/>
                  <a:pt x="22336" y="17074"/>
                </a:cubicBezTo>
                <a:cubicBezTo>
                  <a:pt x="22462" y="17093"/>
                  <a:pt x="22582" y="17097"/>
                  <a:pt x="22717" y="17097"/>
                </a:cubicBezTo>
                <a:cubicBezTo>
                  <a:pt x="23035" y="17097"/>
                  <a:pt x="23750" y="17181"/>
                  <a:pt x="24003" y="16978"/>
                </a:cubicBezTo>
                <a:cubicBezTo>
                  <a:pt x="24032" y="16955"/>
                  <a:pt x="24020" y="16729"/>
                  <a:pt x="24027" y="16693"/>
                </a:cubicBezTo>
                <a:cubicBezTo>
                  <a:pt x="24074" y="16443"/>
                  <a:pt x="24039" y="16206"/>
                  <a:pt x="24098" y="15954"/>
                </a:cubicBezTo>
                <a:cubicBezTo>
                  <a:pt x="24182" y="15597"/>
                  <a:pt x="23957" y="15539"/>
                  <a:pt x="23670" y="15359"/>
                </a:cubicBezTo>
                <a:cubicBezTo>
                  <a:pt x="23443" y="15216"/>
                  <a:pt x="22984" y="15088"/>
                  <a:pt x="22812" y="14883"/>
                </a:cubicBezTo>
                <a:cubicBezTo>
                  <a:pt x="22721" y="14774"/>
                  <a:pt x="22690" y="14710"/>
                  <a:pt x="22598" y="14621"/>
                </a:cubicBezTo>
                <a:cubicBezTo>
                  <a:pt x="22472" y="14500"/>
                  <a:pt x="22316" y="14390"/>
                  <a:pt x="22193" y="14264"/>
                </a:cubicBezTo>
                <a:cubicBezTo>
                  <a:pt x="22116" y="14185"/>
                  <a:pt x="22113" y="14072"/>
                  <a:pt x="22050" y="14002"/>
                </a:cubicBezTo>
                <a:cubicBezTo>
                  <a:pt x="22022" y="13971"/>
                  <a:pt x="21976" y="13940"/>
                  <a:pt x="21931" y="13907"/>
                </a:cubicBezTo>
                <a:cubicBezTo>
                  <a:pt x="21889" y="13876"/>
                  <a:pt x="21815" y="13864"/>
                  <a:pt x="21765" y="13835"/>
                </a:cubicBezTo>
                <a:cubicBezTo>
                  <a:pt x="21730" y="13815"/>
                  <a:pt x="21687" y="13787"/>
                  <a:pt x="21646" y="13764"/>
                </a:cubicBezTo>
                <a:cubicBezTo>
                  <a:pt x="21605" y="13741"/>
                  <a:pt x="21608" y="13728"/>
                  <a:pt x="21574" y="13716"/>
                </a:cubicBezTo>
                <a:cubicBezTo>
                  <a:pt x="21543" y="13705"/>
                  <a:pt x="21509" y="13700"/>
                  <a:pt x="21479" y="13692"/>
                </a:cubicBezTo>
                <a:cubicBezTo>
                  <a:pt x="21471" y="13692"/>
                  <a:pt x="21463" y="13692"/>
                  <a:pt x="2145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5665680" y="4097160"/>
            <a:ext cx="1501920" cy="874800"/>
          </a:xfrm>
          <a:custGeom>
            <a:avLst/>
            <a:gdLst/>
            <a:ahLst/>
            <a:rect l="l" t="t" r="r" b="b"/>
            <a:pathLst>
              <a:path w="4168" h="2430">
                <a:moveTo>
                  <a:pt x="15740" y="11406"/>
                </a:moveTo>
                <a:cubicBezTo>
                  <a:pt x="15783" y="11418"/>
                  <a:pt x="15793" y="11415"/>
                  <a:pt x="15835" y="11430"/>
                </a:cubicBezTo>
                <a:cubicBezTo>
                  <a:pt x="15953" y="11472"/>
                  <a:pt x="16074" y="11489"/>
                  <a:pt x="16193" y="11525"/>
                </a:cubicBezTo>
                <a:cubicBezTo>
                  <a:pt x="16402" y="11588"/>
                  <a:pt x="16611" y="11657"/>
                  <a:pt x="16812" y="11740"/>
                </a:cubicBezTo>
                <a:cubicBezTo>
                  <a:pt x="17054" y="11840"/>
                  <a:pt x="17282" y="11959"/>
                  <a:pt x="17502" y="12097"/>
                </a:cubicBezTo>
                <a:cubicBezTo>
                  <a:pt x="17740" y="12247"/>
                  <a:pt x="17973" y="12398"/>
                  <a:pt x="18193" y="12573"/>
                </a:cubicBezTo>
                <a:cubicBezTo>
                  <a:pt x="18330" y="12682"/>
                  <a:pt x="18456" y="12805"/>
                  <a:pt x="18598" y="12906"/>
                </a:cubicBezTo>
                <a:cubicBezTo>
                  <a:pt x="18660" y="12950"/>
                  <a:pt x="18752" y="13073"/>
                  <a:pt x="18788" y="13097"/>
                </a:cubicBezTo>
                <a:cubicBezTo>
                  <a:pt x="18843" y="13133"/>
                  <a:pt x="18986" y="13165"/>
                  <a:pt x="19050" y="13192"/>
                </a:cubicBezTo>
                <a:cubicBezTo>
                  <a:pt x="19156" y="13237"/>
                  <a:pt x="19282" y="13280"/>
                  <a:pt x="19383" y="13335"/>
                </a:cubicBezTo>
                <a:cubicBezTo>
                  <a:pt x="19456" y="13375"/>
                  <a:pt x="19525" y="13436"/>
                  <a:pt x="19598" y="13478"/>
                </a:cubicBezTo>
                <a:cubicBezTo>
                  <a:pt x="19664" y="13515"/>
                  <a:pt x="19730" y="13549"/>
                  <a:pt x="19788" y="13597"/>
                </a:cubicBezTo>
                <a:cubicBezTo>
                  <a:pt x="19836" y="13637"/>
                  <a:pt x="19873" y="13701"/>
                  <a:pt x="19907" y="13740"/>
                </a:cubicBezTo>
                <a:cubicBezTo>
                  <a:pt x="19886" y="13697"/>
                  <a:pt x="19867" y="13614"/>
                  <a:pt x="19836" y="13573"/>
                </a:cubicBezTo>
                <a:cubicBezTo>
                  <a:pt x="19710" y="13406"/>
                  <a:pt x="19521" y="13273"/>
                  <a:pt x="19407" y="13097"/>
                </a:cubicBezTo>
                <a:cubicBezTo>
                  <a:pt x="19353" y="13014"/>
                  <a:pt x="19310" y="12922"/>
                  <a:pt x="19264" y="12835"/>
                </a:cubicBezTo>
                <a:cubicBezTo>
                  <a:pt x="19237" y="12785"/>
                  <a:pt x="19239" y="12736"/>
                  <a:pt x="19217" y="12692"/>
                </a:cubicBezTo>
                <a:cubicBezTo>
                  <a:pt x="19202" y="12661"/>
                  <a:pt x="19193" y="12647"/>
                  <a:pt x="19169" y="12621"/>
                </a:cubicBezTo>
                <a:cubicBezTo>
                  <a:pt x="19161" y="12621"/>
                  <a:pt x="19153" y="12621"/>
                  <a:pt x="19145" y="12621"/>
                </a:cubicBezTo>
                <a:cubicBezTo>
                  <a:pt x="19154" y="12657"/>
                  <a:pt x="19160" y="12682"/>
                  <a:pt x="19169" y="12716"/>
                </a:cubicBezTo>
                <a:cubicBezTo>
                  <a:pt x="19181" y="12763"/>
                  <a:pt x="19192" y="12797"/>
                  <a:pt x="19217" y="12835"/>
                </a:cubicBezTo>
                <a:cubicBezTo>
                  <a:pt x="19247" y="12881"/>
                  <a:pt x="19285" y="12940"/>
                  <a:pt x="19312" y="12978"/>
                </a:cubicBezTo>
                <a:cubicBezTo>
                  <a:pt x="19349" y="13030"/>
                  <a:pt x="19402" y="13078"/>
                  <a:pt x="19431" y="13121"/>
                </a:cubicBezTo>
                <a:cubicBezTo>
                  <a:pt x="19456" y="13158"/>
                  <a:pt x="19456" y="13193"/>
                  <a:pt x="19502" y="13240"/>
                </a:cubicBezTo>
                <a:cubicBezTo>
                  <a:pt x="19518" y="13256"/>
                  <a:pt x="19546" y="13282"/>
                  <a:pt x="19574" y="13311"/>
                </a:cubicBezTo>
                <a:cubicBezTo>
                  <a:pt x="19596" y="13333"/>
                  <a:pt x="19635" y="13376"/>
                  <a:pt x="19669" y="13406"/>
                </a:cubicBezTo>
                <a:cubicBezTo>
                  <a:pt x="19714" y="13446"/>
                  <a:pt x="19772" y="13495"/>
                  <a:pt x="19788" y="13549"/>
                </a:cubicBezTo>
                <a:cubicBezTo>
                  <a:pt x="19801" y="13592"/>
                  <a:pt x="19782" y="13648"/>
                  <a:pt x="19788" y="13692"/>
                </a:cubicBezTo>
                <a:cubicBezTo>
                  <a:pt x="19761" y="13681"/>
                  <a:pt x="19737" y="13650"/>
                  <a:pt x="19717" y="13645"/>
                </a:cubicBezTo>
                <a:cubicBezTo>
                  <a:pt x="19612" y="13622"/>
                  <a:pt x="19490" y="13623"/>
                  <a:pt x="19383" y="13621"/>
                </a:cubicBezTo>
                <a:cubicBezTo>
                  <a:pt x="19235" y="13618"/>
                  <a:pt x="19071" y="13602"/>
                  <a:pt x="18931" y="13645"/>
                </a:cubicBezTo>
                <a:cubicBezTo>
                  <a:pt x="18849" y="13670"/>
                  <a:pt x="18852" y="13681"/>
                  <a:pt x="18788" y="13716"/>
                </a:cubicBezTo>
                <a:cubicBezTo>
                  <a:pt x="18758" y="13732"/>
                  <a:pt x="18733" y="13752"/>
                  <a:pt x="18717" y="13764"/>
                </a:cubicBezTo>
                <a:cubicBezTo>
                  <a:pt x="18645" y="13818"/>
                  <a:pt x="18714" y="13762"/>
                  <a:pt x="1866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2"/>
          <p:cNvSpPr/>
          <p:nvPr/>
        </p:nvSpPr>
        <p:spPr>
          <a:xfrm>
            <a:off x="136440" y="25560"/>
            <a:ext cx="4845240" cy="1784160"/>
          </a:xfrm>
          <a:custGeom>
            <a:avLst/>
            <a:gdLst/>
            <a:ahLst/>
            <a:rect l="l" t="t" r="r" b="b"/>
            <a:pathLst>
              <a:path w="13455" h="4954">
                <a:moveTo>
                  <a:pt x="11644" y="1262"/>
                </a:moveTo>
                <a:cubicBezTo>
                  <a:pt x="11538" y="1187"/>
                  <a:pt x="11434" y="1073"/>
                  <a:pt x="11311" y="1000"/>
                </a:cubicBezTo>
                <a:cubicBezTo>
                  <a:pt x="10932" y="774"/>
                  <a:pt x="10579" y="680"/>
                  <a:pt x="10168" y="548"/>
                </a:cubicBezTo>
                <a:cubicBezTo>
                  <a:pt x="10121" y="533"/>
                  <a:pt x="9995" y="457"/>
                  <a:pt x="9977" y="452"/>
                </a:cubicBezTo>
                <a:cubicBezTo>
                  <a:pt x="9813" y="408"/>
                  <a:pt x="9621" y="396"/>
                  <a:pt x="9454" y="357"/>
                </a:cubicBezTo>
                <a:cubicBezTo>
                  <a:pt x="8641" y="168"/>
                  <a:pt x="7857" y="71"/>
                  <a:pt x="7025" y="71"/>
                </a:cubicBezTo>
                <a:cubicBezTo>
                  <a:pt x="6715" y="71"/>
                  <a:pt x="6405" y="81"/>
                  <a:pt x="6096" y="95"/>
                </a:cubicBezTo>
                <a:cubicBezTo>
                  <a:pt x="5579" y="119"/>
                  <a:pt x="5063" y="179"/>
                  <a:pt x="4548" y="214"/>
                </a:cubicBezTo>
                <a:cubicBezTo>
                  <a:pt x="3789" y="265"/>
                  <a:pt x="3077" y="421"/>
                  <a:pt x="2334" y="572"/>
                </a:cubicBezTo>
                <a:cubicBezTo>
                  <a:pt x="2092" y="621"/>
                  <a:pt x="1905" y="670"/>
                  <a:pt x="1691" y="833"/>
                </a:cubicBezTo>
                <a:cubicBezTo>
                  <a:pt x="1246" y="1171"/>
                  <a:pt x="566" y="1915"/>
                  <a:pt x="405" y="2477"/>
                </a:cubicBezTo>
                <a:cubicBezTo>
                  <a:pt x="359" y="2637"/>
                  <a:pt x="471" y="2777"/>
                  <a:pt x="524" y="2929"/>
                </a:cubicBezTo>
                <a:cubicBezTo>
                  <a:pt x="652" y="3294"/>
                  <a:pt x="830" y="3602"/>
                  <a:pt x="1072" y="3905"/>
                </a:cubicBezTo>
                <a:cubicBezTo>
                  <a:pt x="1254" y="4133"/>
                  <a:pt x="1339" y="4211"/>
                  <a:pt x="1572" y="4334"/>
                </a:cubicBezTo>
                <a:cubicBezTo>
                  <a:pt x="2145" y="4638"/>
                  <a:pt x="2969" y="4786"/>
                  <a:pt x="3596" y="4858"/>
                </a:cubicBezTo>
                <a:cubicBezTo>
                  <a:pt x="4286" y="4937"/>
                  <a:pt x="4999" y="4873"/>
                  <a:pt x="5691" y="4929"/>
                </a:cubicBezTo>
                <a:cubicBezTo>
                  <a:pt x="6473" y="4992"/>
                  <a:pt x="7223" y="5059"/>
                  <a:pt x="8001" y="4977"/>
                </a:cubicBezTo>
                <a:cubicBezTo>
                  <a:pt x="8831" y="4890"/>
                  <a:pt x="9648" y="4844"/>
                  <a:pt x="10478" y="4786"/>
                </a:cubicBezTo>
                <a:cubicBezTo>
                  <a:pt x="11183" y="4737"/>
                  <a:pt x="11543" y="4716"/>
                  <a:pt x="12144" y="4453"/>
                </a:cubicBezTo>
                <a:cubicBezTo>
                  <a:pt x="12986" y="4057"/>
                  <a:pt x="13287" y="3913"/>
                  <a:pt x="13835" y="3596"/>
                </a:cubicBezTo>
                <a:cubicBezTo>
                  <a:pt x="13706" y="3442"/>
                  <a:pt x="13571" y="3295"/>
                  <a:pt x="13454" y="3119"/>
                </a:cubicBezTo>
                <a:cubicBezTo>
                  <a:pt x="13252" y="2815"/>
                  <a:pt x="13206" y="2576"/>
                  <a:pt x="13097" y="2238"/>
                </a:cubicBezTo>
                <a:cubicBezTo>
                  <a:pt x="12983" y="1887"/>
                  <a:pt x="13058" y="2057"/>
                  <a:pt x="12764" y="1857"/>
                </a:cubicBezTo>
                <a:cubicBezTo>
                  <a:pt x="12619" y="1758"/>
                  <a:pt x="12476" y="1712"/>
                  <a:pt x="12335" y="1595"/>
                </a:cubicBezTo>
                <a:cubicBezTo>
                  <a:pt x="12242" y="1518"/>
                  <a:pt x="12254" y="1480"/>
                  <a:pt x="12144" y="1405"/>
                </a:cubicBezTo>
                <a:cubicBezTo>
                  <a:pt x="12109" y="1381"/>
                  <a:pt x="12023" y="1382"/>
                  <a:pt x="11978" y="1357"/>
                </a:cubicBezTo>
                <a:cubicBezTo>
                  <a:pt x="11967" y="1351"/>
                  <a:pt x="11934" y="1300"/>
                  <a:pt x="11906" y="1286"/>
                </a:cubicBezTo>
                <a:cubicBezTo>
                  <a:pt x="11874" y="1270"/>
                  <a:pt x="11866" y="1255"/>
                  <a:pt x="11835" y="1238"/>
                </a:cubicBezTo>
                <a:cubicBezTo>
                  <a:pt x="11784" y="1209"/>
                  <a:pt x="11699" y="1223"/>
                  <a:pt x="11644" y="1191"/>
                </a:cubicBezTo>
                <a:cubicBezTo>
                  <a:pt x="11644" y="1164"/>
                  <a:pt x="11642" y="1154"/>
                  <a:pt x="11621" y="1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3"/>
          <p:cNvSpPr/>
          <p:nvPr/>
        </p:nvSpPr>
        <p:spPr>
          <a:xfrm>
            <a:off x="3763800" y="1911240"/>
            <a:ext cx="360360" cy="574920"/>
          </a:xfrm>
          <a:custGeom>
            <a:avLst/>
            <a:gdLst/>
            <a:ahLst/>
            <a:rect l="l" t="t" r="r" b="b"/>
            <a:pathLst>
              <a:path w="1001" h="1597">
                <a:moveTo>
                  <a:pt x="11454" y="6882"/>
                </a:moveTo>
                <a:cubicBezTo>
                  <a:pt x="11450" y="6879"/>
                  <a:pt x="11330" y="6749"/>
                  <a:pt x="11287" y="6691"/>
                </a:cubicBezTo>
                <a:cubicBezTo>
                  <a:pt x="11191" y="6562"/>
                  <a:pt x="11128" y="6424"/>
                  <a:pt x="11049" y="6287"/>
                </a:cubicBezTo>
                <a:cubicBezTo>
                  <a:pt x="10972" y="6154"/>
                  <a:pt x="10862" y="6033"/>
                  <a:pt x="10787" y="5906"/>
                </a:cubicBezTo>
                <a:cubicBezTo>
                  <a:pt x="10744" y="5833"/>
                  <a:pt x="10722" y="5735"/>
                  <a:pt x="10668" y="5667"/>
                </a:cubicBezTo>
                <a:cubicBezTo>
                  <a:pt x="10619" y="5605"/>
                  <a:pt x="10583" y="5531"/>
                  <a:pt x="10549" y="5453"/>
                </a:cubicBezTo>
                <a:cubicBezTo>
                  <a:pt x="10526" y="5401"/>
                  <a:pt x="10522" y="5363"/>
                  <a:pt x="10478" y="5334"/>
                </a:cubicBezTo>
                <a:cubicBezTo>
                  <a:pt x="10470" y="5334"/>
                  <a:pt x="10462" y="5334"/>
                  <a:pt x="10454" y="5334"/>
                </a:cubicBezTo>
                <a:cubicBezTo>
                  <a:pt x="10454" y="5496"/>
                  <a:pt x="10430" y="5690"/>
                  <a:pt x="10478" y="5834"/>
                </a:cubicBezTo>
                <a:cubicBezTo>
                  <a:pt x="10478" y="5794"/>
                  <a:pt x="10478" y="5803"/>
                  <a:pt x="10478" y="5763"/>
                </a:cubicBezTo>
                <a:cubicBezTo>
                  <a:pt x="10478" y="5620"/>
                  <a:pt x="10478" y="5477"/>
                  <a:pt x="10478" y="5334"/>
                </a:cubicBezTo>
                <a:cubicBezTo>
                  <a:pt x="10500" y="5357"/>
                  <a:pt x="10474" y="5341"/>
                  <a:pt x="10501" y="5358"/>
                </a:cubicBezTo>
                <a:cubicBezTo>
                  <a:pt x="10539" y="5382"/>
                  <a:pt x="10582" y="5375"/>
                  <a:pt x="10620" y="5405"/>
                </a:cubicBezTo>
                <a:cubicBezTo>
                  <a:pt x="10673" y="5446"/>
                  <a:pt x="10709" y="5489"/>
                  <a:pt x="10763" y="5525"/>
                </a:cubicBezTo>
                <a:cubicBezTo>
                  <a:pt x="10823" y="5566"/>
                  <a:pt x="10909" y="5583"/>
                  <a:pt x="10978" y="5620"/>
                </a:cubicBezTo>
                <a:cubicBezTo>
                  <a:pt x="11040" y="5653"/>
                  <a:pt x="11087" y="5688"/>
                  <a:pt x="11144" y="5715"/>
                </a:cubicBezTo>
                <a:cubicBezTo>
                  <a:pt x="11195" y="5739"/>
                  <a:pt x="11222" y="5771"/>
                  <a:pt x="11263" y="5786"/>
                </a:cubicBezTo>
                <a:cubicBezTo>
                  <a:pt x="11287" y="5786"/>
                  <a:pt x="11295" y="5786"/>
                  <a:pt x="11311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56:04Z</dcterms:created>
  <dc:creator>Админ</dc:creator>
  <dc:description/>
  <dc:language>en-US</dc:language>
  <cp:lastModifiedBy>Админ</cp:lastModifiedBy>
  <dcterms:modified xsi:type="dcterms:W3CDTF">2018-03-18T03:12:34Z</dcterms:modified>
  <cp:revision>3</cp:revision>
  <dc:subject/>
  <dc:title>Стендовая защита…?</dc:title>
</cp:coreProperties>
</file>