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6FC-A344-47E1-AB60-BFCA46B2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1F1-F0A7-4208-9AC2-334E9DDC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B29-6F94-4814-8383-AE367974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819F-A2F8-4FBB-922F-3F6087D4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1FE-958D-47B6-9080-C68A9CFE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6E3-2CB2-4A42-B449-8D3C033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5BC-87DB-45EB-A03C-FD081EC4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50D-B0A1-43D7-80D2-1FB72EE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928-3F59-4E73-8421-11A0A92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37E-5762-4DE6-A91B-F8F8CCF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5E3-92AB-4498-94F9-36C683D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941-DAFB-419A-8146-93DF43BA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CC6D-7BB7-447C-BD5D-34326EC8E9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…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Внешний в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1557360"/>
          <a:ext cx="4248000" cy="5059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5386320" y="1349280"/>
            <a:ext cx="357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листов А4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е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атной сторо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тч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ма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не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2"/>
          <p:cNvSpPr/>
          <p:nvPr/>
        </p:nvSpPr>
        <p:spPr>
          <a:xfrm>
            <a:off x="720720" y="1893960"/>
            <a:ext cx="4243320" cy="77760"/>
          </a:xfrm>
          <a:custGeom>
            <a:avLst/>
            <a:gdLst/>
            <a:ahLst/>
            <a:rect l="l" t="t" r="r" b="b"/>
            <a:pathLst>
              <a:path w="11788" h="215">
                <a:moveTo>
                  <a:pt x="2000" y="5477"/>
                </a:moveTo>
                <a:cubicBezTo>
                  <a:pt x="2235" y="5477"/>
                  <a:pt x="2520" y="5474"/>
                  <a:pt x="2715" y="5453"/>
                </a:cubicBezTo>
                <a:cubicBezTo>
                  <a:pt x="2820" y="5442"/>
                  <a:pt x="2920" y="5435"/>
                  <a:pt x="3024" y="5429"/>
                </a:cubicBezTo>
                <a:cubicBezTo>
                  <a:pt x="3185" y="5420"/>
                  <a:pt x="3357" y="5393"/>
                  <a:pt x="3500" y="5382"/>
                </a:cubicBezTo>
                <a:cubicBezTo>
                  <a:pt x="3645" y="5370"/>
                  <a:pt x="3844" y="5392"/>
                  <a:pt x="3953" y="5405"/>
                </a:cubicBezTo>
                <a:cubicBezTo>
                  <a:pt x="4019" y="5413"/>
                  <a:pt x="3986" y="5424"/>
                  <a:pt x="4048" y="5429"/>
                </a:cubicBezTo>
                <a:cubicBezTo>
                  <a:pt x="4363" y="5455"/>
                  <a:pt x="4865" y="5507"/>
                  <a:pt x="5144" y="5477"/>
                </a:cubicBezTo>
                <a:cubicBezTo>
                  <a:pt x="5197" y="5471"/>
                  <a:pt x="5236" y="5437"/>
                  <a:pt x="5286" y="5429"/>
                </a:cubicBezTo>
                <a:cubicBezTo>
                  <a:pt x="5451" y="5404"/>
                  <a:pt x="5596" y="5394"/>
                  <a:pt x="5763" y="5382"/>
                </a:cubicBezTo>
                <a:cubicBezTo>
                  <a:pt x="6083" y="5360"/>
                  <a:pt x="6411" y="5370"/>
                  <a:pt x="6715" y="5382"/>
                </a:cubicBezTo>
                <a:cubicBezTo>
                  <a:pt x="6908" y="5390"/>
                  <a:pt x="7073" y="5343"/>
                  <a:pt x="7263" y="5334"/>
                </a:cubicBezTo>
                <a:cubicBezTo>
                  <a:pt x="7690" y="5313"/>
                  <a:pt x="8123" y="5315"/>
                  <a:pt x="8549" y="5310"/>
                </a:cubicBezTo>
                <a:cubicBezTo>
                  <a:pt x="8700" y="5308"/>
                  <a:pt x="8836" y="5274"/>
                  <a:pt x="8977" y="5263"/>
                </a:cubicBezTo>
                <a:cubicBezTo>
                  <a:pt x="9307" y="5238"/>
                  <a:pt x="9587" y="5328"/>
                  <a:pt x="9906" y="5358"/>
                </a:cubicBezTo>
                <a:cubicBezTo>
                  <a:pt x="10619" y="5425"/>
                  <a:pt x="11406" y="5405"/>
                  <a:pt x="12121" y="5405"/>
                </a:cubicBezTo>
                <a:cubicBezTo>
                  <a:pt x="12604" y="5405"/>
                  <a:pt x="13151" y="5410"/>
                  <a:pt x="13597" y="5429"/>
                </a:cubicBezTo>
                <a:cubicBezTo>
                  <a:pt x="13660" y="5432"/>
                  <a:pt x="13724" y="5427"/>
                  <a:pt x="13787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3"/>
          <p:cNvSpPr/>
          <p:nvPr/>
        </p:nvSpPr>
        <p:spPr>
          <a:xfrm>
            <a:off x="763560" y="3043080"/>
            <a:ext cx="4233960" cy="138240"/>
          </a:xfrm>
          <a:custGeom>
            <a:avLst/>
            <a:gdLst/>
            <a:ahLst/>
            <a:rect l="l" t="t" r="r" b="b"/>
            <a:pathLst>
              <a:path w="11765" h="382">
                <a:moveTo>
                  <a:pt x="2119" y="8644"/>
                </a:moveTo>
                <a:cubicBezTo>
                  <a:pt x="2132" y="8638"/>
                  <a:pt x="2177" y="8587"/>
                  <a:pt x="2215" y="8573"/>
                </a:cubicBezTo>
                <a:cubicBezTo>
                  <a:pt x="2273" y="8552"/>
                  <a:pt x="2344" y="8543"/>
                  <a:pt x="2405" y="8525"/>
                </a:cubicBezTo>
                <a:cubicBezTo>
                  <a:pt x="2468" y="8506"/>
                  <a:pt x="2511" y="8489"/>
                  <a:pt x="2572" y="8477"/>
                </a:cubicBezTo>
                <a:cubicBezTo>
                  <a:pt x="2797" y="8434"/>
                  <a:pt x="3070" y="8440"/>
                  <a:pt x="3286" y="8477"/>
                </a:cubicBezTo>
                <a:cubicBezTo>
                  <a:pt x="3332" y="8485"/>
                  <a:pt x="3365" y="8495"/>
                  <a:pt x="3405" y="8501"/>
                </a:cubicBezTo>
                <a:cubicBezTo>
                  <a:pt x="3473" y="8512"/>
                  <a:pt x="3600" y="8524"/>
                  <a:pt x="3620" y="8525"/>
                </a:cubicBezTo>
                <a:cubicBezTo>
                  <a:pt x="4017" y="8550"/>
                  <a:pt x="4423" y="8544"/>
                  <a:pt x="4810" y="8549"/>
                </a:cubicBezTo>
                <a:cubicBezTo>
                  <a:pt x="4966" y="8551"/>
                  <a:pt x="5113" y="8567"/>
                  <a:pt x="5263" y="8573"/>
                </a:cubicBezTo>
                <a:cubicBezTo>
                  <a:pt x="5337" y="8576"/>
                  <a:pt x="5420" y="8551"/>
                  <a:pt x="5477" y="8549"/>
                </a:cubicBezTo>
                <a:cubicBezTo>
                  <a:pt x="5673" y="8544"/>
                  <a:pt x="5855" y="8570"/>
                  <a:pt x="6048" y="8573"/>
                </a:cubicBezTo>
                <a:cubicBezTo>
                  <a:pt x="6703" y="8582"/>
                  <a:pt x="7348" y="8596"/>
                  <a:pt x="8001" y="8596"/>
                </a:cubicBezTo>
                <a:cubicBezTo>
                  <a:pt x="8078" y="8596"/>
                  <a:pt x="8115" y="8562"/>
                  <a:pt x="8168" y="8596"/>
                </a:cubicBezTo>
                <a:cubicBezTo>
                  <a:pt x="8174" y="8600"/>
                  <a:pt x="8181" y="8683"/>
                  <a:pt x="8192" y="8692"/>
                </a:cubicBezTo>
                <a:cubicBezTo>
                  <a:pt x="8212" y="8708"/>
                  <a:pt x="8233" y="8733"/>
                  <a:pt x="8263" y="8763"/>
                </a:cubicBezTo>
                <a:cubicBezTo>
                  <a:pt x="8296" y="8796"/>
                  <a:pt x="8305" y="8802"/>
                  <a:pt x="8334" y="8834"/>
                </a:cubicBezTo>
                <a:cubicBezTo>
                  <a:pt x="8383" y="8810"/>
                  <a:pt x="8459" y="8772"/>
                  <a:pt x="8525" y="8739"/>
                </a:cubicBezTo>
                <a:cubicBezTo>
                  <a:pt x="8615" y="8694"/>
                  <a:pt x="8692" y="8654"/>
                  <a:pt x="8787" y="8620"/>
                </a:cubicBezTo>
                <a:cubicBezTo>
                  <a:pt x="8809" y="8612"/>
                  <a:pt x="8885" y="8575"/>
                  <a:pt x="8906" y="8573"/>
                </a:cubicBezTo>
                <a:cubicBezTo>
                  <a:pt x="9027" y="8560"/>
                  <a:pt x="9141" y="8593"/>
                  <a:pt x="9263" y="8596"/>
                </a:cubicBezTo>
                <a:cubicBezTo>
                  <a:pt x="9496" y="8602"/>
                  <a:pt x="9724" y="8617"/>
                  <a:pt x="9954" y="8620"/>
                </a:cubicBezTo>
                <a:cubicBezTo>
                  <a:pt x="10172" y="8623"/>
                  <a:pt x="10385" y="8604"/>
                  <a:pt x="10597" y="8596"/>
                </a:cubicBezTo>
                <a:cubicBezTo>
                  <a:pt x="11209" y="8574"/>
                  <a:pt x="11809" y="8641"/>
                  <a:pt x="12383" y="8715"/>
                </a:cubicBezTo>
                <a:cubicBezTo>
                  <a:pt x="12870" y="8778"/>
                  <a:pt x="13389" y="8715"/>
                  <a:pt x="13883" y="871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4"/>
          <p:cNvSpPr/>
          <p:nvPr/>
        </p:nvSpPr>
        <p:spPr>
          <a:xfrm>
            <a:off x="2836800" y="3060720"/>
            <a:ext cx="412920" cy="7920"/>
          </a:xfrm>
          <a:custGeom>
            <a:avLst/>
            <a:gdLst/>
            <a:ahLst/>
            <a:rect l="l" t="t" r="r" b="b"/>
            <a:pathLst>
              <a:path w="1144" h="25">
                <a:moveTo>
                  <a:pt x="7882" y="8525"/>
                </a:moveTo>
                <a:cubicBezTo>
                  <a:pt x="7925" y="8514"/>
                  <a:pt x="7949" y="8501"/>
                  <a:pt x="8001" y="8501"/>
                </a:cubicBezTo>
                <a:cubicBezTo>
                  <a:pt x="8184" y="8501"/>
                  <a:pt x="8382" y="8491"/>
                  <a:pt x="8549" y="8525"/>
                </a:cubicBezTo>
                <a:cubicBezTo>
                  <a:pt x="8693" y="8554"/>
                  <a:pt x="8877" y="8525"/>
                  <a:pt x="9025" y="852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5"/>
          <p:cNvSpPr/>
          <p:nvPr/>
        </p:nvSpPr>
        <p:spPr>
          <a:xfrm>
            <a:off x="789120" y="4192560"/>
            <a:ext cx="4192560" cy="68400"/>
          </a:xfrm>
          <a:custGeom>
            <a:avLst/>
            <a:gdLst/>
            <a:ahLst/>
            <a:rect l="l" t="t" r="r" b="b"/>
            <a:pathLst>
              <a:path w="11645" h="192">
                <a:moveTo>
                  <a:pt x="2191" y="11835"/>
                </a:moveTo>
                <a:cubicBezTo>
                  <a:pt x="2251" y="11817"/>
                  <a:pt x="2219" y="11800"/>
                  <a:pt x="2286" y="11787"/>
                </a:cubicBezTo>
                <a:cubicBezTo>
                  <a:pt x="2347" y="11775"/>
                  <a:pt x="2389" y="11767"/>
                  <a:pt x="2453" y="11763"/>
                </a:cubicBezTo>
                <a:cubicBezTo>
                  <a:pt x="2563" y="11755"/>
                  <a:pt x="2707" y="11722"/>
                  <a:pt x="2810" y="11740"/>
                </a:cubicBezTo>
                <a:cubicBezTo>
                  <a:pt x="2856" y="11748"/>
                  <a:pt x="2912" y="11758"/>
                  <a:pt x="2929" y="11763"/>
                </a:cubicBezTo>
                <a:cubicBezTo>
                  <a:pt x="2945" y="11779"/>
                  <a:pt x="2961" y="11795"/>
                  <a:pt x="2977" y="11811"/>
                </a:cubicBezTo>
                <a:cubicBezTo>
                  <a:pt x="2999" y="11802"/>
                  <a:pt x="2965" y="11773"/>
                  <a:pt x="3024" y="11763"/>
                </a:cubicBezTo>
                <a:cubicBezTo>
                  <a:pt x="3071" y="11755"/>
                  <a:pt x="3091" y="11743"/>
                  <a:pt x="3119" y="11740"/>
                </a:cubicBezTo>
                <a:cubicBezTo>
                  <a:pt x="3461" y="11702"/>
                  <a:pt x="3811" y="11759"/>
                  <a:pt x="4143" y="11763"/>
                </a:cubicBezTo>
                <a:cubicBezTo>
                  <a:pt x="4369" y="11766"/>
                  <a:pt x="4645" y="11748"/>
                  <a:pt x="4834" y="11740"/>
                </a:cubicBezTo>
                <a:cubicBezTo>
                  <a:pt x="4910" y="11737"/>
                  <a:pt x="4863" y="11743"/>
                  <a:pt x="4929" y="11740"/>
                </a:cubicBezTo>
                <a:cubicBezTo>
                  <a:pt x="5336" y="11724"/>
                  <a:pt x="5773" y="11697"/>
                  <a:pt x="6167" y="11692"/>
                </a:cubicBezTo>
                <a:cubicBezTo>
                  <a:pt x="6226" y="11691"/>
                  <a:pt x="6255" y="11717"/>
                  <a:pt x="6310" y="11716"/>
                </a:cubicBezTo>
                <a:cubicBezTo>
                  <a:pt x="6519" y="11713"/>
                  <a:pt x="6723" y="11714"/>
                  <a:pt x="6929" y="11692"/>
                </a:cubicBezTo>
                <a:cubicBezTo>
                  <a:pt x="7019" y="11683"/>
                  <a:pt x="7099" y="11672"/>
                  <a:pt x="7191" y="11668"/>
                </a:cubicBezTo>
                <a:cubicBezTo>
                  <a:pt x="7475" y="11657"/>
                  <a:pt x="7782" y="11681"/>
                  <a:pt x="8049" y="11692"/>
                </a:cubicBezTo>
                <a:cubicBezTo>
                  <a:pt x="8318" y="11703"/>
                  <a:pt x="8603" y="11706"/>
                  <a:pt x="8858" y="11716"/>
                </a:cubicBezTo>
                <a:cubicBezTo>
                  <a:pt x="9208" y="11729"/>
                  <a:pt x="9562" y="11704"/>
                  <a:pt x="9906" y="11692"/>
                </a:cubicBezTo>
                <a:cubicBezTo>
                  <a:pt x="10194" y="11682"/>
                  <a:pt x="10480" y="11705"/>
                  <a:pt x="10763" y="11716"/>
                </a:cubicBezTo>
                <a:cubicBezTo>
                  <a:pt x="11060" y="11727"/>
                  <a:pt x="11331" y="11665"/>
                  <a:pt x="11621" y="11644"/>
                </a:cubicBezTo>
                <a:cubicBezTo>
                  <a:pt x="11940" y="11621"/>
                  <a:pt x="12272" y="11629"/>
                  <a:pt x="12573" y="11716"/>
                </a:cubicBezTo>
                <a:cubicBezTo>
                  <a:pt x="12689" y="11750"/>
                  <a:pt x="12713" y="11769"/>
                  <a:pt x="12835" y="11787"/>
                </a:cubicBezTo>
                <a:cubicBezTo>
                  <a:pt x="13103" y="11826"/>
                  <a:pt x="13407" y="11799"/>
                  <a:pt x="13668" y="11811"/>
                </a:cubicBezTo>
                <a:cubicBezTo>
                  <a:pt x="13724" y="11814"/>
                  <a:pt x="13779" y="11809"/>
                  <a:pt x="13835" y="1181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6"/>
          <p:cNvSpPr/>
          <p:nvPr/>
        </p:nvSpPr>
        <p:spPr>
          <a:xfrm>
            <a:off x="771480" y="5340240"/>
            <a:ext cx="4268880" cy="112680"/>
          </a:xfrm>
          <a:custGeom>
            <a:avLst/>
            <a:gdLst/>
            <a:ahLst/>
            <a:rect l="l" t="t" r="r" b="b"/>
            <a:pathLst>
              <a:path w="11860" h="311">
                <a:moveTo>
                  <a:pt x="2143" y="15145"/>
                </a:moveTo>
                <a:cubicBezTo>
                  <a:pt x="2152" y="15142"/>
                  <a:pt x="2204" y="15130"/>
                  <a:pt x="2238" y="15121"/>
                </a:cubicBezTo>
                <a:cubicBezTo>
                  <a:pt x="2245" y="15119"/>
                  <a:pt x="2297" y="15080"/>
                  <a:pt x="2334" y="15073"/>
                </a:cubicBezTo>
                <a:cubicBezTo>
                  <a:pt x="2385" y="15063"/>
                  <a:pt x="2427" y="15056"/>
                  <a:pt x="2477" y="15050"/>
                </a:cubicBezTo>
                <a:cubicBezTo>
                  <a:pt x="2823" y="15012"/>
                  <a:pt x="3219" y="15040"/>
                  <a:pt x="3548" y="15097"/>
                </a:cubicBezTo>
                <a:cubicBezTo>
                  <a:pt x="3591" y="15105"/>
                  <a:pt x="3611" y="15119"/>
                  <a:pt x="3667" y="15121"/>
                </a:cubicBezTo>
                <a:cubicBezTo>
                  <a:pt x="3754" y="15123"/>
                  <a:pt x="3823" y="15099"/>
                  <a:pt x="3905" y="15097"/>
                </a:cubicBezTo>
                <a:cubicBezTo>
                  <a:pt x="4289" y="15086"/>
                  <a:pt x="4667" y="15116"/>
                  <a:pt x="5048" y="15121"/>
                </a:cubicBezTo>
                <a:cubicBezTo>
                  <a:pt x="5860" y="15132"/>
                  <a:pt x="6666" y="15121"/>
                  <a:pt x="7453" y="15121"/>
                </a:cubicBezTo>
                <a:cubicBezTo>
                  <a:pt x="7549" y="15121"/>
                  <a:pt x="7629" y="15107"/>
                  <a:pt x="7715" y="15097"/>
                </a:cubicBezTo>
                <a:cubicBezTo>
                  <a:pt x="7784" y="15089"/>
                  <a:pt x="7814" y="15081"/>
                  <a:pt x="7882" y="15073"/>
                </a:cubicBezTo>
                <a:cubicBezTo>
                  <a:pt x="7932" y="15067"/>
                  <a:pt x="7973" y="15054"/>
                  <a:pt x="8025" y="15050"/>
                </a:cubicBezTo>
                <a:cubicBezTo>
                  <a:pt x="8233" y="15036"/>
                  <a:pt x="8474" y="15005"/>
                  <a:pt x="8668" y="15002"/>
                </a:cubicBezTo>
                <a:cubicBezTo>
                  <a:pt x="8706" y="15001"/>
                  <a:pt x="8719" y="15027"/>
                  <a:pt x="8763" y="15026"/>
                </a:cubicBezTo>
                <a:cubicBezTo>
                  <a:pt x="9144" y="15021"/>
                  <a:pt x="9548" y="15080"/>
                  <a:pt x="9906" y="15026"/>
                </a:cubicBezTo>
                <a:cubicBezTo>
                  <a:pt x="10005" y="15011"/>
                  <a:pt x="10126" y="14961"/>
                  <a:pt x="10216" y="14954"/>
                </a:cubicBezTo>
                <a:cubicBezTo>
                  <a:pt x="10350" y="14943"/>
                  <a:pt x="10458" y="14976"/>
                  <a:pt x="10573" y="15002"/>
                </a:cubicBezTo>
                <a:cubicBezTo>
                  <a:pt x="10665" y="15023"/>
                  <a:pt x="10578" y="15058"/>
                  <a:pt x="10692" y="15050"/>
                </a:cubicBezTo>
                <a:cubicBezTo>
                  <a:pt x="10807" y="15042"/>
                  <a:pt x="10917" y="14981"/>
                  <a:pt x="11025" y="14954"/>
                </a:cubicBezTo>
                <a:cubicBezTo>
                  <a:pt x="11120" y="14931"/>
                  <a:pt x="11214" y="14920"/>
                  <a:pt x="11311" y="14907"/>
                </a:cubicBezTo>
                <a:cubicBezTo>
                  <a:pt x="11485" y="14884"/>
                  <a:pt x="11655" y="14883"/>
                  <a:pt x="11835" y="14883"/>
                </a:cubicBezTo>
                <a:cubicBezTo>
                  <a:pt x="11987" y="14883"/>
                  <a:pt x="12199" y="14812"/>
                  <a:pt x="12335" y="14835"/>
                </a:cubicBezTo>
                <a:cubicBezTo>
                  <a:pt x="12377" y="14842"/>
                  <a:pt x="12363" y="14901"/>
                  <a:pt x="12406" y="14907"/>
                </a:cubicBezTo>
                <a:cubicBezTo>
                  <a:pt x="12546" y="14911"/>
                  <a:pt x="12672" y="14925"/>
                  <a:pt x="12811" y="14930"/>
                </a:cubicBezTo>
                <a:cubicBezTo>
                  <a:pt x="12901" y="14933"/>
                  <a:pt x="12997" y="14946"/>
                  <a:pt x="13073" y="14954"/>
                </a:cubicBezTo>
                <a:cubicBezTo>
                  <a:pt x="13107" y="14958"/>
                  <a:pt x="13133" y="14973"/>
                  <a:pt x="13192" y="14978"/>
                </a:cubicBezTo>
                <a:cubicBezTo>
                  <a:pt x="13358" y="14991"/>
                  <a:pt x="13591" y="14988"/>
                  <a:pt x="13716" y="15002"/>
                </a:cubicBezTo>
                <a:cubicBezTo>
                  <a:pt x="13802" y="15012"/>
                  <a:pt x="13873" y="15018"/>
                  <a:pt x="13954" y="15026"/>
                </a:cubicBezTo>
                <a:cubicBezTo>
                  <a:pt x="13978" y="15026"/>
                  <a:pt x="13986" y="15026"/>
                  <a:pt x="14002" y="1502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7"/>
          <p:cNvSpPr/>
          <p:nvPr/>
        </p:nvSpPr>
        <p:spPr>
          <a:xfrm>
            <a:off x="2854440" y="1979640"/>
            <a:ext cx="77760" cy="4587840"/>
          </a:xfrm>
          <a:custGeom>
            <a:avLst/>
            <a:gdLst/>
            <a:ahLst/>
            <a:rect l="l" t="t" r="r" b="b"/>
            <a:pathLst>
              <a:path w="215" h="12740">
                <a:moveTo>
                  <a:pt x="7977" y="5501"/>
                </a:moveTo>
                <a:cubicBezTo>
                  <a:pt x="7977" y="5667"/>
                  <a:pt x="8014" y="5839"/>
                  <a:pt x="8025" y="5977"/>
                </a:cubicBezTo>
                <a:cubicBezTo>
                  <a:pt x="8043" y="6215"/>
                  <a:pt x="8046" y="6455"/>
                  <a:pt x="8049" y="6691"/>
                </a:cubicBezTo>
                <a:cubicBezTo>
                  <a:pt x="8054" y="7102"/>
                  <a:pt x="8140" y="7516"/>
                  <a:pt x="8144" y="7906"/>
                </a:cubicBezTo>
                <a:cubicBezTo>
                  <a:pt x="8145" y="7987"/>
                  <a:pt x="8132" y="8044"/>
                  <a:pt x="8120" y="8120"/>
                </a:cubicBezTo>
                <a:cubicBezTo>
                  <a:pt x="8105" y="8215"/>
                  <a:pt x="8058" y="8305"/>
                  <a:pt x="8049" y="8406"/>
                </a:cubicBezTo>
                <a:cubicBezTo>
                  <a:pt x="7992" y="9043"/>
                  <a:pt x="8025" y="9721"/>
                  <a:pt x="8025" y="10358"/>
                </a:cubicBezTo>
                <a:cubicBezTo>
                  <a:pt x="8025" y="10840"/>
                  <a:pt x="8009" y="11314"/>
                  <a:pt x="7977" y="11787"/>
                </a:cubicBezTo>
                <a:cubicBezTo>
                  <a:pt x="7958" y="12075"/>
                  <a:pt x="7962" y="12383"/>
                  <a:pt x="7953" y="12668"/>
                </a:cubicBezTo>
                <a:cubicBezTo>
                  <a:pt x="7927" y="13457"/>
                  <a:pt x="7962" y="14248"/>
                  <a:pt x="7953" y="15026"/>
                </a:cubicBezTo>
                <a:cubicBezTo>
                  <a:pt x="7944" y="15811"/>
                  <a:pt x="7955" y="16606"/>
                  <a:pt x="7930" y="17383"/>
                </a:cubicBezTo>
                <a:cubicBezTo>
                  <a:pt x="7921" y="17668"/>
                  <a:pt x="7930" y="17955"/>
                  <a:pt x="7930" y="182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nk 8"/>
          <p:cNvSpPr/>
          <p:nvPr/>
        </p:nvSpPr>
        <p:spPr>
          <a:xfrm>
            <a:off x="2889360" y="1979640"/>
            <a:ext cx="68040" cy="4613400"/>
          </a:xfrm>
          <a:custGeom>
            <a:avLst/>
            <a:gdLst/>
            <a:ahLst/>
            <a:rect l="l" t="t" r="r" b="b"/>
            <a:pathLst>
              <a:path w="191" h="12812">
                <a:moveTo>
                  <a:pt x="8072" y="5525"/>
                </a:moveTo>
                <a:cubicBezTo>
                  <a:pt x="8072" y="5565"/>
                  <a:pt x="8072" y="5556"/>
                  <a:pt x="8072" y="5596"/>
                </a:cubicBezTo>
                <a:cubicBezTo>
                  <a:pt x="8072" y="6096"/>
                  <a:pt x="8117" y="6604"/>
                  <a:pt x="8096" y="7096"/>
                </a:cubicBezTo>
                <a:cubicBezTo>
                  <a:pt x="8089" y="7251"/>
                  <a:pt x="8064" y="7410"/>
                  <a:pt x="8072" y="7572"/>
                </a:cubicBezTo>
                <a:cubicBezTo>
                  <a:pt x="8077" y="7677"/>
                  <a:pt x="8113" y="7765"/>
                  <a:pt x="8120" y="7858"/>
                </a:cubicBezTo>
                <a:cubicBezTo>
                  <a:pt x="8145" y="8204"/>
                  <a:pt x="8151" y="8593"/>
                  <a:pt x="8144" y="8930"/>
                </a:cubicBezTo>
                <a:cubicBezTo>
                  <a:pt x="8141" y="9051"/>
                  <a:pt x="8123" y="9166"/>
                  <a:pt x="8120" y="9287"/>
                </a:cubicBezTo>
                <a:cubicBezTo>
                  <a:pt x="8109" y="9725"/>
                  <a:pt x="8152" y="10246"/>
                  <a:pt x="8144" y="10644"/>
                </a:cubicBezTo>
                <a:cubicBezTo>
                  <a:pt x="8141" y="10789"/>
                  <a:pt x="8120" y="10925"/>
                  <a:pt x="8120" y="11073"/>
                </a:cubicBezTo>
                <a:cubicBezTo>
                  <a:pt x="8120" y="11296"/>
                  <a:pt x="8104" y="11526"/>
                  <a:pt x="8096" y="11740"/>
                </a:cubicBezTo>
                <a:cubicBezTo>
                  <a:pt x="8091" y="11881"/>
                  <a:pt x="8077" y="12035"/>
                  <a:pt x="8072" y="12168"/>
                </a:cubicBezTo>
                <a:cubicBezTo>
                  <a:pt x="8060" y="12495"/>
                  <a:pt x="8035" y="12845"/>
                  <a:pt x="8049" y="13168"/>
                </a:cubicBezTo>
                <a:cubicBezTo>
                  <a:pt x="8053" y="13252"/>
                  <a:pt x="8078" y="13352"/>
                  <a:pt x="8072" y="13430"/>
                </a:cubicBezTo>
                <a:cubicBezTo>
                  <a:pt x="8059" y="13608"/>
                  <a:pt x="8029" y="13773"/>
                  <a:pt x="8025" y="13954"/>
                </a:cubicBezTo>
                <a:cubicBezTo>
                  <a:pt x="8018" y="14254"/>
                  <a:pt x="8041" y="14627"/>
                  <a:pt x="8049" y="14883"/>
                </a:cubicBezTo>
                <a:cubicBezTo>
                  <a:pt x="8057" y="15134"/>
                  <a:pt x="8029" y="15357"/>
                  <a:pt x="8120" y="15597"/>
                </a:cubicBezTo>
                <a:cubicBezTo>
                  <a:pt x="8147" y="15668"/>
                  <a:pt x="8215" y="15728"/>
                  <a:pt x="8215" y="15788"/>
                </a:cubicBezTo>
                <a:cubicBezTo>
                  <a:pt x="8215" y="15902"/>
                  <a:pt x="8135" y="16096"/>
                  <a:pt x="8120" y="16216"/>
                </a:cubicBezTo>
                <a:cubicBezTo>
                  <a:pt x="8107" y="16319"/>
                  <a:pt x="8082" y="16426"/>
                  <a:pt x="8072" y="16526"/>
                </a:cubicBezTo>
                <a:cubicBezTo>
                  <a:pt x="8060" y="16647"/>
                  <a:pt x="8054" y="16760"/>
                  <a:pt x="8049" y="16883"/>
                </a:cubicBezTo>
                <a:cubicBezTo>
                  <a:pt x="8039" y="17146"/>
                  <a:pt x="8028" y="17408"/>
                  <a:pt x="8025" y="17669"/>
                </a:cubicBezTo>
                <a:cubicBezTo>
                  <a:pt x="8023" y="17852"/>
                  <a:pt x="8025" y="18192"/>
                  <a:pt x="8025" y="18288"/>
                </a:cubicBezTo>
                <a:cubicBezTo>
                  <a:pt x="8025" y="18280"/>
                  <a:pt x="8025" y="18272"/>
                  <a:pt x="8025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Ink 9"/>
          <p:cNvSpPr/>
          <p:nvPr/>
        </p:nvSpPr>
        <p:spPr>
          <a:xfrm>
            <a:off x="2717640" y="1996920"/>
            <a:ext cx="163800" cy="4578480"/>
          </a:xfrm>
          <a:custGeom>
            <a:avLst/>
            <a:gdLst/>
            <a:ahLst/>
            <a:rect l="l" t="t" r="r" b="b"/>
            <a:pathLst>
              <a:path w="453" h="12717">
                <a:moveTo>
                  <a:pt x="7882" y="5548"/>
                </a:moveTo>
                <a:cubicBezTo>
                  <a:pt x="7882" y="5897"/>
                  <a:pt x="7823" y="6232"/>
                  <a:pt x="7834" y="6572"/>
                </a:cubicBezTo>
                <a:cubicBezTo>
                  <a:pt x="7838" y="6683"/>
                  <a:pt x="7875" y="6787"/>
                  <a:pt x="7882" y="6882"/>
                </a:cubicBezTo>
                <a:cubicBezTo>
                  <a:pt x="7892" y="7016"/>
                  <a:pt x="7879" y="7153"/>
                  <a:pt x="7882" y="7287"/>
                </a:cubicBezTo>
                <a:cubicBezTo>
                  <a:pt x="7882" y="7232"/>
                  <a:pt x="7882" y="7318"/>
                  <a:pt x="7882" y="7263"/>
                </a:cubicBezTo>
                <a:cubicBezTo>
                  <a:pt x="7882" y="7010"/>
                  <a:pt x="7941" y="6809"/>
                  <a:pt x="7977" y="6572"/>
                </a:cubicBezTo>
                <a:cubicBezTo>
                  <a:pt x="7986" y="6510"/>
                  <a:pt x="7966" y="6491"/>
                  <a:pt x="7977" y="6429"/>
                </a:cubicBezTo>
                <a:cubicBezTo>
                  <a:pt x="7973" y="6581"/>
                  <a:pt x="7958" y="6712"/>
                  <a:pt x="7953" y="6858"/>
                </a:cubicBezTo>
                <a:cubicBezTo>
                  <a:pt x="7940" y="7207"/>
                  <a:pt x="7934" y="7560"/>
                  <a:pt x="7930" y="7906"/>
                </a:cubicBezTo>
                <a:cubicBezTo>
                  <a:pt x="7929" y="7969"/>
                  <a:pt x="7930" y="8033"/>
                  <a:pt x="7930" y="8096"/>
                </a:cubicBezTo>
                <a:cubicBezTo>
                  <a:pt x="7930" y="8064"/>
                  <a:pt x="7930" y="8176"/>
                  <a:pt x="7930" y="8144"/>
                </a:cubicBezTo>
                <a:cubicBezTo>
                  <a:pt x="7930" y="7918"/>
                  <a:pt x="7921" y="7667"/>
                  <a:pt x="7906" y="7477"/>
                </a:cubicBezTo>
                <a:cubicBezTo>
                  <a:pt x="7904" y="7454"/>
                  <a:pt x="7909" y="7476"/>
                  <a:pt x="7906" y="7453"/>
                </a:cubicBezTo>
                <a:cubicBezTo>
                  <a:pt x="7906" y="7735"/>
                  <a:pt x="7928" y="8046"/>
                  <a:pt x="7882" y="8311"/>
                </a:cubicBezTo>
                <a:cubicBezTo>
                  <a:pt x="7867" y="8397"/>
                  <a:pt x="7819" y="8482"/>
                  <a:pt x="7811" y="8573"/>
                </a:cubicBezTo>
                <a:cubicBezTo>
                  <a:pt x="7785" y="8867"/>
                  <a:pt x="7825" y="9244"/>
                  <a:pt x="7834" y="9501"/>
                </a:cubicBezTo>
                <a:cubicBezTo>
                  <a:pt x="7847" y="9898"/>
                  <a:pt x="7803" y="10278"/>
                  <a:pt x="7787" y="10668"/>
                </a:cubicBezTo>
                <a:cubicBezTo>
                  <a:pt x="7776" y="10929"/>
                  <a:pt x="7787" y="11193"/>
                  <a:pt x="7787" y="11454"/>
                </a:cubicBezTo>
                <a:cubicBezTo>
                  <a:pt x="7787" y="11454"/>
                  <a:pt x="7803" y="11363"/>
                  <a:pt x="7811" y="11335"/>
                </a:cubicBezTo>
                <a:cubicBezTo>
                  <a:pt x="7868" y="11136"/>
                  <a:pt x="7884" y="10967"/>
                  <a:pt x="7906" y="10763"/>
                </a:cubicBezTo>
                <a:cubicBezTo>
                  <a:pt x="7915" y="10682"/>
                  <a:pt x="7926" y="10607"/>
                  <a:pt x="7930" y="10525"/>
                </a:cubicBezTo>
                <a:cubicBezTo>
                  <a:pt x="7946" y="10157"/>
                  <a:pt x="7949" y="9828"/>
                  <a:pt x="7953" y="9477"/>
                </a:cubicBezTo>
                <a:cubicBezTo>
                  <a:pt x="7954" y="9354"/>
                  <a:pt x="7994" y="9213"/>
                  <a:pt x="8001" y="9120"/>
                </a:cubicBezTo>
                <a:cubicBezTo>
                  <a:pt x="8008" y="9025"/>
                  <a:pt x="7995" y="8977"/>
                  <a:pt x="8001" y="8882"/>
                </a:cubicBezTo>
                <a:cubicBezTo>
                  <a:pt x="7983" y="9128"/>
                  <a:pt x="7977" y="9371"/>
                  <a:pt x="7977" y="9620"/>
                </a:cubicBezTo>
                <a:cubicBezTo>
                  <a:pt x="7977" y="9805"/>
                  <a:pt x="8015" y="10041"/>
                  <a:pt x="8001" y="10216"/>
                </a:cubicBezTo>
                <a:cubicBezTo>
                  <a:pt x="7993" y="10322"/>
                  <a:pt x="7959" y="10415"/>
                  <a:pt x="7953" y="10525"/>
                </a:cubicBezTo>
                <a:cubicBezTo>
                  <a:pt x="7925" y="11025"/>
                  <a:pt x="7941" y="11531"/>
                  <a:pt x="7906" y="12025"/>
                </a:cubicBezTo>
                <a:cubicBezTo>
                  <a:pt x="7879" y="12405"/>
                  <a:pt x="7833" y="12893"/>
                  <a:pt x="7882" y="13264"/>
                </a:cubicBezTo>
                <a:cubicBezTo>
                  <a:pt x="7891" y="13329"/>
                  <a:pt x="7929" y="13422"/>
                  <a:pt x="7930" y="13478"/>
                </a:cubicBezTo>
                <a:cubicBezTo>
                  <a:pt x="7932" y="13683"/>
                  <a:pt x="7908" y="13890"/>
                  <a:pt x="7906" y="14097"/>
                </a:cubicBezTo>
                <a:cubicBezTo>
                  <a:pt x="7903" y="14387"/>
                  <a:pt x="7871" y="14666"/>
                  <a:pt x="7858" y="14954"/>
                </a:cubicBezTo>
                <a:cubicBezTo>
                  <a:pt x="7851" y="15106"/>
                  <a:pt x="7839" y="15259"/>
                  <a:pt x="7834" y="15407"/>
                </a:cubicBezTo>
                <a:cubicBezTo>
                  <a:pt x="7829" y="15571"/>
                  <a:pt x="7861" y="15753"/>
                  <a:pt x="7858" y="15907"/>
                </a:cubicBezTo>
                <a:cubicBezTo>
                  <a:pt x="7856" y="16005"/>
                  <a:pt x="7836" y="16094"/>
                  <a:pt x="7834" y="16193"/>
                </a:cubicBezTo>
                <a:cubicBezTo>
                  <a:pt x="7831" y="16340"/>
                  <a:pt x="7853" y="16516"/>
                  <a:pt x="7858" y="16645"/>
                </a:cubicBezTo>
                <a:cubicBezTo>
                  <a:pt x="7867" y="16909"/>
                  <a:pt x="7858" y="17171"/>
                  <a:pt x="7834" y="17431"/>
                </a:cubicBezTo>
                <a:cubicBezTo>
                  <a:pt x="7825" y="17528"/>
                  <a:pt x="7816" y="17618"/>
                  <a:pt x="7811" y="17717"/>
                </a:cubicBezTo>
                <a:cubicBezTo>
                  <a:pt x="7804" y="17874"/>
                  <a:pt x="7811" y="18166"/>
                  <a:pt x="7811" y="18240"/>
                </a:cubicBezTo>
                <a:cubicBezTo>
                  <a:pt x="7811" y="17971"/>
                  <a:pt x="7900" y="17625"/>
                  <a:pt x="7882" y="17383"/>
                </a:cubicBezTo>
                <a:cubicBezTo>
                  <a:pt x="7877" y="17321"/>
                  <a:pt x="7845" y="17313"/>
                  <a:pt x="7834" y="17240"/>
                </a:cubicBezTo>
                <a:cubicBezTo>
                  <a:pt x="7822" y="17159"/>
                  <a:pt x="7777" y="17080"/>
                  <a:pt x="7763" y="17002"/>
                </a:cubicBezTo>
                <a:cubicBezTo>
                  <a:pt x="7722" y="16774"/>
                  <a:pt x="7728" y="16516"/>
                  <a:pt x="7763" y="16288"/>
                </a:cubicBezTo>
                <a:cubicBezTo>
                  <a:pt x="7775" y="16213"/>
                  <a:pt x="7805" y="16152"/>
                  <a:pt x="7811" y="16073"/>
                </a:cubicBezTo>
                <a:cubicBezTo>
                  <a:pt x="7833" y="15806"/>
                  <a:pt x="7845" y="15493"/>
                  <a:pt x="7834" y="15240"/>
                </a:cubicBezTo>
                <a:cubicBezTo>
                  <a:pt x="7827" y="15069"/>
                  <a:pt x="7813" y="14892"/>
                  <a:pt x="7811" y="14716"/>
                </a:cubicBezTo>
                <a:cubicBezTo>
                  <a:pt x="7809" y="14541"/>
                  <a:pt x="7856" y="14387"/>
                  <a:pt x="7858" y="14216"/>
                </a:cubicBezTo>
                <a:cubicBezTo>
                  <a:pt x="7861" y="13920"/>
                  <a:pt x="7863" y="13624"/>
                  <a:pt x="7882" y="13335"/>
                </a:cubicBezTo>
                <a:cubicBezTo>
                  <a:pt x="7905" y="12972"/>
                  <a:pt x="7956" y="12587"/>
                  <a:pt x="7977" y="12240"/>
                </a:cubicBezTo>
                <a:cubicBezTo>
                  <a:pt x="7982" y="12162"/>
                  <a:pt x="7951" y="12043"/>
                  <a:pt x="7953" y="11954"/>
                </a:cubicBezTo>
                <a:cubicBezTo>
                  <a:pt x="7953" y="11827"/>
                  <a:pt x="7953" y="11795"/>
                  <a:pt x="7953" y="11716"/>
                </a:cubicBezTo>
                <a:cubicBezTo>
                  <a:pt x="7921" y="11780"/>
                  <a:pt x="7890" y="11841"/>
                  <a:pt x="7858" y="11906"/>
                </a:cubicBezTo>
                <a:cubicBezTo>
                  <a:pt x="7832" y="11958"/>
                  <a:pt x="7825" y="11968"/>
                  <a:pt x="7811" y="12002"/>
                </a:cubicBezTo>
                <a:cubicBezTo>
                  <a:pt x="7803" y="11954"/>
                  <a:pt x="7766" y="11885"/>
                  <a:pt x="7763" y="11835"/>
                </a:cubicBezTo>
                <a:cubicBezTo>
                  <a:pt x="7755" y="11721"/>
                  <a:pt x="7782" y="11599"/>
                  <a:pt x="7787" y="11501"/>
                </a:cubicBezTo>
                <a:cubicBezTo>
                  <a:pt x="7787" y="11493"/>
                  <a:pt x="7787" y="11486"/>
                  <a:pt x="7787" y="11478"/>
                </a:cubicBezTo>
                <a:cubicBezTo>
                  <a:pt x="7787" y="11833"/>
                  <a:pt x="7812" y="12201"/>
                  <a:pt x="7763" y="12549"/>
                </a:cubicBezTo>
                <a:cubicBezTo>
                  <a:pt x="7744" y="12685"/>
                  <a:pt x="7723" y="12814"/>
                  <a:pt x="7715" y="12954"/>
                </a:cubicBezTo>
                <a:cubicBezTo>
                  <a:pt x="7702" y="13185"/>
                  <a:pt x="7699" y="13417"/>
                  <a:pt x="7691" y="13645"/>
                </a:cubicBezTo>
                <a:cubicBezTo>
                  <a:pt x="7685" y="13822"/>
                  <a:pt x="7669" y="13952"/>
                  <a:pt x="7644" y="14121"/>
                </a:cubicBezTo>
                <a:cubicBezTo>
                  <a:pt x="7613" y="14327"/>
                  <a:pt x="7583" y="14533"/>
                  <a:pt x="7572" y="14740"/>
                </a:cubicBezTo>
                <a:cubicBezTo>
                  <a:pt x="7567" y="14835"/>
                  <a:pt x="7601" y="14974"/>
                  <a:pt x="7596" y="15050"/>
                </a:cubicBezTo>
                <a:cubicBezTo>
                  <a:pt x="7590" y="15128"/>
                  <a:pt x="7552" y="15241"/>
                  <a:pt x="7549" y="15335"/>
                </a:cubicBezTo>
                <a:cubicBezTo>
                  <a:pt x="7542" y="15544"/>
                  <a:pt x="7586" y="15777"/>
                  <a:pt x="7596" y="15954"/>
                </a:cubicBezTo>
                <a:cubicBezTo>
                  <a:pt x="7612" y="16235"/>
                  <a:pt x="7655" y="16560"/>
                  <a:pt x="7644" y="16835"/>
                </a:cubicBezTo>
                <a:cubicBezTo>
                  <a:pt x="7640" y="16925"/>
                  <a:pt x="7614" y="16992"/>
                  <a:pt x="7596" y="17097"/>
                </a:cubicBezTo>
                <a:cubicBezTo>
                  <a:pt x="7538" y="17438"/>
                  <a:pt x="7553" y="17765"/>
                  <a:pt x="7572" y="18098"/>
                </a:cubicBezTo>
                <a:cubicBezTo>
                  <a:pt x="7573" y="18122"/>
                  <a:pt x="7570" y="18145"/>
                  <a:pt x="7572" y="1816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Ink 10"/>
          <p:cNvSpPr/>
          <p:nvPr/>
        </p:nvSpPr>
        <p:spPr>
          <a:xfrm>
            <a:off x="2863800" y="3968640"/>
            <a:ext cx="119160" cy="2614680"/>
          </a:xfrm>
          <a:custGeom>
            <a:avLst/>
            <a:gdLst/>
            <a:ahLst/>
            <a:rect l="l" t="t" r="r" b="b"/>
            <a:pathLst>
              <a:path w="335" h="7264">
                <a:moveTo>
                  <a:pt x="8192" y="11049"/>
                </a:moveTo>
                <a:cubicBezTo>
                  <a:pt x="8156" y="11040"/>
                  <a:pt x="8159" y="11033"/>
                  <a:pt x="8144" y="11025"/>
                </a:cubicBezTo>
                <a:cubicBezTo>
                  <a:pt x="8148" y="11117"/>
                  <a:pt x="8162" y="11196"/>
                  <a:pt x="8168" y="11287"/>
                </a:cubicBezTo>
                <a:cubicBezTo>
                  <a:pt x="8181" y="11488"/>
                  <a:pt x="8154" y="11690"/>
                  <a:pt x="8144" y="11882"/>
                </a:cubicBezTo>
                <a:cubicBezTo>
                  <a:pt x="8131" y="12122"/>
                  <a:pt x="8161" y="12362"/>
                  <a:pt x="8120" y="12597"/>
                </a:cubicBezTo>
                <a:cubicBezTo>
                  <a:pt x="8104" y="12686"/>
                  <a:pt x="8098" y="12767"/>
                  <a:pt x="8096" y="12859"/>
                </a:cubicBezTo>
                <a:cubicBezTo>
                  <a:pt x="8090" y="13146"/>
                  <a:pt x="8116" y="13473"/>
                  <a:pt x="8144" y="13716"/>
                </a:cubicBezTo>
                <a:cubicBezTo>
                  <a:pt x="8155" y="13814"/>
                  <a:pt x="8125" y="13906"/>
                  <a:pt x="8120" y="14002"/>
                </a:cubicBezTo>
                <a:cubicBezTo>
                  <a:pt x="8111" y="14176"/>
                  <a:pt x="8105" y="14354"/>
                  <a:pt x="8096" y="14526"/>
                </a:cubicBezTo>
                <a:cubicBezTo>
                  <a:pt x="8088" y="14691"/>
                  <a:pt x="8112" y="14878"/>
                  <a:pt x="8120" y="15026"/>
                </a:cubicBezTo>
                <a:cubicBezTo>
                  <a:pt x="8126" y="15133"/>
                  <a:pt x="8102" y="15230"/>
                  <a:pt x="8096" y="15335"/>
                </a:cubicBezTo>
                <a:cubicBezTo>
                  <a:pt x="8079" y="15650"/>
                  <a:pt x="8115" y="15962"/>
                  <a:pt x="8049" y="16264"/>
                </a:cubicBezTo>
                <a:cubicBezTo>
                  <a:pt x="8000" y="16489"/>
                  <a:pt x="7958" y="16726"/>
                  <a:pt x="7953" y="16955"/>
                </a:cubicBezTo>
                <a:cubicBezTo>
                  <a:pt x="7944" y="17357"/>
                  <a:pt x="7885" y="17852"/>
                  <a:pt x="7977" y="18240"/>
                </a:cubicBezTo>
                <a:cubicBezTo>
                  <a:pt x="7985" y="18256"/>
                  <a:pt x="7993" y="18272"/>
                  <a:pt x="8001" y="18288"/>
                </a:cubicBezTo>
                <a:cubicBezTo>
                  <a:pt x="8001" y="18135"/>
                  <a:pt x="8029" y="18004"/>
                  <a:pt x="8049" y="17859"/>
                </a:cubicBezTo>
                <a:cubicBezTo>
                  <a:pt x="8060" y="17779"/>
                  <a:pt x="8067" y="17701"/>
                  <a:pt x="8072" y="17621"/>
                </a:cubicBezTo>
                <a:cubicBezTo>
                  <a:pt x="8080" y="17496"/>
                  <a:pt x="8089" y="17352"/>
                  <a:pt x="8096" y="17240"/>
                </a:cubicBezTo>
                <a:cubicBezTo>
                  <a:pt x="8099" y="17196"/>
                  <a:pt x="8144" y="17102"/>
                  <a:pt x="8144" y="17097"/>
                </a:cubicBezTo>
                <a:cubicBezTo>
                  <a:pt x="8146" y="17038"/>
                  <a:pt x="8121" y="16992"/>
                  <a:pt x="8120" y="16931"/>
                </a:cubicBezTo>
                <a:cubicBezTo>
                  <a:pt x="8118" y="16828"/>
                  <a:pt x="8107" y="16687"/>
                  <a:pt x="8096" y="16621"/>
                </a:cubicBezTo>
                <a:cubicBezTo>
                  <a:pt x="8096" y="17186"/>
                  <a:pt x="8087" y="18781"/>
                  <a:pt x="8120" y="18217"/>
                </a:cubicBezTo>
                <a:cubicBezTo>
                  <a:pt x="8128" y="18086"/>
                  <a:pt x="8115" y="17961"/>
                  <a:pt x="8144" y="17836"/>
                </a:cubicBezTo>
                <a:cubicBezTo>
                  <a:pt x="8163" y="17756"/>
                  <a:pt x="8201" y="17622"/>
                  <a:pt x="8239" y="17550"/>
                </a:cubicBezTo>
                <a:cubicBezTo>
                  <a:pt x="8259" y="17511"/>
                  <a:pt x="8257" y="17495"/>
                  <a:pt x="8287" y="17502"/>
                </a:cubicBezTo>
                <a:cubicBezTo>
                  <a:pt x="8274" y="17483"/>
                  <a:pt x="8235" y="17438"/>
                  <a:pt x="8215" y="17407"/>
                </a:cubicBezTo>
                <a:cubicBezTo>
                  <a:pt x="8194" y="17375"/>
                  <a:pt x="8156" y="17324"/>
                  <a:pt x="8144" y="17288"/>
                </a:cubicBezTo>
                <a:cubicBezTo>
                  <a:pt x="8133" y="17257"/>
                  <a:pt x="8132" y="17224"/>
                  <a:pt x="8120" y="17193"/>
                </a:cubicBezTo>
                <a:cubicBezTo>
                  <a:pt x="8098" y="17135"/>
                  <a:pt x="8071" y="17067"/>
                  <a:pt x="8049" y="17002"/>
                </a:cubicBezTo>
                <a:cubicBezTo>
                  <a:pt x="8022" y="16924"/>
                  <a:pt x="8010" y="16848"/>
                  <a:pt x="8001" y="16764"/>
                </a:cubicBezTo>
                <a:cubicBezTo>
                  <a:pt x="7997" y="16725"/>
                  <a:pt x="8003" y="16684"/>
                  <a:pt x="8001" y="1664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11"/>
          <p:cNvSpPr/>
          <p:nvPr/>
        </p:nvSpPr>
        <p:spPr>
          <a:xfrm>
            <a:off x="2786040" y="1979640"/>
            <a:ext cx="85680" cy="1303200"/>
          </a:xfrm>
          <a:custGeom>
            <a:avLst/>
            <a:gdLst/>
            <a:ahLst/>
            <a:rect l="l" t="t" r="r" b="b"/>
            <a:pathLst>
              <a:path w="239" h="3620">
                <a:moveTo>
                  <a:pt x="7977" y="5691"/>
                </a:moveTo>
                <a:cubicBezTo>
                  <a:pt x="7977" y="5937"/>
                  <a:pt x="7977" y="6183"/>
                  <a:pt x="7977" y="6429"/>
                </a:cubicBezTo>
                <a:cubicBezTo>
                  <a:pt x="7968" y="6379"/>
                  <a:pt x="7964" y="6384"/>
                  <a:pt x="7953" y="6334"/>
                </a:cubicBezTo>
                <a:cubicBezTo>
                  <a:pt x="7939" y="6269"/>
                  <a:pt x="7939" y="6211"/>
                  <a:pt x="7930" y="6144"/>
                </a:cubicBezTo>
                <a:cubicBezTo>
                  <a:pt x="7921" y="6075"/>
                  <a:pt x="7920" y="5998"/>
                  <a:pt x="7906" y="5929"/>
                </a:cubicBezTo>
                <a:cubicBezTo>
                  <a:pt x="7899" y="5896"/>
                  <a:pt x="7871" y="5843"/>
                  <a:pt x="7858" y="5810"/>
                </a:cubicBezTo>
                <a:cubicBezTo>
                  <a:pt x="7842" y="5768"/>
                  <a:pt x="7831" y="5731"/>
                  <a:pt x="7811" y="5691"/>
                </a:cubicBezTo>
                <a:cubicBezTo>
                  <a:pt x="7807" y="5683"/>
                  <a:pt x="7775" y="5646"/>
                  <a:pt x="7763" y="5620"/>
                </a:cubicBezTo>
                <a:cubicBezTo>
                  <a:pt x="7743" y="5579"/>
                  <a:pt x="7745" y="5573"/>
                  <a:pt x="7739" y="5525"/>
                </a:cubicBezTo>
                <a:cubicBezTo>
                  <a:pt x="7739" y="5517"/>
                  <a:pt x="7739" y="5509"/>
                  <a:pt x="7739" y="5501"/>
                </a:cubicBezTo>
                <a:cubicBezTo>
                  <a:pt x="7739" y="5574"/>
                  <a:pt x="7745" y="5630"/>
                  <a:pt x="7763" y="5691"/>
                </a:cubicBezTo>
                <a:cubicBezTo>
                  <a:pt x="7775" y="5731"/>
                  <a:pt x="7784" y="5762"/>
                  <a:pt x="7787" y="5810"/>
                </a:cubicBezTo>
                <a:cubicBezTo>
                  <a:pt x="7863" y="6902"/>
                  <a:pt x="7787" y="8025"/>
                  <a:pt x="7787" y="91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12"/>
          <p:cNvSpPr/>
          <p:nvPr/>
        </p:nvSpPr>
        <p:spPr>
          <a:xfrm>
            <a:off x="2889360" y="2579760"/>
            <a:ext cx="17280" cy="523800"/>
          </a:xfrm>
          <a:custGeom>
            <a:avLst/>
            <a:gdLst/>
            <a:ahLst/>
            <a:rect l="l" t="t" r="r" b="b"/>
            <a:pathLst>
              <a:path w="48" h="1453">
                <a:moveTo>
                  <a:pt x="8025" y="7168"/>
                </a:moveTo>
                <a:cubicBezTo>
                  <a:pt x="8025" y="7291"/>
                  <a:pt x="8022" y="7409"/>
                  <a:pt x="8049" y="7525"/>
                </a:cubicBezTo>
                <a:cubicBezTo>
                  <a:pt x="8121" y="7836"/>
                  <a:pt x="7993" y="8198"/>
                  <a:pt x="8072" y="8501"/>
                </a:cubicBezTo>
                <a:cubicBezTo>
                  <a:pt x="8081" y="8535"/>
                  <a:pt x="8072" y="8584"/>
                  <a:pt x="8072" y="86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13"/>
          <p:cNvSpPr/>
          <p:nvPr/>
        </p:nvSpPr>
        <p:spPr>
          <a:xfrm>
            <a:off x="2846520" y="3051000"/>
            <a:ext cx="34920" cy="567000"/>
          </a:xfrm>
          <a:custGeom>
            <a:avLst/>
            <a:gdLst/>
            <a:ahLst/>
            <a:rect l="l" t="t" r="r" b="b"/>
            <a:pathLst>
              <a:path w="96" h="1573">
                <a:moveTo>
                  <a:pt x="7906" y="8477"/>
                </a:moveTo>
                <a:cubicBezTo>
                  <a:pt x="7906" y="8608"/>
                  <a:pt x="7912" y="8741"/>
                  <a:pt x="7930" y="8858"/>
                </a:cubicBezTo>
                <a:cubicBezTo>
                  <a:pt x="7958" y="9046"/>
                  <a:pt x="7890" y="9247"/>
                  <a:pt x="7953" y="9430"/>
                </a:cubicBezTo>
                <a:cubicBezTo>
                  <a:pt x="7971" y="9483"/>
                  <a:pt x="7994" y="9516"/>
                  <a:pt x="8001" y="9549"/>
                </a:cubicBezTo>
                <a:cubicBezTo>
                  <a:pt x="8020" y="9643"/>
                  <a:pt x="7980" y="9741"/>
                  <a:pt x="7977" y="9835"/>
                </a:cubicBezTo>
                <a:cubicBezTo>
                  <a:pt x="7974" y="9921"/>
                  <a:pt x="7982" y="10001"/>
                  <a:pt x="7953" y="1004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14"/>
          <p:cNvSpPr/>
          <p:nvPr/>
        </p:nvSpPr>
        <p:spPr>
          <a:xfrm>
            <a:off x="2793960" y="3960720"/>
            <a:ext cx="1800" cy="282600"/>
          </a:xfrm>
          <a:custGeom>
            <a:avLst/>
            <a:gdLst/>
            <a:ahLst/>
            <a:rect l="l" t="t" r="r" b="b"/>
            <a:pathLst>
              <a:path w="1" h="787">
                <a:moveTo>
                  <a:pt x="7763" y="11001"/>
                </a:moveTo>
                <a:cubicBezTo>
                  <a:pt x="7763" y="11263"/>
                  <a:pt x="7763" y="11525"/>
                  <a:pt x="7763" y="1178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15"/>
          <p:cNvSpPr/>
          <p:nvPr/>
        </p:nvSpPr>
        <p:spPr>
          <a:xfrm>
            <a:off x="2820960" y="4697280"/>
            <a:ext cx="34920" cy="1689120"/>
          </a:xfrm>
          <a:custGeom>
            <a:avLst/>
            <a:gdLst/>
            <a:ahLst/>
            <a:rect l="l" t="t" r="r" b="b"/>
            <a:pathLst>
              <a:path w="97" h="4692">
                <a:moveTo>
                  <a:pt x="7906" y="13049"/>
                </a:moveTo>
                <a:cubicBezTo>
                  <a:pt x="7898" y="13085"/>
                  <a:pt x="7885" y="13112"/>
                  <a:pt x="7882" y="13145"/>
                </a:cubicBezTo>
                <a:cubicBezTo>
                  <a:pt x="7874" y="13225"/>
                  <a:pt x="7860" y="13303"/>
                  <a:pt x="7858" y="13383"/>
                </a:cubicBezTo>
                <a:cubicBezTo>
                  <a:pt x="7854" y="13553"/>
                  <a:pt x="7847" y="13721"/>
                  <a:pt x="7834" y="13883"/>
                </a:cubicBezTo>
                <a:cubicBezTo>
                  <a:pt x="7793" y="14394"/>
                  <a:pt x="7762" y="15096"/>
                  <a:pt x="7882" y="15573"/>
                </a:cubicBezTo>
                <a:cubicBezTo>
                  <a:pt x="7903" y="15656"/>
                  <a:pt x="7904" y="15679"/>
                  <a:pt x="7906" y="15764"/>
                </a:cubicBezTo>
                <a:cubicBezTo>
                  <a:pt x="7911" y="16042"/>
                  <a:pt x="7904" y="16327"/>
                  <a:pt x="7930" y="16597"/>
                </a:cubicBezTo>
                <a:cubicBezTo>
                  <a:pt x="7936" y="16659"/>
                  <a:pt x="7917" y="16729"/>
                  <a:pt x="7906" y="16788"/>
                </a:cubicBezTo>
                <a:cubicBezTo>
                  <a:pt x="7877" y="16944"/>
                  <a:pt x="7858" y="17081"/>
                  <a:pt x="7858" y="17240"/>
                </a:cubicBezTo>
                <a:cubicBezTo>
                  <a:pt x="7858" y="17360"/>
                  <a:pt x="7890" y="17428"/>
                  <a:pt x="7906" y="17502"/>
                </a:cubicBezTo>
                <a:cubicBezTo>
                  <a:pt x="7923" y="17578"/>
                  <a:pt x="7892" y="17656"/>
                  <a:pt x="7882" y="17717"/>
                </a:cubicBezTo>
                <a:cubicBezTo>
                  <a:pt x="7882" y="17725"/>
                  <a:pt x="7882" y="17732"/>
                  <a:pt x="7882" y="177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16"/>
          <p:cNvSpPr/>
          <p:nvPr/>
        </p:nvSpPr>
        <p:spPr>
          <a:xfrm>
            <a:off x="2854440" y="6489720"/>
            <a:ext cx="17280" cy="120600"/>
          </a:xfrm>
          <a:custGeom>
            <a:avLst/>
            <a:gdLst/>
            <a:ahLst/>
            <a:rect l="l" t="t" r="r" b="b"/>
            <a:pathLst>
              <a:path w="48" h="334">
                <a:moveTo>
                  <a:pt x="7977" y="18026"/>
                </a:moveTo>
                <a:cubicBezTo>
                  <a:pt x="7977" y="18145"/>
                  <a:pt x="7977" y="18455"/>
                  <a:pt x="7977" y="18336"/>
                </a:cubicBezTo>
                <a:cubicBezTo>
                  <a:pt x="7977" y="18300"/>
                  <a:pt x="7992" y="18237"/>
                  <a:pt x="7953" y="18217"/>
                </a:cubicBezTo>
                <a:cubicBezTo>
                  <a:pt x="7945" y="18217"/>
                  <a:pt x="7938" y="18217"/>
                  <a:pt x="7930" y="18217"/>
                </a:cubicBezTo>
                <a:cubicBezTo>
                  <a:pt x="7930" y="18264"/>
                  <a:pt x="7930" y="18312"/>
                  <a:pt x="7930" y="18359"/>
                </a:cubicBezTo>
                <a:cubicBezTo>
                  <a:pt x="7930" y="18327"/>
                  <a:pt x="7930" y="18296"/>
                  <a:pt x="7930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17"/>
          <p:cNvSpPr/>
          <p:nvPr/>
        </p:nvSpPr>
        <p:spPr>
          <a:xfrm>
            <a:off x="763560" y="1903320"/>
            <a:ext cx="3694320" cy="68400"/>
          </a:xfrm>
          <a:custGeom>
            <a:avLst/>
            <a:gdLst/>
            <a:ahLst/>
            <a:rect l="l" t="t" r="r" b="b"/>
            <a:pathLst>
              <a:path w="10265" h="192">
                <a:moveTo>
                  <a:pt x="2119" y="5310"/>
                </a:moveTo>
                <a:cubicBezTo>
                  <a:pt x="2602" y="5310"/>
                  <a:pt x="3076" y="5334"/>
                  <a:pt x="3548" y="5334"/>
                </a:cubicBezTo>
                <a:cubicBezTo>
                  <a:pt x="3923" y="5334"/>
                  <a:pt x="4355" y="5341"/>
                  <a:pt x="4691" y="5358"/>
                </a:cubicBezTo>
                <a:cubicBezTo>
                  <a:pt x="4963" y="5372"/>
                  <a:pt x="5262" y="5314"/>
                  <a:pt x="5501" y="5310"/>
                </a:cubicBezTo>
                <a:cubicBezTo>
                  <a:pt x="5774" y="5305"/>
                  <a:pt x="6090" y="5322"/>
                  <a:pt x="6358" y="5310"/>
                </a:cubicBezTo>
                <a:cubicBezTo>
                  <a:pt x="7179" y="5272"/>
                  <a:pt x="8026" y="5330"/>
                  <a:pt x="8811" y="5382"/>
                </a:cubicBezTo>
                <a:cubicBezTo>
                  <a:pt x="8907" y="5388"/>
                  <a:pt x="9002" y="5369"/>
                  <a:pt x="9096" y="5358"/>
                </a:cubicBezTo>
                <a:cubicBezTo>
                  <a:pt x="9220" y="5343"/>
                  <a:pt x="9348" y="5319"/>
                  <a:pt x="9477" y="5334"/>
                </a:cubicBezTo>
                <a:cubicBezTo>
                  <a:pt x="9786" y="5370"/>
                  <a:pt x="9618" y="5362"/>
                  <a:pt x="9787" y="5358"/>
                </a:cubicBezTo>
                <a:cubicBezTo>
                  <a:pt x="9845" y="5357"/>
                  <a:pt x="9895" y="5340"/>
                  <a:pt x="9954" y="5334"/>
                </a:cubicBezTo>
                <a:cubicBezTo>
                  <a:pt x="10058" y="5323"/>
                  <a:pt x="10158" y="5316"/>
                  <a:pt x="10263" y="5310"/>
                </a:cubicBezTo>
                <a:cubicBezTo>
                  <a:pt x="10541" y="5295"/>
                  <a:pt x="10850" y="5296"/>
                  <a:pt x="11120" y="5334"/>
                </a:cubicBezTo>
                <a:cubicBezTo>
                  <a:pt x="11244" y="5351"/>
                  <a:pt x="11424" y="5479"/>
                  <a:pt x="11525" y="5477"/>
                </a:cubicBezTo>
                <a:cubicBezTo>
                  <a:pt x="11560" y="5476"/>
                  <a:pt x="11637" y="5407"/>
                  <a:pt x="11692" y="5405"/>
                </a:cubicBezTo>
                <a:cubicBezTo>
                  <a:pt x="11920" y="5395"/>
                  <a:pt x="12172" y="5408"/>
                  <a:pt x="12383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8"/>
          <p:cNvSpPr/>
          <p:nvPr/>
        </p:nvSpPr>
        <p:spPr>
          <a:xfrm>
            <a:off x="3909960" y="1886040"/>
            <a:ext cx="1079640" cy="17280"/>
          </a:xfrm>
          <a:custGeom>
            <a:avLst/>
            <a:gdLst/>
            <a:ahLst/>
            <a:rect l="l" t="t" r="r" b="b"/>
            <a:pathLst>
              <a:path w="3001" h="48">
                <a:moveTo>
                  <a:pt x="10859" y="5239"/>
                </a:moveTo>
                <a:cubicBezTo>
                  <a:pt x="10892" y="5243"/>
                  <a:pt x="10931" y="5260"/>
                  <a:pt x="10954" y="5263"/>
                </a:cubicBezTo>
                <a:cubicBezTo>
                  <a:pt x="11183" y="5293"/>
                  <a:pt x="11437" y="5263"/>
                  <a:pt x="11668" y="5263"/>
                </a:cubicBezTo>
                <a:cubicBezTo>
                  <a:pt x="11690" y="5276"/>
                  <a:pt x="11691" y="5283"/>
                  <a:pt x="11740" y="5286"/>
                </a:cubicBezTo>
                <a:cubicBezTo>
                  <a:pt x="11929" y="5297"/>
                  <a:pt x="12122" y="5286"/>
                  <a:pt x="12311" y="5286"/>
                </a:cubicBezTo>
                <a:cubicBezTo>
                  <a:pt x="12333" y="5273"/>
                  <a:pt x="12334" y="5266"/>
                  <a:pt x="12383" y="5263"/>
                </a:cubicBezTo>
                <a:cubicBezTo>
                  <a:pt x="12587" y="5251"/>
                  <a:pt x="12813" y="5255"/>
                  <a:pt x="13002" y="5286"/>
                </a:cubicBezTo>
                <a:cubicBezTo>
                  <a:pt x="13271" y="5330"/>
                  <a:pt x="13585" y="5286"/>
                  <a:pt x="13859" y="5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9"/>
          <p:cNvSpPr/>
          <p:nvPr/>
        </p:nvSpPr>
        <p:spPr>
          <a:xfrm>
            <a:off x="4964040" y="1920960"/>
            <a:ext cx="42840" cy="1440"/>
          </a:xfrm>
          <a:custGeom>
            <a:avLst/>
            <a:gdLst/>
            <a:ahLst/>
            <a:rect l="l" t="t" r="r" b="b"/>
            <a:pathLst>
              <a:path w="121" h="1">
                <a:moveTo>
                  <a:pt x="13787" y="5334"/>
                </a:moveTo>
                <a:cubicBezTo>
                  <a:pt x="13827" y="5334"/>
                  <a:pt x="13867" y="5334"/>
                  <a:pt x="13907" y="533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20"/>
          <p:cNvSpPr/>
          <p:nvPr/>
        </p:nvSpPr>
        <p:spPr>
          <a:xfrm>
            <a:off x="3017880" y="3035160"/>
            <a:ext cx="1979640" cy="93960"/>
          </a:xfrm>
          <a:custGeom>
            <a:avLst/>
            <a:gdLst/>
            <a:ahLst/>
            <a:rect l="l" t="t" r="r" b="b"/>
            <a:pathLst>
              <a:path w="5502" h="263">
                <a:moveTo>
                  <a:pt x="8382" y="8692"/>
                </a:moveTo>
                <a:cubicBezTo>
                  <a:pt x="8580" y="8692"/>
                  <a:pt x="8779" y="8692"/>
                  <a:pt x="8977" y="8692"/>
                </a:cubicBezTo>
                <a:cubicBezTo>
                  <a:pt x="8995" y="8682"/>
                  <a:pt x="9063" y="8661"/>
                  <a:pt x="9096" y="8644"/>
                </a:cubicBezTo>
                <a:cubicBezTo>
                  <a:pt x="9142" y="8621"/>
                  <a:pt x="9162" y="8603"/>
                  <a:pt x="9215" y="8596"/>
                </a:cubicBezTo>
                <a:cubicBezTo>
                  <a:pt x="9459" y="8563"/>
                  <a:pt x="9731" y="8596"/>
                  <a:pt x="9977" y="8596"/>
                </a:cubicBezTo>
                <a:cubicBezTo>
                  <a:pt x="9985" y="8594"/>
                  <a:pt x="10031" y="8574"/>
                  <a:pt x="10073" y="8573"/>
                </a:cubicBezTo>
                <a:cubicBezTo>
                  <a:pt x="10287" y="8567"/>
                  <a:pt x="10502" y="8573"/>
                  <a:pt x="10716" y="8573"/>
                </a:cubicBezTo>
                <a:cubicBezTo>
                  <a:pt x="10735" y="8565"/>
                  <a:pt x="10739" y="8532"/>
                  <a:pt x="10787" y="8525"/>
                </a:cubicBezTo>
                <a:cubicBezTo>
                  <a:pt x="11169" y="8466"/>
                  <a:pt x="11632" y="8581"/>
                  <a:pt x="11978" y="8501"/>
                </a:cubicBezTo>
                <a:cubicBezTo>
                  <a:pt x="11990" y="8504"/>
                  <a:pt x="12052" y="8524"/>
                  <a:pt x="12097" y="8525"/>
                </a:cubicBezTo>
                <a:cubicBezTo>
                  <a:pt x="12407" y="8533"/>
                  <a:pt x="12724" y="8523"/>
                  <a:pt x="13025" y="8501"/>
                </a:cubicBezTo>
                <a:cubicBezTo>
                  <a:pt x="13090" y="8496"/>
                  <a:pt x="13130" y="8492"/>
                  <a:pt x="13192" y="8477"/>
                </a:cubicBezTo>
                <a:cubicBezTo>
                  <a:pt x="13243" y="8465"/>
                  <a:pt x="13275" y="8456"/>
                  <a:pt x="13335" y="8453"/>
                </a:cubicBezTo>
                <a:cubicBezTo>
                  <a:pt x="13469" y="8445"/>
                  <a:pt x="13606" y="8453"/>
                  <a:pt x="13740" y="8453"/>
                </a:cubicBezTo>
                <a:cubicBezTo>
                  <a:pt x="13742" y="8452"/>
                  <a:pt x="13780" y="8434"/>
                  <a:pt x="13811" y="8430"/>
                </a:cubicBezTo>
                <a:cubicBezTo>
                  <a:pt x="13851" y="8430"/>
                  <a:pt x="13859" y="8430"/>
                  <a:pt x="13883" y="843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21"/>
          <p:cNvSpPr/>
          <p:nvPr/>
        </p:nvSpPr>
        <p:spPr>
          <a:xfrm>
            <a:off x="4165560" y="4218120"/>
            <a:ext cx="806400" cy="9360"/>
          </a:xfrm>
          <a:custGeom>
            <a:avLst/>
            <a:gdLst/>
            <a:ahLst/>
            <a:rect l="l" t="t" r="r" b="b"/>
            <a:pathLst>
              <a:path w="2239" h="25">
                <a:moveTo>
                  <a:pt x="11573" y="11740"/>
                </a:moveTo>
                <a:cubicBezTo>
                  <a:pt x="11986" y="11740"/>
                  <a:pt x="12398" y="11740"/>
                  <a:pt x="12811" y="11740"/>
                </a:cubicBezTo>
                <a:cubicBezTo>
                  <a:pt x="12834" y="11726"/>
                  <a:pt x="12832" y="11719"/>
                  <a:pt x="12883" y="11716"/>
                </a:cubicBezTo>
                <a:cubicBezTo>
                  <a:pt x="13190" y="11698"/>
                  <a:pt x="13504" y="11716"/>
                  <a:pt x="13811" y="1171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22"/>
          <p:cNvSpPr/>
          <p:nvPr/>
        </p:nvSpPr>
        <p:spPr>
          <a:xfrm>
            <a:off x="2657520" y="5375160"/>
            <a:ext cx="2392200" cy="42840"/>
          </a:xfrm>
          <a:custGeom>
            <a:avLst/>
            <a:gdLst/>
            <a:ahLst/>
            <a:rect l="l" t="t" r="r" b="b"/>
            <a:pathLst>
              <a:path w="6645" h="121">
                <a:moveTo>
                  <a:pt x="7382" y="15026"/>
                </a:moveTo>
                <a:cubicBezTo>
                  <a:pt x="7420" y="15032"/>
                  <a:pt x="7435" y="15047"/>
                  <a:pt x="7477" y="15050"/>
                </a:cubicBezTo>
                <a:cubicBezTo>
                  <a:pt x="7830" y="15075"/>
                  <a:pt x="8208" y="15007"/>
                  <a:pt x="8549" y="15026"/>
                </a:cubicBezTo>
                <a:cubicBezTo>
                  <a:pt x="8576" y="15027"/>
                  <a:pt x="8627" y="15048"/>
                  <a:pt x="8668" y="15050"/>
                </a:cubicBezTo>
                <a:cubicBezTo>
                  <a:pt x="8762" y="15054"/>
                  <a:pt x="8839" y="15032"/>
                  <a:pt x="8930" y="15026"/>
                </a:cubicBezTo>
                <a:cubicBezTo>
                  <a:pt x="9198" y="15008"/>
                  <a:pt x="9487" y="15053"/>
                  <a:pt x="9739" y="15002"/>
                </a:cubicBezTo>
                <a:cubicBezTo>
                  <a:pt x="9813" y="14987"/>
                  <a:pt x="9874" y="14980"/>
                  <a:pt x="9954" y="14978"/>
                </a:cubicBezTo>
                <a:cubicBezTo>
                  <a:pt x="10181" y="14973"/>
                  <a:pt x="10487" y="14990"/>
                  <a:pt x="10668" y="15002"/>
                </a:cubicBezTo>
                <a:cubicBezTo>
                  <a:pt x="10939" y="15020"/>
                  <a:pt x="11213" y="14995"/>
                  <a:pt x="11478" y="14978"/>
                </a:cubicBezTo>
                <a:cubicBezTo>
                  <a:pt x="11851" y="14953"/>
                  <a:pt x="12227" y="14954"/>
                  <a:pt x="12597" y="14930"/>
                </a:cubicBezTo>
                <a:cubicBezTo>
                  <a:pt x="12972" y="14906"/>
                  <a:pt x="13382" y="14931"/>
                  <a:pt x="13740" y="14954"/>
                </a:cubicBezTo>
                <a:cubicBezTo>
                  <a:pt x="13835" y="14960"/>
                  <a:pt x="13931" y="14954"/>
                  <a:pt x="14026" y="1495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Внешний 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557360"/>
          <a:ext cx="4248000" cy="5059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5"/>
          <p:cNvSpPr/>
          <p:nvPr/>
        </p:nvSpPr>
        <p:spPr>
          <a:xfrm>
            <a:off x="5148360" y="260280"/>
            <a:ext cx="357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– гармонирует с текстом и рисунками, не отвлек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а – минимум (не более 30 %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писи должны быть крупными, хорошо читаемы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меньше мелких детал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зображения, графики и т.д. должны быть подписа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наличие раздаточного/рекламного материала (если есть такая необходимост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2"/>
          <p:cNvSpPr/>
          <p:nvPr/>
        </p:nvSpPr>
        <p:spPr>
          <a:xfrm>
            <a:off x="720720" y="1893960"/>
            <a:ext cx="4243320" cy="77760"/>
          </a:xfrm>
          <a:custGeom>
            <a:avLst/>
            <a:gdLst/>
            <a:ahLst/>
            <a:rect l="l" t="t" r="r" b="b"/>
            <a:pathLst>
              <a:path w="11788" h="215">
                <a:moveTo>
                  <a:pt x="2000" y="5477"/>
                </a:moveTo>
                <a:cubicBezTo>
                  <a:pt x="2235" y="5477"/>
                  <a:pt x="2520" y="5474"/>
                  <a:pt x="2715" y="5453"/>
                </a:cubicBezTo>
                <a:cubicBezTo>
                  <a:pt x="2820" y="5442"/>
                  <a:pt x="2920" y="5435"/>
                  <a:pt x="3024" y="5429"/>
                </a:cubicBezTo>
                <a:cubicBezTo>
                  <a:pt x="3185" y="5420"/>
                  <a:pt x="3357" y="5393"/>
                  <a:pt x="3500" y="5382"/>
                </a:cubicBezTo>
                <a:cubicBezTo>
                  <a:pt x="3645" y="5370"/>
                  <a:pt x="3844" y="5392"/>
                  <a:pt x="3953" y="5405"/>
                </a:cubicBezTo>
                <a:cubicBezTo>
                  <a:pt x="4019" y="5413"/>
                  <a:pt x="3986" y="5424"/>
                  <a:pt x="4048" y="5429"/>
                </a:cubicBezTo>
                <a:cubicBezTo>
                  <a:pt x="4363" y="5455"/>
                  <a:pt x="4865" y="5507"/>
                  <a:pt x="5144" y="5477"/>
                </a:cubicBezTo>
                <a:cubicBezTo>
                  <a:pt x="5197" y="5471"/>
                  <a:pt x="5236" y="5437"/>
                  <a:pt x="5286" y="5429"/>
                </a:cubicBezTo>
                <a:cubicBezTo>
                  <a:pt x="5451" y="5404"/>
                  <a:pt x="5596" y="5394"/>
                  <a:pt x="5763" y="5382"/>
                </a:cubicBezTo>
                <a:cubicBezTo>
                  <a:pt x="6083" y="5360"/>
                  <a:pt x="6411" y="5370"/>
                  <a:pt x="6715" y="5382"/>
                </a:cubicBezTo>
                <a:cubicBezTo>
                  <a:pt x="6908" y="5390"/>
                  <a:pt x="7073" y="5343"/>
                  <a:pt x="7263" y="5334"/>
                </a:cubicBezTo>
                <a:cubicBezTo>
                  <a:pt x="7690" y="5313"/>
                  <a:pt x="8123" y="5315"/>
                  <a:pt x="8549" y="5310"/>
                </a:cubicBezTo>
                <a:cubicBezTo>
                  <a:pt x="8700" y="5308"/>
                  <a:pt x="8836" y="5274"/>
                  <a:pt x="8977" y="5263"/>
                </a:cubicBezTo>
                <a:cubicBezTo>
                  <a:pt x="9307" y="5238"/>
                  <a:pt x="9587" y="5328"/>
                  <a:pt x="9906" y="5358"/>
                </a:cubicBezTo>
                <a:cubicBezTo>
                  <a:pt x="10619" y="5425"/>
                  <a:pt x="11406" y="5405"/>
                  <a:pt x="12121" y="5405"/>
                </a:cubicBezTo>
                <a:cubicBezTo>
                  <a:pt x="12604" y="5405"/>
                  <a:pt x="13151" y="5410"/>
                  <a:pt x="13597" y="5429"/>
                </a:cubicBezTo>
                <a:cubicBezTo>
                  <a:pt x="13660" y="5432"/>
                  <a:pt x="13724" y="5427"/>
                  <a:pt x="13787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3"/>
          <p:cNvSpPr/>
          <p:nvPr/>
        </p:nvSpPr>
        <p:spPr>
          <a:xfrm>
            <a:off x="763560" y="3043080"/>
            <a:ext cx="4233960" cy="138240"/>
          </a:xfrm>
          <a:custGeom>
            <a:avLst/>
            <a:gdLst/>
            <a:ahLst/>
            <a:rect l="l" t="t" r="r" b="b"/>
            <a:pathLst>
              <a:path w="11765" h="382">
                <a:moveTo>
                  <a:pt x="2119" y="8644"/>
                </a:moveTo>
                <a:cubicBezTo>
                  <a:pt x="2132" y="8638"/>
                  <a:pt x="2177" y="8587"/>
                  <a:pt x="2215" y="8573"/>
                </a:cubicBezTo>
                <a:cubicBezTo>
                  <a:pt x="2273" y="8552"/>
                  <a:pt x="2344" y="8543"/>
                  <a:pt x="2405" y="8525"/>
                </a:cubicBezTo>
                <a:cubicBezTo>
                  <a:pt x="2468" y="8506"/>
                  <a:pt x="2511" y="8489"/>
                  <a:pt x="2572" y="8477"/>
                </a:cubicBezTo>
                <a:cubicBezTo>
                  <a:pt x="2797" y="8434"/>
                  <a:pt x="3070" y="8440"/>
                  <a:pt x="3286" y="8477"/>
                </a:cubicBezTo>
                <a:cubicBezTo>
                  <a:pt x="3332" y="8485"/>
                  <a:pt x="3365" y="8495"/>
                  <a:pt x="3405" y="8501"/>
                </a:cubicBezTo>
                <a:cubicBezTo>
                  <a:pt x="3473" y="8512"/>
                  <a:pt x="3600" y="8524"/>
                  <a:pt x="3620" y="8525"/>
                </a:cubicBezTo>
                <a:cubicBezTo>
                  <a:pt x="4017" y="8550"/>
                  <a:pt x="4423" y="8544"/>
                  <a:pt x="4810" y="8549"/>
                </a:cubicBezTo>
                <a:cubicBezTo>
                  <a:pt x="4966" y="8551"/>
                  <a:pt x="5113" y="8567"/>
                  <a:pt x="5263" y="8573"/>
                </a:cubicBezTo>
                <a:cubicBezTo>
                  <a:pt x="5337" y="8576"/>
                  <a:pt x="5420" y="8551"/>
                  <a:pt x="5477" y="8549"/>
                </a:cubicBezTo>
                <a:cubicBezTo>
                  <a:pt x="5673" y="8544"/>
                  <a:pt x="5855" y="8570"/>
                  <a:pt x="6048" y="8573"/>
                </a:cubicBezTo>
                <a:cubicBezTo>
                  <a:pt x="6703" y="8582"/>
                  <a:pt x="7348" y="8596"/>
                  <a:pt x="8001" y="8596"/>
                </a:cubicBezTo>
                <a:cubicBezTo>
                  <a:pt x="8078" y="8596"/>
                  <a:pt x="8115" y="8562"/>
                  <a:pt x="8168" y="8596"/>
                </a:cubicBezTo>
                <a:cubicBezTo>
                  <a:pt x="8174" y="8600"/>
                  <a:pt x="8181" y="8683"/>
                  <a:pt x="8192" y="8692"/>
                </a:cubicBezTo>
                <a:cubicBezTo>
                  <a:pt x="8212" y="8708"/>
                  <a:pt x="8233" y="8733"/>
                  <a:pt x="8263" y="8763"/>
                </a:cubicBezTo>
                <a:cubicBezTo>
                  <a:pt x="8296" y="8796"/>
                  <a:pt x="8305" y="8802"/>
                  <a:pt x="8334" y="8834"/>
                </a:cubicBezTo>
                <a:cubicBezTo>
                  <a:pt x="8383" y="8810"/>
                  <a:pt x="8459" y="8772"/>
                  <a:pt x="8525" y="8739"/>
                </a:cubicBezTo>
                <a:cubicBezTo>
                  <a:pt x="8615" y="8694"/>
                  <a:pt x="8692" y="8654"/>
                  <a:pt x="8787" y="8620"/>
                </a:cubicBezTo>
                <a:cubicBezTo>
                  <a:pt x="8809" y="8612"/>
                  <a:pt x="8885" y="8575"/>
                  <a:pt x="8906" y="8573"/>
                </a:cubicBezTo>
                <a:cubicBezTo>
                  <a:pt x="9027" y="8560"/>
                  <a:pt x="9141" y="8593"/>
                  <a:pt x="9263" y="8596"/>
                </a:cubicBezTo>
                <a:cubicBezTo>
                  <a:pt x="9496" y="8602"/>
                  <a:pt x="9724" y="8617"/>
                  <a:pt x="9954" y="8620"/>
                </a:cubicBezTo>
                <a:cubicBezTo>
                  <a:pt x="10172" y="8623"/>
                  <a:pt x="10385" y="8604"/>
                  <a:pt x="10597" y="8596"/>
                </a:cubicBezTo>
                <a:cubicBezTo>
                  <a:pt x="11209" y="8574"/>
                  <a:pt x="11809" y="8641"/>
                  <a:pt x="12383" y="8715"/>
                </a:cubicBezTo>
                <a:cubicBezTo>
                  <a:pt x="12870" y="8778"/>
                  <a:pt x="13389" y="8715"/>
                  <a:pt x="13883" y="871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4"/>
          <p:cNvSpPr/>
          <p:nvPr/>
        </p:nvSpPr>
        <p:spPr>
          <a:xfrm>
            <a:off x="2836800" y="3060720"/>
            <a:ext cx="412920" cy="7920"/>
          </a:xfrm>
          <a:custGeom>
            <a:avLst/>
            <a:gdLst/>
            <a:ahLst/>
            <a:rect l="l" t="t" r="r" b="b"/>
            <a:pathLst>
              <a:path w="1144" h="25">
                <a:moveTo>
                  <a:pt x="7882" y="8525"/>
                </a:moveTo>
                <a:cubicBezTo>
                  <a:pt x="7925" y="8514"/>
                  <a:pt x="7949" y="8501"/>
                  <a:pt x="8001" y="8501"/>
                </a:cubicBezTo>
                <a:cubicBezTo>
                  <a:pt x="8184" y="8501"/>
                  <a:pt x="8382" y="8491"/>
                  <a:pt x="8549" y="8525"/>
                </a:cubicBezTo>
                <a:cubicBezTo>
                  <a:pt x="8693" y="8554"/>
                  <a:pt x="8877" y="8525"/>
                  <a:pt x="9025" y="852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5"/>
          <p:cNvSpPr/>
          <p:nvPr/>
        </p:nvSpPr>
        <p:spPr>
          <a:xfrm>
            <a:off x="789120" y="4192560"/>
            <a:ext cx="4192560" cy="68400"/>
          </a:xfrm>
          <a:custGeom>
            <a:avLst/>
            <a:gdLst/>
            <a:ahLst/>
            <a:rect l="l" t="t" r="r" b="b"/>
            <a:pathLst>
              <a:path w="11645" h="192">
                <a:moveTo>
                  <a:pt x="2191" y="11835"/>
                </a:moveTo>
                <a:cubicBezTo>
                  <a:pt x="2251" y="11817"/>
                  <a:pt x="2219" y="11800"/>
                  <a:pt x="2286" y="11787"/>
                </a:cubicBezTo>
                <a:cubicBezTo>
                  <a:pt x="2347" y="11775"/>
                  <a:pt x="2389" y="11767"/>
                  <a:pt x="2453" y="11763"/>
                </a:cubicBezTo>
                <a:cubicBezTo>
                  <a:pt x="2563" y="11755"/>
                  <a:pt x="2707" y="11722"/>
                  <a:pt x="2810" y="11740"/>
                </a:cubicBezTo>
                <a:cubicBezTo>
                  <a:pt x="2856" y="11748"/>
                  <a:pt x="2912" y="11758"/>
                  <a:pt x="2929" y="11763"/>
                </a:cubicBezTo>
                <a:cubicBezTo>
                  <a:pt x="2945" y="11779"/>
                  <a:pt x="2961" y="11795"/>
                  <a:pt x="2977" y="11811"/>
                </a:cubicBezTo>
                <a:cubicBezTo>
                  <a:pt x="2999" y="11802"/>
                  <a:pt x="2965" y="11773"/>
                  <a:pt x="3024" y="11763"/>
                </a:cubicBezTo>
                <a:cubicBezTo>
                  <a:pt x="3071" y="11755"/>
                  <a:pt x="3091" y="11743"/>
                  <a:pt x="3119" y="11740"/>
                </a:cubicBezTo>
                <a:cubicBezTo>
                  <a:pt x="3461" y="11702"/>
                  <a:pt x="3811" y="11759"/>
                  <a:pt x="4143" y="11763"/>
                </a:cubicBezTo>
                <a:cubicBezTo>
                  <a:pt x="4369" y="11766"/>
                  <a:pt x="4645" y="11748"/>
                  <a:pt x="4834" y="11740"/>
                </a:cubicBezTo>
                <a:cubicBezTo>
                  <a:pt x="4910" y="11737"/>
                  <a:pt x="4863" y="11743"/>
                  <a:pt x="4929" y="11740"/>
                </a:cubicBezTo>
                <a:cubicBezTo>
                  <a:pt x="5336" y="11724"/>
                  <a:pt x="5773" y="11697"/>
                  <a:pt x="6167" y="11692"/>
                </a:cubicBezTo>
                <a:cubicBezTo>
                  <a:pt x="6226" y="11691"/>
                  <a:pt x="6255" y="11717"/>
                  <a:pt x="6310" y="11716"/>
                </a:cubicBezTo>
                <a:cubicBezTo>
                  <a:pt x="6519" y="11713"/>
                  <a:pt x="6723" y="11714"/>
                  <a:pt x="6929" y="11692"/>
                </a:cubicBezTo>
                <a:cubicBezTo>
                  <a:pt x="7019" y="11683"/>
                  <a:pt x="7099" y="11672"/>
                  <a:pt x="7191" y="11668"/>
                </a:cubicBezTo>
                <a:cubicBezTo>
                  <a:pt x="7475" y="11657"/>
                  <a:pt x="7782" y="11681"/>
                  <a:pt x="8049" y="11692"/>
                </a:cubicBezTo>
                <a:cubicBezTo>
                  <a:pt x="8318" y="11703"/>
                  <a:pt x="8603" y="11706"/>
                  <a:pt x="8858" y="11716"/>
                </a:cubicBezTo>
                <a:cubicBezTo>
                  <a:pt x="9208" y="11729"/>
                  <a:pt x="9562" y="11704"/>
                  <a:pt x="9906" y="11692"/>
                </a:cubicBezTo>
                <a:cubicBezTo>
                  <a:pt x="10194" y="11682"/>
                  <a:pt x="10480" y="11705"/>
                  <a:pt x="10763" y="11716"/>
                </a:cubicBezTo>
                <a:cubicBezTo>
                  <a:pt x="11060" y="11727"/>
                  <a:pt x="11331" y="11665"/>
                  <a:pt x="11621" y="11644"/>
                </a:cubicBezTo>
                <a:cubicBezTo>
                  <a:pt x="11940" y="11621"/>
                  <a:pt x="12272" y="11629"/>
                  <a:pt x="12573" y="11716"/>
                </a:cubicBezTo>
                <a:cubicBezTo>
                  <a:pt x="12689" y="11750"/>
                  <a:pt x="12713" y="11769"/>
                  <a:pt x="12835" y="11787"/>
                </a:cubicBezTo>
                <a:cubicBezTo>
                  <a:pt x="13103" y="11826"/>
                  <a:pt x="13407" y="11799"/>
                  <a:pt x="13668" y="11811"/>
                </a:cubicBezTo>
                <a:cubicBezTo>
                  <a:pt x="13724" y="11814"/>
                  <a:pt x="13779" y="11809"/>
                  <a:pt x="13835" y="1181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6"/>
          <p:cNvSpPr/>
          <p:nvPr/>
        </p:nvSpPr>
        <p:spPr>
          <a:xfrm>
            <a:off x="771480" y="5340240"/>
            <a:ext cx="4268880" cy="112680"/>
          </a:xfrm>
          <a:custGeom>
            <a:avLst/>
            <a:gdLst/>
            <a:ahLst/>
            <a:rect l="l" t="t" r="r" b="b"/>
            <a:pathLst>
              <a:path w="11860" h="311">
                <a:moveTo>
                  <a:pt x="2143" y="15145"/>
                </a:moveTo>
                <a:cubicBezTo>
                  <a:pt x="2152" y="15142"/>
                  <a:pt x="2204" y="15130"/>
                  <a:pt x="2238" y="15121"/>
                </a:cubicBezTo>
                <a:cubicBezTo>
                  <a:pt x="2245" y="15119"/>
                  <a:pt x="2297" y="15080"/>
                  <a:pt x="2334" y="15073"/>
                </a:cubicBezTo>
                <a:cubicBezTo>
                  <a:pt x="2385" y="15063"/>
                  <a:pt x="2427" y="15056"/>
                  <a:pt x="2477" y="15050"/>
                </a:cubicBezTo>
                <a:cubicBezTo>
                  <a:pt x="2823" y="15012"/>
                  <a:pt x="3219" y="15040"/>
                  <a:pt x="3548" y="15097"/>
                </a:cubicBezTo>
                <a:cubicBezTo>
                  <a:pt x="3591" y="15105"/>
                  <a:pt x="3611" y="15119"/>
                  <a:pt x="3667" y="15121"/>
                </a:cubicBezTo>
                <a:cubicBezTo>
                  <a:pt x="3754" y="15123"/>
                  <a:pt x="3823" y="15099"/>
                  <a:pt x="3905" y="15097"/>
                </a:cubicBezTo>
                <a:cubicBezTo>
                  <a:pt x="4289" y="15086"/>
                  <a:pt x="4667" y="15116"/>
                  <a:pt x="5048" y="15121"/>
                </a:cubicBezTo>
                <a:cubicBezTo>
                  <a:pt x="5860" y="15132"/>
                  <a:pt x="6666" y="15121"/>
                  <a:pt x="7453" y="15121"/>
                </a:cubicBezTo>
                <a:cubicBezTo>
                  <a:pt x="7549" y="15121"/>
                  <a:pt x="7629" y="15107"/>
                  <a:pt x="7715" y="15097"/>
                </a:cubicBezTo>
                <a:cubicBezTo>
                  <a:pt x="7784" y="15089"/>
                  <a:pt x="7814" y="15081"/>
                  <a:pt x="7882" y="15073"/>
                </a:cubicBezTo>
                <a:cubicBezTo>
                  <a:pt x="7932" y="15067"/>
                  <a:pt x="7973" y="15054"/>
                  <a:pt x="8025" y="15050"/>
                </a:cubicBezTo>
                <a:cubicBezTo>
                  <a:pt x="8233" y="15036"/>
                  <a:pt x="8474" y="15005"/>
                  <a:pt x="8668" y="15002"/>
                </a:cubicBezTo>
                <a:cubicBezTo>
                  <a:pt x="8706" y="15001"/>
                  <a:pt x="8719" y="15027"/>
                  <a:pt x="8763" y="15026"/>
                </a:cubicBezTo>
                <a:cubicBezTo>
                  <a:pt x="9144" y="15021"/>
                  <a:pt x="9548" y="15080"/>
                  <a:pt x="9906" y="15026"/>
                </a:cubicBezTo>
                <a:cubicBezTo>
                  <a:pt x="10005" y="15011"/>
                  <a:pt x="10126" y="14961"/>
                  <a:pt x="10216" y="14954"/>
                </a:cubicBezTo>
                <a:cubicBezTo>
                  <a:pt x="10350" y="14943"/>
                  <a:pt x="10458" y="14976"/>
                  <a:pt x="10573" y="15002"/>
                </a:cubicBezTo>
                <a:cubicBezTo>
                  <a:pt x="10665" y="15023"/>
                  <a:pt x="10578" y="15058"/>
                  <a:pt x="10692" y="15050"/>
                </a:cubicBezTo>
                <a:cubicBezTo>
                  <a:pt x="10807" y="15042"/>
                  <a:pt x="10917" y="14981"/>
                  <a:pt x="11025" y="14954"/>
                </a:cubicBezTo>
                <a:cubicBezTo>
                  <a:pt x="11120" y="14931"/>
                  <a:pt x="11214" y="14920"/>
                  <a:pt x="11311" y="14907"/>
                </a:cubicBezTo>
                <a:cubicBezTo>
                  <a:pt x="11485" y="14884"/>
                  <a:pt x="11655" y="14883"/>
                  <a:pt x="11835" y="14883"/>
                </a:cubicBezTo>
                <a:cubicBezTo>
                  <a:pt x="11987" y="14883"/>
                  <a:pt x="12199" y="14812"/>
                  <a:pt x="12335" y="14835"/>
                </a:cubicBezTo>
                <a:cubicBezTo>
                  <a:pt x="12377" y="14842"/>
                  <a:pt x="12363" y="14901"/>
                  <a:pt x="12406" y="14907"/>
                </a:cubicBezTo>
                <a:cubicBezTo>
                  <a:pt x="12546" y="14911"/>
                  <a:pt x="12672" y="14925"/>
                  <a:pt x="12811" y="14930"/>
                </a:cubicBezTo>
                <a:cubicBezTo>
                  <a:pt x="12901" y="14933"/>
                  <a:pt x="12997" y="14946"/>
                  <a:pt x="13073" y="14954"/>
                </a:cubicBezTo>
                <a:cubicBezTo>
                  <a:pt x="13107" y="14958"/>
                  <a:pt x="13133" y="14973"/>
                  <a:pt x="13192" y="14978"/>
                </a:cubicBezTo>
                <a:cubicBezTo>
                  <a:pt x="13358" y="14991"/>
                  <a:pt x="13591" y="14988"/>
                  <a:pt x="13716" y="15002"/>
                </a:cubicBezTo>
                <a:cubicBezTo>
                  <a:pt x="13802" y="15012"/>
                  <a:pt x="13873" y="15018"/>
                  <a:pt x="13954" y="15026"/>
                </a:cubicBezTo>
                <a:cubicBezTo>
                  <a:pt x="13978" y="15026"/>
                  <a:pt x="13986" y="15026"/>
                  <a:pt x="14002" y="1502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7"/>
          <p:cNvSpPr/>
          <p:nvPr/>
        </p:nvSpPr>
        <p:spPr>
          <a:xfrm>
            <a:off x="2854440" y="1979640"/>
            <a:ext cx="77760" cy="4587840"/>
          </a:xfrm>
          <a:custGeom>
            <a:avLst/>
            <a:gdLst/>
            <a:ahLst/>
            <a:rect l="l" t="t" r="r" b="b"/>
            <a:pathLst>
              <a:path w="215" h="12740">
                <a:moveTo>
                  <a:pt x="7977" y="5501"/>
                </a:moveTo>
                <a:cubicBezTo>
                  <a:pt x="7977" y="5667"/>
                  <a:pt x="8014" y="5839"/>
                  <a:pt x="8025" y="5977"/>
                </a:cubicBezTo>
                <a:cubicBezTo>
                  <a:pt x="8043" y="6215"/>
                  <a:pt x="8046" y="6455"/>
                  <a:pt x="8049" y="6691"/>
                </a:cubicBezTo>
                <a:cubicBezTo>
                  <a:pt x="8054" y="7102"/>
                  <a:pt x="8140" y="7516"/>
                  <a:pt x="8144" y="7906"/>
                </a:cubicBezTo>
                <a:cubicBezTo>
                  <a:pt x="8145" y="7987"/>
                  <a:pt x="8132" y="8044"/>
                  <a:pt x="8120" y="8120"/>
                </a:cubicBezTo>
                <a:cubicBezTo>
                  <a:pt x="8105" y="8215"/>
                  <a:pt x="8058" y="8305"/>
                  <a:pt x="8049" y="8406"/>
                </a:cubicBezTo>
                <a:cubicBezTo>
                  <a:pt x="7992" y="9043"/>
                  <a:pt x="8025" y="9721"/>
                  <a:pt x="8025" y="10358"/>
                </a:cubicBezTo>
                <a:cubicBezTo>
                  <a:pt x="8025" y="10840"/>
                  <a:pt x="8009" y="11314"/>
                  <a:pt x="7977" y="11787"/>
                </a:cubicBezTo>
                <a:cubicBezTo>
                  <a:pt x="7958" y="12075"/>
                  <a:pt x="7962" y="12383"/>
                  <a:pt x="7953" y="12668"/>
                </a:cubicBezTo>
                <a:cubicBezTo>
                  <a:pt x="7927" y="13457"/>
                  <a:pt x="7962" y="14248"/>
                  <a:pt x="7953" y="15026"/>
                </a:cubicBezTo>
                <a:cubicBezTo>
                  <a:pt x="7944" y="15811"/>
                  <a:pt x="7955" y="16606"/>
                  <a:pt x="7930" y="17383"/>
                </a:cubicBezTo>
                <a:cubicBezTo>
                  <a:pt x="7921" y="17668"/>
                  <a:pt x="7930" y="17955"/>
                  <a:pt x="7930" y="182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8"/>
          <p:cNvSpPr/>
          <p:nvPr/>
        </p:nvSpPr>
        <p:spPr>
          <a:xfrm>
            <a:off x="2889360" y="1979640"/>
            <a:ext cx="68040" cy="4613400"/>
          </a:xfrm>
          <a:custGeom>
            <a:avLst/>
            <a:gdLst/>
            <a:ahLst/>
            <a:rect l="l" t="t" r="r" b="b"/>
            <a:pathLst>
              <a:path w="191" h="12812">
                <a:moveTo>
                  <a:pt x="8072" y="5525"/>
                </a:moveTo>
                <a:cubicBezTo>
                  <a:pt x="8072" y="5565"/>
                  <a:pt x="8072" y="5556"/>
                  <a:pt x="8072" y="5596"/>
                </a:cubicBezTo>
                <a:cubicBezTo>
                  <a:pt x="8072" y="6096"/>
                  <a:pt x="8117" y="6604"/>
                  <a:pt x="8096" y="7096"/>
                </a:cubicBezTo>
                <a:cubicBezTo>
                  <a:pt x="8089" y="7251"/>
                  <a:pt x="8064" y="7410"/>
                  <a:pt x="8072" y="7572"/>
                </a:cubicBezTo>
                <a:cubicBezTo>
                  <a:pt x="8077" y="7677"/>
                  <a:pt x="8113" y="7765"/>
                  <a:pt x="8120" y="7858"/>
                </a:cubicBezTo>
                <a:cubicBezTo>
                  <a:pt x="8145" y="8204"/>
                  <a:pt x="8151" y="8593"/>
                  <a:pt x="8144" y="8930"/>
                </a:cubicBezTo>
                <a:cubicBezTo>
                  <a:pt x="8141" y="9051"/>
                  <a:pt x="8123" y="9166"/>
                  <a:pt x="8120" y="9287"/>
                </a:cubicBezTo>
                <a:cubicBezTo>
                  <a:pt x="8109" y="9725"/>
                  <a:pt x="8152" y="10246"/>
                  <a:pt x="8144" y="10644"/>
                </a:cubicBezTo>
                <a:cubicBezTo>
                  <a:pt x="8141" y="10789"/>
                  <a:pt x="8120" y="10925"/>
                  <a:pt x="8120" y="11073"/>
                </a:cubicBezTo>
                <a:cubicBezTo>
                  <a:pt x="8120" y="11296"/>
                  <a:pt x="8104" y="11526"/>
                  <a:pt x="8096" y="11740"/>
                </a:cubicBezTo>
                <a:cubicBezTo>
                  <a:pt x="8091" y="11881"/>
                  <a:pt x="8077" y="12035"/>
                  <a:pt x="8072" y="12168"/>
                </a:cubicBezTo>
                <a:cubicBezTo>
                  <a:pt x="8060" y="12495"/>
                  <a:pt x="8035" y="12845"/>
                  <a:pt x="8049" y="13168"/>
                </a:cubicBezTo>
                <a:cubicBezTo>
                  <a:pt x="8053" y="13252"/>
                  <a:pt x="8078" y="13352"/>
                  <a:pt x="8072" y="13430"/>
                </a:cubicBezTo>
                <a:cubicBezTo>
                  <a:pt x="8059" y="13608"/>
                  <a:pt x="8029" y="13773"/>
                  <a:pt x="8025" y="13954"/>
                </a:cubicBezTo>
                <a:cubicBezTo>
                  <a:pt x="8018" y="14254"/>
                  <a:pt x="8041" y="14627"/>
                  <a:pt x="8049" y="14883"/>
                </a:cubicBezTo>
                <a:cubicBezTo>
                  <a:pt x="8057" y="15134"/>
                  <a:pt x="8029" y="15357"/>
                  <a:pt x="8120" y="15597"/>
                </a:cubicBezTo>
                <a:cubicBezTo>
                  <a:pt x="8147" y="15668"/>
                  <a:pt x="8215" y="15728"/>
                  <a:pt x="8215" y="15788"/>
                </a:cubicBezTo>
                <a:cubicBezTo>
                  <a:pt x="8215" y="15902"/>
                  <a:pt x="8135" y="16096"/>
                  <a:pt x="8120" y="16216"/>
                </a:cubicBezTo>
                <a:cubicBezTo>
                  <a:pt x="8107" y="16319"/>
                  <a:pt x="8082" y="16426"/>
                  <a:pt x="8072" y="16526"/>
                </a:cubicBezTo>
                <a:cubicBezTo>
                  <a:pt x="8060" y="16647"/>
                  <a:pt x="8054" y="16760"/>
                  <a:pt x="8049" y="16883"/>
                </a:cubicBezTo>
                <a:cubicBezTo>
                  <a:pt x="8039" y="17146"/>
                  <a:pt x="8028" y="17408"/>
                  <a:pt x="8025" y="17669"/>
                </a:cubicBezTo>
                <a:cubicBezTo>
                  <a:pt x="8023" y="17852"/>
                  <a:pt x="8025" y="18192"/>
                  <a:pt x="8025" y="18288"/>
                </a:cubicBezTo>
                <a:cubicBezTo>
                  <a:pt x="8025" y="18280"/>
                  <a:pt x="8025" y="18272"/>
                  <a:pt x="8025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9"/>
          <p:cNvSpPr/>
          <p:nvPr/>
        </p:nvSpPr>
        <p:spPr>
          <a:xfrm>
            <a:off x="2717640" y="1996920"/>
            <a:ext cx="163800" cy="4578480"/>
          </a:xfrm>
          <a:custGeom>
            <a:avLst/>
            <a:gdLst/>
            <a:ahLst/>
            <a:rect l="l" t="t" r="r" b="b"/>
            <a:pathLst>
              <a:path w="453" h="12717">
                <a:moveTo>
                  <a:pt x="7882" y="5548"/>
                </a:moveTo>
                <a:cubicBezTo>
                  <a:pt x="7882" y="5897"/>
                  <a:pt x="7823" y="6232"/>
                  <a:pt x="7834" y="6572"/>
                </a:cubicBezTo>
                <a:cubicBezTo>
                  <a:pt x="7838" y="6683"/>
                  <a:pt x="7875" y="6787"/>
                  <a:pt x="7882" y="6882"/>
                </a:cubicBezTo>
                <a:cubicBezTo>
                  <a:pt x="7892" y="7016"/>
                  <a:pt x="7879" y="7153"/>
                  <a:pt x="7882" y="7287"/>
                </a:cubicBezTo>
                <a:cubicBezTo>
                  <a:pt x="7882" y="7232"/>
                  <a:pt x="7882" y="7318"/>
                  <a:pt x="7882" y="7263"/>
                </a:cubicBezTo>
                <a:cubicBezTo>
                  <a:pt x="7882" y="7010"/>
                  <a:pt x="7941" y="6809"/>
                  <a:pt x="7977" y="6572"/>
                </a:cubicBezTo>
                <a:cubicBezTo>
                  <a:pt x="7986" y="6510"/>
                  <a:pt x="7966" y="6491"/>
                  <a:pt x="7977" y="6429"/>
                </a:cubicBezTo>
                <a:cubicBezTo>
                  <a:pt x="7973" y="6581"/>
                  <a:pt x="7958" y="6712"/>
                  <a:pt x="7953" y="6858"/>
                </a:cubicBezTo>
                <a:cubicBezTo>
                  <a:pt x="7940" y="7207"/>
                  <a:pt x="7934" y="7560"/>
                  <a:pt x="7930" y="7906"/>
                </a:cubicBezTo>
                <a:cubicBezTo>
                  <a:pt x="7929" y="7969"/>
                  <a:pt x="7930" y="8033"/>
                  <a:pt x="7930" y="8096"/>
                </a:cubicBezTo>
                <a:cubicBezTo>
                  <a:pt x="7930" y="8064"/>
                  <a:pt x="7930" y="8176"/>
                  <a:pt x="7930" y="8144"/>
                </a:cubicBezTo>
                <a:cubicBezTo>
                  <a:pt x="7930" y="7918"/>
                  <a:pt x="7921" y="7667"/>
                  <a:pt x="7906" y="7477"/>
                </a:cubicBezTo>
                <a:cubicBezTo>
                  <a:pt x="7904" y="7454"/>
                  <a:pt x="7909" y="7476"/>
                  <a:pt x="7906" y="7453"/>
                </a:cubicBezTo>
                <a:cubicBezTo>
                  <a:pt x="7906" y="7735"/>
                  <a:pt x="7928" y="8046"/>
                  <a:pt x="7882" y="8311"/>
                </a:cubicBezTo>
                <a:cubicBezTo>
                  <a:pt x="7867" y="8397"/>
                  <a:pt x="7819" y="8482"/>
                  <a:pt x="7811" y="8573"/>
                </a:cubicBezTo>
                <a:cubicBezTo>
                  <a:pt x="7785" y="8867"/>
                  <a:pt x="7825" y="9244"/>
                  <a:pt x="7834" y="9501"/>
                </a:cubicBezTo>
                <a:cubicBezTo>
                  <a:pt x="7847" y="9898"/>
                  <a:pt x="7803" y="10278"/>
                  <a:pt x="7787" y="10668"/>
                </a:cubicBezTo>
                <a:cubicBezTo>
                  <a:pt x="7776" y="10929"/>
                  <a:pt x="7787" y="11193"/>
                  <a:pt x="7787" y="11454"/>
                </a:cubicBezTo>
                <a:cubicBezTo>
                  <a:pt x="7787" y="11454"/>
                  <a:pt x="7803" y="11363"/>
                  <a:pt x="7811" y="11335"/>
                </a:cubicBezTo>
                <a:cubicBezTo>
                  <a:pt x="7868" y="11136"/>
                  <a:pt x="7884" y="10967"/>
                  <a:pt x="7906" y="10763"/>
                </a:cubicBezTo>
                <a:cubicBezTo>
                  <a:pt x="7915" y="10682"/>
                  <a:pt x="7926" y="10607"/>
                  <a:pt x="7930" y="10525"/>
                </a:cubicBezTo>
                <a:cubicBezTo>
                  <a:pt x="7946" y="10157"/>
                  <a:pt x="7949" y="9828"/>
                  <a:pt x="7953" y="9477"/>
                </a:cubicBezTo>
                <a:cubicBezTo>
                  <a:pt x="7954" y="9354"/>
                  <a:pt x="7994" y="9213"/>
                  <a:pt x="8001" y="9120"/>
                </a:cubicBezTo>
                <a:cubicBezTo>
                  <a:pt x="8008" y="9025"/>
                  <a:pt x="7995" y="8977"/>
                  <a:pt x="8001" y="8882"/>
                </a:cubicBezTo>
                <a:cubicBezTo>
                  <a:pt x="7983" y="9128"/>
                  <a:pt x="7977" y="9371"/>
                  <a:pt x="7977" y="9620"/>
                </a:cubicBezTo>
                <a:cubicBezTo>
                  <a:pt x="7977" y="9805"/>
                  <a:pt x="8015" y="10041"/>
                  <a:pt x="8001" y="10216"/>
                </a:cubicBezTo>
                <a:cubicBezTo>
                  <a:pt x="7993" y="10322"/>
                  <a:pt x="7959" y="10415"/>
                  <a:pt x="7953" y="10525"/>
                </a:cubicBezTo>
                <a:cubicBezTo>
                  <a:pt x="7925" y="11025"/>
                  <a:pt x="7941" y="11531"/>
                  <a:pt x="7906" y="12025"/>
                </a:cubicBezTo>
                <a:cubicBezTo>
                  <a:pt x="7879" y="12405"/>
                  <a:pt x="7833" y="12893"/>
                  <a:pt x="7882" y="13264"/>
                </a:cubicBezTo>
                <a:cubicBezTo>
                  <a:pt x="7891" y="13329"/>
                  <a:pt x="7929" y="13422"/>
                  <a:pt x="7930" y="13478"/>
                </a:cubicBezTo>
                <a:cubicBezTo>
                  <a:pt x="7932" y="13683"/>
                  <a:pt x="7908" y="13890"/>
                  <a:pt x="7906" y="14097"/>
                </a:cubicBezTo>
                <a:cubicBezTo>
                  <a:pt x="7903" y="14387"/>
                  <a:pt x="7871" y="14666"/>
                  <a:pt x="7858" y="14954"/>
                </a:cubicBezTo>
                <a:cubicBezTo>
                  <a:pt x="7851" y="15106"/>
                  <a:pt x="7839" y="15259"/>
                  <a:pt x="7834" y="15407"/>
                </a:cubicBezTo>
                <a:cubicBezTo>
                  <a:pt x="7829" y="15571"/>
                  <a:pt x="7861" y="15753"/>
                  <a:pt x="7858" y="15907"/>
                </a:cubicBezTo>
                <a:cubicBezTo>
                  <a:pt x="7856" y="16005"/>
                  <a:pt x="7836" y="16094"/>
                  <a:pt x="7834" y="16193"/>
                </a:cubicBezTo>
                <a:cubicBezTo>
                  <a:pt x="7831" y="16340"/>
                  <a:pt x="7853" y="16516"/>
                  <a:pt x="7858" y="16645"/>
                </a:cubicBezTo>
                <a:cubicBezTo>
                  <a:pt x="7867" y="16909"/>
                  <a:pt x="7858" y="17171"/>
                  <a:pt x="7834" y="17431"/>
                </a:cubicBezTo>
                <a:cubicBezTo>
                  <a:pt x="7825" y="17528"/>
                  <a:pt x="7816" y="17618"/>
                  <a:pt x="7811" y="17717"/>
                </a:cubicBezTo>
                <a:cubicBezTo>
                  <a:pt x="7804" y="17874"/>
                  <a:pt x="7811" y="18166"/>
                  <a:pt x="7811" y="18240"/>
                </a:cubicBezTo>
                <a:cubicBezTo>
                  <a:pt x="7811" y="17971"/>
                  <a:pt x="7900" y="17625"/>
                  <a:pt x="7882" y="17383"/>
                </a:cubicBezTo>
                <a:cubicBezTo>
                  <a:pt x="7877" y="17321"/>
                  <a:pt x="7845" y="17313"/>
                  <a:pt x="7834" y="17240"/>
                </a:cubicBezTo>
                <a:cubicBezTo>
                  <a:pt x="7822" y="17159"/>
                  <a:pt x="7777" y="17080"/>
                  <a:pt x="7763" y="17002"/>
                </a:cubicBezTo>
                <a:cubicBezTo>
                  <a:pt x="7722" y="16774"/>
                  <a:pt x="7728" y="16516"/>
                  <a:pt x="7763" y="16288"/>
                </a:cubicBezTo>
                <a:cubicBezTo>
                  <a:pt x="7775" y="16213"/>
                  <a:pt x="7805" y="16152"/>
                  <a:pt x="7811" y="16073"/>
                </a:cubicBezTo>
                <a:cubicBezTo>
                  <a:pt x="7833" y="15806"/>
                  <a:pt x="7845" y="15493"/>
                  <a:pt x="7834" y="15240"/>
                </a:cubicBezTo>
                <a:cubicBezTo>
                  <a:pt x="7827" y="15069"/>
                  <a:pt x="7813" y="14892"/>
                  <a:pt x="7811" y="14716"/>
                </a:cubicBezTo>
                <a:cubicBezTo>
                  <a:pt x="7809" y="14541"/>
                  <a:pt x="7856" y="14387"/>
                  <a:pt x="7858" y="14216"/>
                </a:cubicBezTo>
                <a:cubicBezTo>
                  <a:pt x="7861" y="13920"/>
                  <a:pt x="7863" y="13624"/>
                  <a:pt x="7882" y="13335"/>
                </a:cubicBezTo>
                <a:cubicBezTo>
                  <a:pt x="7905" y="12972"/>
                  <a:pt x="7956" y="12587"/>
                  <a:pt x="7977" y="12240"/>
                </a:cubicBezTo>
                <a:cubicBezTo>
                  <a:pt x="7982" y="12162"/>
                  <a:pt x="7951" y="12043"/>
                  <a:pt x="7953" y="11954"/>
                </a:cubicBezTo>
                <a:cubicBezTo>
                  <a:pt x="7953" y="11827"/>
                  <a:pt x="7953" y="11795"/>
                  <a:pt x="7953" y="11716"/>
                </a:cubicBezTo>
                <a:cubicBezTo>
                  <a:pt x="7921" y="11780"/>
                  <a:pt x="7890" y="11841"/>
                  <a:pt x="7858" y="11906"/>
                </a:cubicBezTo>
                <a:cubicBezTo>
                  <a:pt x="7832" y="11958"/>
                  <a:pt x="7825" y="11968"/>
                  <a:pt x="7811" y="12002"/>
                </a:cubicBezTo>
                <a:cubicBezTo>
                  <a:pt x="7803" y="11954"/>
                  <a:pt x="7766" y="11885"/>
                  <a:pt x="7763" y="11835"/>
                </a:cubicBezTo>
                <a:cubicBezTo>
                  <a:pt x="7755" y="11721"/>
                  <a:pt x="7782" y="11599"/>
                  <a:pt x="7787" y="11501"/>
                </a:cubicBezTo>
                <a:cubicBezTo>
                  <a:pt x="7787" y="11493"/>
                  <a:pt x="7787" y="11486"/>
                  <a:pt x="7787" y="11478"/>
                </a:cubicBezTo>
                <a:cubicBezTo>
                  <a:pt x="7787" y="11833"/>
                  <a:pt x="7812" y="12201"/>
                  <a:pt x="7763" y="12549"/>
                </a:cubicBezTo>
                <a:cubicBezTo>
                  <a:pt x="7744" y="12685"/>
                  <a:pt x="7723" y="12814"/>
                  <a:pt x="7715" y="12954"/>
                </a:cubicBezTo>
                <a:cubicBezTo>
                  <a:pt x="7702" y="13185"/>
                  <a:pt x="7699" y="13417"/>
                  <a:pt x="7691" y="13645"/>
                </a:cubicBezTo>
                <a:cubicBezTo>
                  <a:pt x="7685" y="13822"/>
                  <a:pt x="7669" y="13952"/>
                  <a:pt x="7644" y="14121"/>
                </a:cubicBezTo>
                <a:cubicBezTo>
                  <a:pt x="7613" y="14327"/>
                  <a:pt x="7583" y="14533"/>
                  <a:pt x="7572" y="14740"/>
                </a:cubicBezTo>
                <a:cubicBezTo>
                  <a:pt x="7567" y="14835"/>
                  <a:pt x="7601" y="14974"/>
                  <a:pt x="7596" y="15050"/>
                </a:cubicBezTo>
                <a:cubicBezTo>
                  <a:pt x="7590" y="15128"/>
                  <a:pt x="7552" y="15241"/>
                  <a:pt x="7549" y="15335"/>
                </a:cubicBezTo>
                <a:cubicBezTo>
                  <a:pt x="7542" y="15544"/>
                  <a:pt x="7586" y="15777"/>
                  <a:pt x="7596" y="15954"/>
                </a:cubicBezTo>
                <a:cubicBezTo>
                  <a:pt x="7612" y="16235"/>
                  <a:pt x="7655" y="16560"/>
                  <a:pt x="7644" y="16835"/>
                </a:cubicBezTo>
                <a:cubicBezTo>
                  <a:pt x="7640" y="16925"/>
                  <a:pt x="7614" y="16992"/>
                  <a:pt x="7596" y="17097"/>
                </a:cubicBezTo>
                <a:cubicBezTo>
                  <a:pt x="7538" y="17438"/>
                  <a:pt x="7553" y="17765"/>
                  <a:pt x="7572" y="18098"/>
                </a:cubicBezTo>
                <a:cubicBezTo>
                  <a:pt x="7573" y="18122"/>
                  <a:pt x="7570" y="18145"/>
                  <a:pt x="7572" y="1816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10"/>
          <p:cNvSpPr/>
          <p:nvPr/>
        </p:nvSpPr>
        <p:spPr>
          <a:xfrm>
            <a:off x="2863800" y="3968640"/>
            <a:ext cx="119160" cy="2614680"/>
          </a:xfrm>
          <a:custGeom>
            <a:avLst/>
            <a:gdLst/>
            <a:ahLst/>
            <a:rect l="l" t="t" r="r" b="b"/>
            <a:pathLst>
              <a:path w="335" h="7264">
                <a:moveTo>
                  <a:pt x="8192" y="11049"/>
                </a:moveTo>
                <a:cubicBezTo>
                  <a:pt x="8156" y="11040"/>
                  <a:pt x="8159" y="11033"/>
                  <a:pt x="8144" y="11025"/>
                </a:cubicBezTo>
                <a:cubicBezTo>
                  <a:pt x="8148" y="11117"/>
                  <a:pt x="8162" y="11196"/>
                  <a:pt x="8168" y="11287"/>
                </a:cubicBezTo>
                <a:cubicBezTo>
                  <a:pt x="8181" y="11488"/>
                  <a:pt x="8154" y="11690"/>
                  <a:pt x="8144" y="11882"/>
                </a:cubicBezTo>
                <a:cubicBezTo>
                  <a:pt x="8131" y="12122"/>
                  <a:pt x="8161" y="12362"/>
                  <a:pt x="8120" y="12597"/>
                </a:cubicBezTo>
                <a:cubicBezTo>
                  <a:pt x="8104" y="12686"/>
                  <a:pt x="8098" y="12767"/>
                  <a:pt x="8096" y="12859"/>
                </a:cubicBezTo>
                <a:cubicBezTo>
                  <a:pt x="8090" y="13146"/>
                  <a:pt x="8116" y="13473"/>
                  <a:pt x="8144" y="13716"/>
                </a:cubicBezTo>
                <a:cubicBezTo>
                  <a:pt x="8155" y="13814"/>
                  <a:pt x="8125" y="13906"/>
                  <a:pt x="8120" y="14002"/>
                </a:cubicBezTo>
                <a:cubicBezTo>
                  <a:pt x="8111" y="14176"/>
                  <a:pt x="8105" y="14354"/>
                  <a:pt x="8096" y="14526"/>
                </a:cubicBezTo>
                <a:cubicBezTo>
                  <a:pt x="8088" y="14691"/>
                  <a:pt x="8112" y="14878"/>
                  <a:pt x="8120" y="15026"/>
                </a:cubicBezTo>
                <a:cubicBezTo>
                  <a:pt x="8126" y="15133"/>
                  <a:pt x="8102" y="15230"/>
                  <a:pt x="8096" y="15335"/>
                </a:cubicBezTo>
                <a:cubicBezTo>
                  <a:pt x="8079" y="15650"/>
                  <a:pt x="8115" y="15962"/>
                  <a:pt x="8049" y="16264"/>
                </a:cubicBezTo>
                <a:cubicBezTo>
                  <a:pt x="8000" y="16489"/>
                  <a:pt x="7958" y="16726"/>
                  <a:pt x="7953" y="16955"/>
                </a:cubicBezTo>
                <a:cubicBezTo>
                  <a:pt x="7944" y="17357"/>
                  <a:pt x="7885" y="17852"/>
                  <a:pt x="7977" y="18240"/>
                </a:cubicBezTo>
                <a:cubicBezTo>
                  <a:pt x="7985" y="18256"/>
                  <a:pt x="7993" y="18272"/>
                  <a:pt x="8001" y="18288"/>
                </a:cubicBezTo>
                <a:cubicBezTo>
                  <a:pt x="8001" y="18135"/>
                  <a:pt x="8029" y="18004"/>
                  <a:pt x="8049" y="17859"/>
                </a:cubicBezTo>
                <a:cubicBezTo>
                  <a:pt x="8060" y="17779"/>
                  <a:pt x="8067" y="17701"/>
                  <a:pt x="8072" y="17621"/>
                </a:cubicBezTo>
                <a:cubicBezTo>
                  <a:pt x="8080" y="17496"/>
                  <a:pt x="8089" y="17352"/>
                  <a:pt x="8096" y="17240"/>
                </a:cubicBezTo>
                <a:cubicBezTo>
                  <a:pt x="8099" y="17196"/>
                  <a:pt x="8144" y="17102"/>
                  <a:pt x="8144" y="17097"/>
                </a:cubicBezTo>
                <a:cubicBezTo>
                  <a:pt x="8146" y="17038"/>
                  <a:pt x="8121" y="16992"/>
                  <a:pt x="8120" y="16931"/>
                </a:cubicBezTo>
                <a:cubicBezTo>
                  <a:pt x="8118" y="16828"/>
                  <a:pt x="8107" y="16687"/>
                  <a:pt x="8096" y="16621"/>
                </a:cubicBezTo>
                <a:cubicBezTo>
                  <a:pt x="8096" y="17186"/>
                  <a:pt x="8087" y="18781"/>
                  <a:pt x="8120" y="18217"/>
                </a:cubicBezTo>
                <a:cubicBezTo>
                  <a:pt x="8128" y="18086"/>
                  <a:pt x="8115" y="17961"/>
                  <a:pt x="8144" y="17836"/>
                </a:cubicBezTo>
                <a:cubicBezTo>
                  <a:pt x="8163" y="17756"/>
                  <a:pt x="8201" y="17622"/>
                  <a:pt x="8239" y="17550"/>
                </a:cubicBezTo>
                <a:cubicBezTo>
                  <a:pt x="8259" y="17511"/>
                  <a:pt x="8257" y="17495"/>
                  <a:pt x="8287" y="17502"/>
                </a:cubicBezTo>
                <a:cubicBezTo>
                  <a:pt x="8274" y="17483"/>
                  <a:pt x="8235" y="17438"/>
                  <a:pt x="8215" y="17407"/>
                </a:cubicBezTo>
                <a:cubicBezTo>
                  <a:pt x="8194" y="17375"/>
                  <a:pt x="8156" y="17324"/>
                  <a:pt x="8144" y="17288"/>
                </a:cubicBezTo>
                <a:cubicBezTo>
                  <a:pt x="8133" y="17257"/>
                  <a:pt x="8132" y="17224"/>
                  <a:pt x="8120" y="17193"/>
                </a:cubicBezTo>
                <a:cubicBezTo>
                  <a:pt x="8098" y="17135"/>
                  <a:pt x="8071" y="17067"/>
                  <a:pt x="8049" y="17002"/>
                </a:cubicBezTo>
                <a:cubicBezTo>
                  <a:pt x="8022" y="16924"/>
                  <a:pt x="8010" y="16848"/>
                  <a:pt x="8001" y="16764"/>
                </a:cubicBezTo>
                <a:cubicBezTo>
                  <a:pt x="7997" y="16725"/>
                  <a:pt x="8003" y="16684"/>
                  <a:pt x="8001" y="1664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11"/>
          <p:cNvSpPr/>
          <p:nvPr/>
        </p:nvSpPr>
        <p:spPr>
          <a:xfrm>
            <a:off x="2786040" y="1979640"/>
            <a:ext cx="85680" cy="1303200"/>
          </a:xfrm>
          <a:custGeom>
            <a:avLst/>
            <a:gdLst/>
            <a:ahLst/>
            <a:rect l="l" t="t" r="r" b="b"/>
            <a:pathLst>
              <a:path w="239" h="3620">
                <a:moveTo>
                  <a:pt x="7977" y="5691"/>
                </a:moveTo>
                <a:cubicBezTo>
                  <a:pt x="7977" y="5937"/>
                  <a:pt x="7977" y="6183"/>
                  <a:pt x="7977" y="6429"/>
                </a:cubicBezTo>
                <a:cubicBezTo>
                  <a:pt x="7968" y="6379"/>
                  <a:pt x="7964" y="6384"/>
                  <a:pt x="7953" y="6334"/>
                </a:cubicBezTo>
                <a:cubicBezTo>
                  <a:pt x="7939" y="6269"/>
                  <a:pt x="7939" y="6211"/>
                  <a:pt x="7930" y="6144"/>
                </a:cubicBezTo>
                <a:cubicBezTo>
                  <a:pt x="7921" y="6075"/>
                  <a:pt x="7920" y="5998"/>
                  <a:pt x="7906" y="5929"/>
                </a:cubicBezTo>
                <a:cubicBezTo>
                  <a:pt x="7899" y="5896"/>
                  <a:pt x="7871" y="5843"/>
                  <a:pt x="7858" y="5810"/>
                </a:cubicBezTo>
                <a:cubicBezTo>
                  <a:pt x="7842" y="5768"/>
                  <a:pt x="7831" y="5731"/>
                  <a:pt x="7811" y="5691"/>
                </a:cubicBezTo>
                <a:cubicBezTo>
                  <a:pt x="7807" y="5683"/>
                  <a:pt x="7775" y="5646"/>
                  <a:pt x="7763" y="5620"/>
                </a:cubicBezTo>
                <a:cubicBezTo>
                  <a:pt x="7743" y="5579"/>
                  <a:pt x="7745" y="5573"/>
                  <a:pt x="7739" y="5525"/>
                </a:cubicBezTo>
                <a:cubicBezTo>
                  <a:pt x="7739" y="5517"/>
                  <a:pt x="7739" y="5509"/>
                  <a:pt x="7739" y="5501"/>
                </a:cubicBezTo>
                <a:cubicBezTo>
                  <a:pt x="7739" y="5574"/>
                  <a:pt x="7745" y="5630"/>
                  <a:pt x="7763" y="5691"/>
                </a:cubicBezTo>
                <a:cubicBezTo>
                  <a:pt x="7775" y="5731"/>
                  <a:pt x="7784" y="5762"/>
                  <a:pt x="7787" y="5810"/>
                </a:cubicBezTo>
                <a:cubicBezTo>
                  <a:pt x="7863" y="6902"/>
                  <a:pt x="7787" y="8025"/>
                  <a:pt x="7787" y="91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Ink 12"/>
          <p:cNvSpPr/>
          <p:nvPr/>
        </p:nvSpPr>
        <p:spPr>
          <a:xfrm>
            <a:off x="2889360" y="2579760"/>
            <a:ext cx="17280" cy="523800"/>
          </a:xfrm>
          <a:custGeom>
            <a:avLst/>
            <a:gdLst/>
            <a:ahLst/>
            <a:rect l="l" t="t" r="r" b="b"/>
            <a:pathLst>
              <a:path w="48" h="1453">
                <a:moveTo>
                  <a:pt x="8025" y="7168"/>
                </a:moveTo>
                <a:cubicBezTo>
                  <a:pt x="8025" y="7291"/>
                  <a:pt x="8022" y="7409"/>
                  <a:pt x="8049" y="7525"/>
                </a:cubicBezTo>
                <a:cubicBezTo>
                  <a:pt x="8121" y="7836"/>
                  <a:pt x="7993" y="8198"/>
                  <a:pt x="8072" y="8501"/>
                </a:cubicBezTo>
                <a:cubicBezTo>
                  <a:pt x="8081" y="8535"/>
                  <a:pt x="8072" y="8584"/>
                  <a:pt x="8072" y="86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Ink 13"/>
          <p:cNvSpPr/>
          <p:nvPr/>
        </p:nvSpPr>
        <p:spPr>
          <a:xfrm>
            <a:off x="2846520" y="3051000"/>
            <a:ext cx="34920" cy="567000"/>
          </a:xfrm>
          <a:custGeom>
            <a:avLst/>
            <a:gdLst/>
            <a:ahLst/>
            <a:rect l="l" t="t" r="r" b="b"/>
            <a:pathLst>
              <a:path w="96" h="1573">
                <a:moveTo>
                  <a:pt x="7906" y="8477"/>
                </a:moveTo>
                <a:cubicBezTo>
                  <a:pt x="7906" y="8608"/>
                  <a:pt x="7912" y="8741"/>
                  <a:pt x="7930" y="8858"/>
                </a:cubicBezTo>
                <a:cubicBezTo>
                  <a:pt x="7958" y="9046"/>
                  <a:pt x="7890" y="9247"/>
                  <a:pt x="7953" y="9430"/>
                </a:cubicBezTo>
                <a:cubicBezTo>
                  <a:pt x="7971" y="9483"/>
                  <a:pt x="7994" y="9516"/>
                  <a:pt x="8001" y="9549"/>
                </a:cubicBezTo>
                <a:cubicBezTo>
                  <a:pt x="8020" y="9643"/>
                  <a:pt x="7980" y="9741"/>
                  <a:pt x="7977" y="9835"/>
                </a:cubicBezTo>
                <a:cubicBezTo>
                  <a:pt x="7974" y="9921"/>
                  <a:pt x="7982" y="10001"/>
                  <a:pt x="7953" y="1004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Ink 14"/>
          <p:cNvSpPr/>
          <p:nvPr/>
        </p:nvSpPr>
        <p:spPr>
          <a:xfrm>
            <a:off x="2793960" y="3960720"/>
            <a:ext cx="1800" cy="282600"/>
          </a:xfrm>
          <a:custGeom>
            <a:avLst/>
            <a:gdLst/>
            <a:ahLst/>
            <a:rect l="l" t="t" r="r" b="b"/>
            <a:pathLst>
              <a:path w="1" h="787">
                <a:moveTo>
                  <a:pt x="7763" y="11001"/>
                </a:moveTo>
                <a:cubicBezTo>
                  <a:pt x="7763" y="11263"/>
                  <a:pt x="7763" y="11525"/>
                  <a:pt x="7763" y="1178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15"/>
          <p:cNvSpPr/>
          <p:nvPr/>
        </p:nvSpPr>
        <p:spPr>
          <a:xfrm>
            <a:off x="2820960" y="4697280"/>
            <a:ext cx="34920" cy="1689120"/>
          </a:xfrm>
          <a:custGeom>
            <a:avLst/>
            <a:gdLst/>
            <a:ahLst/>
            <a:rect l="l" t="t" r="r" b="b"/>
            <a:pathLst>
              <a:path w="97" h="4692">
                <a:moveTo>
                  <a:pt x="7906" y="13049"/>
                </a:moveTo>
                <a:cubicBezTo>
                  <a:pt x="7898" y="13085"/>
                  <a:pt x="7885" y="13112"/>
                  <a:pt x="7882" y="13145"/>
                </a:cubicBezTo>
                <a:cubicBezTo>
                  <a:pt x="7874" y="13225"/>
                  <a:pt x="7860" y="13303"/>
                  <a:pt x="7858" y="13383"/>
                </a:cubicBezTo>
                <a:cubicBezTo>
                  <a:pt x="7854" y="13553"/>
                  <a:pt x="7847" y="13721"/>
                  <a:pt x="7834" y="13883"/>
                </a:cubicBezTo>
                <a:cubicBezTo>
                  <a:pt x="7793" y="14394"/>
                  <a:pt x="7762" y="15096"/>
                  <a:pt x="7882" y="15573"/>
                </a:cubicBezTo>
                <a:cubicBezTo>
                  <a:pt x="7903" y="15656"/>
                  <a:pt x="7904" y="15679"/>
                  <a:pt x="7906" y="15764"/>
                </a:cubicBezTo>
                <a:cubicBezTo>
                  <a:pt x="7911" y="16042"/>
                  <a:pt x="7904" y="16327"/>
                  <a:pt x="7930" y="16597"/>
                </a:cubicBezTo>
                <a:cubicBezTo>
                  <a:pt x="7936" y="16659"/>
                  <a:pt x="7917" y="16729"/>
                  <a:pt x="7906" y="16788"/>
                </a:cubicBezTo>
                <a:cubicBezTo>
                  <a:pt x="7877" y="16944"/>
                  <a:pt x="7858" y="17081"/>
                  <a:pt x="7858" y="17240"/>
                </a:cubicBezTo>
                <a:cubicBezTo>
                  <a:pt x="7858" y="17360"/>
                  <a:pt x="7890" y="17428"/>
                  <a:pt x="7906" y="17502"/>
                </a:cubicBezTo>
                <a:cubicBezTo>
                  <a:pt x="7923" y="17578"/>
                  <a:pt x="7892" y="17656"/>
                  <a:pt x="7882" y="17717"/>
                </a:cubicBezTo>
                <a:cubicBezTo>
                  <a:pt x="7882" y="17725"/>
                  <a:pt x="7882" y="17732"/>
                  <a:pt x="7882" y="177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16"/>
          <p:cNvSpPr/>
          <p:nvPr/>
        </p:nvSpPr>
        <p:spPr>
          <a:xfrm>
            <a:off x="2854440" y="6489720"/>
            <a:ext cx="17280" cy="120600"/>
          </a:xfrm>
          <a:custGeom>
            <a:avLst/>
            <a:gdLst/>
            <a:ahLst/>
            <a:rect l="l" t="t" r="r" b="b"/>
            <a:pathLst>
              <a:path w="48" h="334">
                <a:moveTo>
                  <a:pt x="7977" y="18026"/>
                </a:moveTo>
                <a:cubicBezTo>
                  <a:pt x="7977" y="18145"/>
                  <a:pt x="7977" y="18455"/>
                  <a:pt x="7977" y="18336"/>
                </a:cubicBezTo>
                <a:cubicBezTo>
                  <a:pt x="7977" y="18300"/>
                  <a:pt x="7992" y="18237"/>
                  <a:pt x="7953" y="18217"/>
                </a:cubicBezTo>
                <a:cubicBezTo>
                  <a:pt x="7945" y="18217"/>
                  <a:pt x="7938" y="18217"/>
                  <a:pt x="7930" y="18217"/>
                </a:cubicBezTo>
                <a:cubicBezTo>
                  <a:pt x="7930" y="18264"/>
                  <a:pt x="7930" y="18312"/>
                  <a:pt x="7930" y="18359"/>
                </a:cubicBezTo>
                <a:cubicBezTo>
                  <a:pt x="7930" y="18327"/>
                  <a:pt x="7930" y="18296"/>
                  <a:pt x="7930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17"/>
          <p:cNvSpPr/>
          <p:nvPr/>
        </p:nvSpPr>
        <p:spPr>
          <a:xfrm>
            <a:off x="763560" y="1903320"/>
            <a:ext cx="3694320" cy="68400"/>
          </a:xfrm>
          <a:custGeom>
            <a:avLst/>
            <a:gdLst/>
            <a:ahLst/>
            <a:rect l="l" t="t" r="r" b="b"/>
            <a:pathLst>
              <a:path w="10265" h="192">
                <a:moveTo>
                  <a:pt x="2119" y="5310"/>
                </a:moveTo>
                <a:cubicBezTo>
                  <a:pt x="2602" y="5310"/>
                  <a:pt x="3076" y="5334"/>
                  <a:pt x="3548" y="5334"/>
                </a:cubicBezTo>
                <a:cubicBezTo>
                  <a:pt x="3923" y="5334"/>
                  <a:pt x="4355" y="5341"/>
                  <a:pt x="4691" y="5358"/>
                </a:cubicBezTo>
                <a:cubicBezTo>
                  <a:pt x="4963" y="5372"/>
                  <a:pt x="5262" y="5314"/>
                  <a:pt x="5501" y="5310"/>
                </a:cubicBezTo>
                <a:cubicBezTo>
                  <a:pt x="5774" y="5305"/>
                  <a:pt x="6090" y="5322"/>
                  <a:pt x="6358" y="5310"/>
                </a:cubicBezTo>
                <a:cubicBezTo>
                  <a:pt x="7179" y="5272"/>
                  <a:pt x="8026" y="5330"/>
                  <a:pt x="8811" y="5382"/>
                </a:cubicBezTo>
                <a:cubicBezTo>
                  <a:pt x="8907" y="5388"/>
                  <a:pt x="9002" y="5369"/>
                  <a:pt x="9096" y="5358"/>
                </a:cubicBezTo>
                <a:cubicBezTo>
                  <a:pt x="9220" y="5343"/>
                  <a:pt x="9348" y="5319"/>
                  <a:pt x="9477" y="5334"/>
                </a:cubicBezTo>
                <a:cubicBezTo>
                  <a:pt x="9786" y="5370"/>
                  <a:pt x="9618" y="5362"/>
                  <a:pt x="9787" y="5358"/>
                </a:cubicBezTo>
                <a:cubicBezTo>
                  <a:pt x="9845" y="5357"/>
                  <a:pt x="9895" y="5340"/>
                  <a:pt x="9954" y="5334"/>
                </a:cubicBezTo>
                <a:cubicBezTo>
                  <a:pt x="10058" y="5323"/>
                  <a:pt x="10158" y="5316"/>
                  <a:pt x="10263" y="5310"/>
                </a:cubicBezTo>
                <a:cubicBezTo>
                  <a:pt x="10541" y="5295"/>
                  <a:pt x="10850" y="5296"/>
                  <a:pt x="11120" y="5334"/>
                </a:cubicBezTo>
                <a:cubicBezTo>
                  <a:pt x="11244" y="5351"/>
                  <a:pt x="11424" y="5479"/>
                  <a:pt x="11525" y="5477"/>
                </a:cubicBezTo>
                <a:cubicBezTo>
                  <a:pt x="11560" y="5476"/>
                  <a:pt x="11637" y="5407"/>
                  <a:pt x="11692" y="5405"/>
                </a:cubicBezTo>
                <a:cubicBezTo>
                  <a:pt x="11920" y="5395"/>
                  <a:pt x="12172" y="5408"/>
                  <a:pt x="12383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18"/>
          <p:cNvSpPr/>
          <p:nvPr/>
        </p:nvSpPr>
        <p:spPr>
          <a:xfrm>
            <a:off x="3909960" y="1886040"/>
            <a:ext cx="1079640" cy="17280"/>
          </a:xfrm>
          <a:custGeom>
            <a:avLst/>
            <a:gdLst/>
            <a:ahLst/>
            <a:rect l="l" t="t" r="r" b="b"/>
            <a:pathLst>
              <a:path w="3001" h="48">
                <a:moveTo>
                  <a:pt x="10859" y="5239"/>
                </a:moveTo>
                <a:cubicBezTo>
                  <a:pt x="10892" y="5243"/>
                  <a:pt x="10931" y="5260"/>
                  <a:pt x="10954" y="5263"/>
                </a:cubicBezTo>
                <a:cubicBezTo>
                  <a:pt x="11183" y="5293"/>
                  <a:pt x="11437" y="5263"/>
                  <a:pt x="11668" y="5263"/>
                </a:cubicBezTo>
                <a:cubicBezTo>
                  <a:pt x="11690" y="5276"/>
                  <a:pt x="11691" y="5283"/>
                  <a:pt x="11740" y="5286"/>
                </a:cubicBezTo>
                <a:cubicBezTo>
                  <a:pt x="11929" y="5297"/>
                  <a:pt x="12122" y="5286"/>
                  <a:pt x="12311" y="5286"/>
                </a:cubicBezTo>
                <a:cubicBezTo>
                  <a:pt x="12333" y="5273"/>
                  <a:pt x="12334" y="5266"/>
                  <a:pt x="12383" y="5263"/>
                </a:cubicBezTo>
                <a:cubicBezTo>
                  <a:pt x="12587" y="5251"/>
                  <a:pt x="12813" y="5255"/>
                  <a:pt x="13002" y="5286"/>
                </a:cubicBezTo>
                <a:cubicBezTo>
                  <a:pt x="13271" y="5330"/>
                  <a:pt x="13585" y="5286"/>
                  <a:pt x="13859" y="5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19"/>
          <p:cNvSpPr/>
          <p:nvPr/>
        </p:nvSpPr>
        <p:spPr>
          <a:xfrm>
            <a:off x="4964040" y="1920960"/>
            <a:ext cx="42840" cy="1440"/>
          </a:xfrm>
          <a:custGeom>
            <a:avLst/>
            <a:gdLst/>
            <a:ahLst/>
            <a:rect l="l" t="t" r="r" b="b"/>
            <a:pathLst>
              <a:path w="121" h="1">
                <a:moveTo>
                  <a:pt x="13787" y="5334"/>
                </a:moveTo>
                <a:cubicBezTo>
                  <a:pt x="13827" y="5334"/>
                  <a:pt x="13867" y="5334"/>
                  <a:pt x="13907" y="533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20"/>
          <p:cNvSpPr/>
          <p:nvPr/>
        </p:nvSpPr>
        <p:spPr>
          <a:xfrm>
            <a:off x="3017880" y="3035160"/>
            <a:ext cx="1979640" cy="93960"/>
          </a:xfrm>
          <a:custGeom>
            <a:avLst/>
            <a:gdLst/>
            <a:ahLst/>
            <a:rect l="l" t="t" r="r" b="b"/>
            <a:pathLst>
              <a:path w="5502" h="263">
                <a:moveTo>
                  <a:pt x="8382" y="8692"/>
                </a:moveTo>
                <a:cubicBezTo>
                  <a:pt x="8580" y="8692"/>
                  <a:pt x="8779" y="8692"/>
                  <a:pt x="8977" y="8692"/>
                </a:cubicBezTo>
                <a:cubicBezTo>
                  <a:pt x="8995" y="8682"/>
                  <a:pt x="9063" y="8661"/>
                  <a:pt x="9096" y="8644"/>
                </a:cubicBezTo>
                <a:cubicBezTo>
                  <a:pt x="9142" y="8621"/>
                  <a:pt x="9162" y="8603"/>
                  <a:pt x="9215" y="8596"/>
                </a:cubicBezTo>
                <a:cubicBezTo>
                  <a:pt x="9459" y="8563"/>
                  <a:pt x="9731" y="8596"/>
                  <a:pt x="9977" y="8596"/>
                </a:cubicBezTo>
                <a:cubicBezTo>
                  <a:pt x="9985" y="8594"/>
                  <a:pt x="10031" y="8574"/>
                  <a:pt x="10073" y="8573"/>
                </a:cubicBezTo>
                <a:cubicBezTo>
                  <a:pt x="10287" y="8567"/>
                  <a:pt x="10502" y="8573"/>
                  <a:pt x="10716" y="8573"/>
                </a:cubicBezTo>
                <a:cubicBezTo>
                  <a:pt x="10735" y="8565"/>
                  <a:pt x="10739" y="8532"/>
                  <a:pt x="10787" y="8525"/>
                </a:cubicBezTo>
                <a:cubicBezTo>
                  <a:pt x="11169" y="8466"/>
                  <a:pt x="11632" y="8581"/>
                  <a:pt x="11978" y="8501"/>
                </a:cubicBezTo>
                <a:cubicBezTo>
                  <a:pt x="11990" y="8504"/>
                  <a:pt x="12052" y="8524"/>
                  <a:pt x="12097" y="8525"/>
                </a:cubicBezTo>
                <a:cubicBezTo>
                  <a:pt x="12407" y="8533"/>
                  <a:pt x="12724" y="8523"/>
                  <a:pt x="13025" y="8501"/>
                </a:cubicBezTo>
                <a:cubicBezTo>
                  <a:pt x="13090" y="8496"/>
                  <a:pt x="13130" y="8492"/>
                  <a:pt x="13192" y="8477"/>
                </a:cubicBezTo>
                <a:cubicBezTo>
                  <a:pt x="13243" y="8465"/>
                  <a:pt x="13275" y="8456"/>
                  <a:pt x="13335" y="8453"/>
                </a:cubicBezTo>
                <a:cubicBezTo>
                  <a:pt x="13469" y="8445"/>
                  <a:pt x="13606" y="8453"/>
                  <a:pt x="13740" y="8453"/>
                </a:cubicBezTo>
                <a:cubicBezTo>
                  <a:pt x="13742" y="8452"/>
                  <a:pt x="13780" y="8434"/>
                  <a:pt x="13811" y="8430"/>
                </a:cubicBezTo>
                <a:cubicBezTo>
                  <a:pt x="13851" y="8430"/>
                  <a:pt x="13859" y="8430"/>
                  <a:pt x="13883" y="843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21"/>
          <p:cNvSpPr/>
          <p:nvPr/>
        </p:nvSpPr>
        <p:spPr>
          <a:xfrm>
            <a:off x="4165560" y="4218120"/>
            <a:ext cx="806400" cy="9360"/>
          </a:xfrm>
          <a:custGeom>
            <a:avLst/>
            <a:gdLst/>
            <a:ahLst/>
            <a:rect l="l" t="t" r="r" b="b"/>
            <a:pathLst>
              <a:path w="2239" h="25">
                <a:moveTo>
                  <a:pt x="11573" y="11740"/>
                </a:moveTo>
                <a:cubicBezTo>
                  <a:pt x="11986" y="11740"/>
                  <a:pt x="12398" y="11740"/>
                  <a:pt x="12811" y="11740"/>
                </a:cubicBezTo>
                <a:cubicBezTo>
                  <a:pt x="12834" y="11726"/>
                  <a:pt x="12832" y="11719"/>
                  <a:pt x="12883" y="11716"/>
                </a:cubicBezTo>
                <a:cubicBezTo>
                  <a:pt x="13190" y="11698"/>
                  <a:pt x="13504" y="11716"/>
                  <a:pt x="13811" y="1171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22"/>
          <p:cNvSpPr/>
          <p:nvPr/>
        </p:nvSpPr>
        <p:spPr>
          <a:xfrm>
            <a:off x="2657520" y="5375160"/>
            <a:ext cx="2392200" cy="42840"/>
          </a:xfrm>
          <a:custGeom>
            <a:avLst/>
            <a:gdLst/>
            <a:ahLst/>
            <a:rect l="l" t="t" r="r" b="b"/>
            <a:pathLst>
              <a:path w="6645" h="121">
                <a:moveTo>
                  <a:pt x="7382" y="15026"/>
                </a:moveTo>
                <a:cubicBezTo>
                  <a:pt x="7420" y="15032"/>
                  <a:pt x="7435" y="15047"/>
                  <a:pt x="7477" y="15050"/>
                </a:cubicBezTo>
                <a:cubicBezTo>
                  <a:pt x="7830" y="15075"/>
                  <a:pt x="8208" y="15007"/>
                  <a:pt x="8549" y="15026"/>
                </a:cubicBezTo>
                <a:cubicBezTo>
                  <a:pt x="8576" y="15027"/>
                  <a:pt x="8627" y="15048"/>
                  <a:pt x="8668" y="15050"/>
                </a:cubicBezTo>
                <a:cubicBezTo>
                  <a:pt x="8762" y="15054"/>
                  <a:pt x="8839" y="15032"/>
                  <a:pt x="8930" y="15026"/>
                </a:cubicBezTo>
                <a:cubicBezTo>
                  <a:pt x="9198" y="15008"/>
                  <a:pt x="9487" y="15053"/>
                  <a:pt x="9739" y="15002"/>
                </a:cubicBezTo>
                <a:cubicBezTo>
                  <a:pt x="9813" y="14987"/>
                  <a:pt x="9874" y="14980"/>
                  <a:pt x="9954" y="14978"/>
                </a:cubicBezTo>
                <a:cubicBezTo>
                  <a:pt x="10181" y="14973"/>
                  <a:pt x="10487" y="14990"/>
                  <a:pt x="10668" y="15002"/>
                </a:cubicBezTo>
                <a:cubicBezTo>
                  <a:pt x="10939" y="15020"/>
                  <a:pt x="11213" y="14995"/>
                  <a:pt x="11478" y="14978"/>
                </a:cubicBezTo>
                <a:cubicBezTo>
                  <a:pt x="11851" y="14953"/>
                  <a:pt x="12227" y="14954"/>
                  <a:pt x="12597" y="14930"/>
                </a:cubicBezTo>
                <a:cubicBezTo>
                  <a:pt x="12972" y="14906"/>
                  <a:pt x="13382" y="14931"/>
                  <a:pt x="13740" y="14954"/>
                </a:cubicBezTo>
                <a:cubicBezTo>
                  <a:pt x="13835" y="14960"/>
                  <a:pt x="13931" y="14954"/>
                  <a:pt x="14026" y="1495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сполож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773360"/>
          <a:ext cx="1871640" cy="4751280"/>
        </p:xfrm>
        <a:graphic>
          <a:graphicData uri="http://schemas.openxmlformats.org/drawingml/2006/table">
            <a:tbl>
              <a:tblPr/>
              <a:tblGrid>
                <a:gridCol w="934920"/>
                <a:gridCol w="93672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556000" y="1700280"/>
          <a:ext cx="2087280" cy="489744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700280"/>
          <a:ext cx="1800360" cy="4898880"/>
        </p:xfrm>
        <a:graphic>
          <a:graphicData uri="http://schemas.openxmlformats.org/drawingml/2006/table">
            <a:tbl>
              <a:tblPr/>
              <a:tblGrid>
                <a:gridCol w="900360"/>
                <a:gridCol w="900000"/>
              </a:tblGrid>
              <a:tr h="377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020000" y="1700280"/>
          <a:ext cx="1873080" cy="4897440"/>
        </p:xfrm>
        <a:graphic>
          <a:graphicData uri="http://schemas.openxmlformats.org/drawingml/2006/table">
            <a:tbl>
              <a:tblPr/>
              <a:tblGrid>
                <a:gridCol w="936720"/>
                <a:gridCol w="936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т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340000" y="1349280"/>
            <a:ext cx="680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(тема, автор, название организации, руководитель, допустимо - эмблем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ты: проблема, актуальность, цель, задачи, методы, гипотеза / практическая, социальная значим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й материал (сжатая информация о работе, основные результаты, выводы, интересные факты и т.д.): фотографии, таблицы, схемы, диаграммы, отрывки из источников, графики и д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2089080" cy="504216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2"/>
          <p:cNvSpPr/>
          <p:nvPr/>
        </p:nvSpPr>
        <p:spPr>
          <a:xfrm>
            <a:off x="4722840" y="950760"/>
            <a:ext cx="3806640" cy="1484640"/>
          </a:xfrm>
          <a:custGeom>
            <a:avLst/>
            <a:gdLst/>
            <a:ahLst/>
            <a:rect l="l" t="t" r="r" b="b"/>
            <a:pathLst>
              <a:path w="10573" h="4121">
                <a:moveTo>
                  <a:pt x="16002" y="2643"/>
                </a:moveTo>
                <a:cubicBezTo>
                  <a:pt x="15610" y="2661"/>
                  <a:pt x="15320" y="2722"/>
                  <a:pt x="14954" y="2905"/>
                </a:cubicBezTo>
                <a:cubicBezTo>
                  <a:pt x="14703" y="3031"/>
                  <a:pt x="14475" y="3168"/>
                  <a:pt x="14288" y="3381"/>
                </a:cubicBezTo>
                <a:cubicBezTo>
                  <a:pt x="13785" y="3954"/>
                  <a:pt x="13210" y="4689"/>
                  <a:pt x="13121" y="5477"/>
                </a:cubicBezTo>
                <a:cubicBezTo>
                  <a:pt x="13104" y="5626"/>
                  <a:pt x="13068" y="5957"/>
                  <a:pt x="13145" y="6096"/>
                </a:cubicBezTo>
                <a:cubicBezTo>
                  <a:pt x="13216" y="6223"/>
                  <a:pt x="13412" y="6339"/>
                  <a:pt x="13526" y="6429"/>
                </a:cubicBezTo>
                <a:cubicBezTo>
                  <a:pt x="13740" y="6598"/>
                  <a:pt x="14036" y="6699"/>
                  <a:pt x="14311" y="6715"/>
                </a:cubicBezTo>
                <a:cubicBezTo>
                  <a:pt x="14812" y="6745"/>
                  <a:pt x="15329" y="6672"/>
                  <a:pt x="15835" y="6691"/>
                </a:cubicBezTo>
                <a:cubicBezTo>
                  <a:pt x="16192" y="6704"/>
                  <a:pt x="16512" y="6743"/>
                  <a:pt x="16859" y="6715"/>
                </a:cubicBezTo>
                <a:cubicBezTo>
                  <a:pt x="18086" y="6616"/>
                  <a:pt x="19333" y="6802"/>
                  <a:pt x="20550" y="6644"/>
                </a:cubicBezTo>
                <a:cubicBezTo>
                  <a:pt x="21408" y="6532"/>
                  <a:pt x="22439" y="6529"/>
                  <a:pt x="23217" y="6215"/>
                </a:cubicBezTo>
                <a:cubicBezTo>
                  <a:pt x="23312" y="6177"/>
                  <a:pt x="23382" y="5895"/>
                  <a:pt x="23432" y="5834"/>
                </a:cubicBezTo>
                <a:cubicBezTo>
                  <a:pt x="23618" y="5605"/>
                  <a:pt x="23678" y="5113"/>
                  <a:pt x="23622" y="4905"/>
                </a:cubicBezTo>
                <a:cubicBezTo>
                  <a:pt x="23571" y="4715"/>
                  <a:pt x="23313" y="4509"/>
                  <a:pt x="23217" y="4334"/>
                </a:cubicBezTo>
                <a:cubicBezTo>
                  <a:pt x="23080" y="4084"/>
                  <a:pt x="23037" y="3759"/>
                  <a:pt x="22908" y="3524"/>
                </a:cubicBezTo>
                <a:cubicBezTo>
                  <a:pt x="22797" y="3322"/>
                  <a:pt x="22867" y="3375"/>
                  <a:pt x="22503" y="3262"/>
                </a:cubicBezTo>
                <a:cubicBezTo>
                  <a:pt x="22138" y="3149"/>
                  <a:pt x="21760" y="3131"/>
                  <a:pt x="21384" y="3096"/>
                </a:cubicBezTo>
                <a:cubicBezTo>
                  <a:pt x="21297" y="3088"/>
                  <a:pt x="21184" y="3089"/>
                  <a:pt x="21098" y="3072"/>
                </a:cubicBezTo>
                <a:cubicBezTo>
                  <a:pt x="20547" y="2962"/>
                  <a:pt x="19997" y="2859"/>
                  <a:pt x="19431" y="2810"/>
                </a:cubicBezTo>
                <a:cubicBezTo>
                  <a:pt x="19085" y="2780"/>
                  <a:pt x="18702" y="2802"/>
                  <a:pt x="18359" y="2738"/>
                </a:cubicBezTo>
                <a:cubicBezTo>
                  <a:pt x="18091" y="2688"/>
                  <a:pt x="17874" y="2647"/>
                  <a:pt x="17574" y="2691"/>
                </a:cubicBezTo>
                <a:cubicBezTo>
                  <a:pt x="17201" y="2745"/>
                  <a:pt x="16921" y="2749"/>
                  <a:pt x="16550" y="2738"/>
                </a:cubicBezTo>
                <a:cubicBezTo>
                  <a:pt x="16428" y="2734"/>
                  <a:pt x="16219" y="2697"/>
                  <a:pt x="16169" y="2691"/>
                </a:cubicBezTo>
                <a:cubicBezTo>
                  <a:pt x="16087" y="2681"/>
                  <a:pt x="16002" y="2681"/>
                  <a:pt x="15931" y="2667"/>
                </a:cubicBezTo>
                <a:cubicBezTo>
                  <a:pt x="15904" y="2667"/>
                  <a:pt x="15893" y="2665"/>
                  <a:pt x="15883" y="2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3"/>
          <p:cNvSpPr/>
          <p:nvPr/>
        </p:nvSpPr>
        <p:spPr>
          <a:xfrm>
            <a:off x="3386160" y="2254320"/>
            <a:ext cx="1192320" cy="360360"/>
          </a:xfrm>
          <a:custGeom>
            <a:avLst/>
            <a:gdLst/>
            <a:ahLst/>
            <a:rect l="l" t="t" r="r" b="b"/>
            <a:pathLst>
              <a:path w="3311" h="1001">
                <a:moveTo>
                  <a:pt x="9454" y="7263"/>
                </a:moveTo>
                <a:cubicBezTo>
                  <a:pt x="9430" y="7263"/>
                  <a:pt x="9422" y="7263"/>
                  <a:pt x="9406" y="7263"/>
                </a:cubicBezTo>
                <a:cubicBezTo>
                  <a:pt x="9433" y="7227"/>
                  <a:pt x="9395" y="7218"/>
                  <a:pt x="9454" y="7191"/>
                </a:cubicBezTo>
                <a:cubicBezTo>
                  <a:pt x="9521" y="7160"/>
                  <a:pt x="9596" y="7143"/>
                  <a:pt x="9668" y="7120"/>
                </a:cubicBezTo>
                <a:cubicBezTo>
                  <a:pt x="9850" y="7061"/>
                  <a:pt x="10040" y="7002"/>
                  <a:pt x="10216" y="6929"/>
                </a:cubicBezTo>
                <a:cubicBezTo>
                  <a:pt x="10351" y="6873"/>
                  <a:pt x="10478" y="6826"/>
                  <a:pt x="10620" y="6787"/>
                </a:cubicBezTo>
                <a:cubicBezTo>
                  <a:pt x="10757" y="6749"/>
                  <a:pt x="10885" y="6736"/>
                  <a:pt x="11025" y="6715"/>
                </a:cubicBezTo>
                <a:cubicBezTo>
                  <a:pt x="11272" y="6679"/>
                  <a:pt x="11503" y="6652"/>
                  <a:pt x="11740" y="6572"/>
                </a:cubicBezTo>
                <a:cubicBezTo>
                  <a:pt x="11794" y="6554"/>
                  <a:pt x="11849" y="6489"/>
                  <a:pt x="11882" y="6477"/>
                </a:cubicBezTo>
                <a:cubicBezTo>
                  <a:pt x="11920" y="6463"/>
                  <a:pt x="11964" y="6466"/>
                  <a:pt x="12002" y="6453"/>
                </a:cubicBezTo>
                <a:cubicBezTo>
                  <a:pt x="12040" y="6433"/>
                  <a:pt x="12047" y="6425"/>
                  <a:pt x="12073" y="6429"/>
                </a:cubicBezTo>
                <a:cubicBezTo>
                  <a:pt x="12033" y="6421"/>
                  <a:pt x="11998" y="6415"/>
                  <a:pt x="11954" y="6406"/>
                </a:cubicBezTo>
                <a:cubicBezTo>
                  <a:pt x="11895" y="6395"/>
                  <a:pt x="11848" y="6384"/>
                  <a:pt x="11787" y="6382"/>
                </a:cubicBezTo>
                <a:cubicBezTo>
                  <a:pt x="11732" y="6380"/>
                  <a:pt x="11676" y="6382"/>
                  <a:pt x="11621" y="6382"/>
                </a:cubicBezTo>
                <a:cubicBezTo>
                  <a:pt x="11651" y="6368"/>
                  <a:pt x="11651" y="6355"/>
                  <a:pt x="11692" y="6334"/>
                </a:cubicBezTo>
                <a:cubicBezTo>
                  <a:pt x="11749" y="6305"/>
                  <a:pt x="11837" y="6289"/>
                  <a:pt x="11906" y="6287"/>
                </a:cubicBezTo>
                <a:cubicBezTo>
                  <a:pt x="12151" y="6280"/>
                  <a:pt x="12415" y="6295"/>
                  <a:pt x="12644" y="6263"/>
                </a:cubicBezTo>
                <a:cubicBezTo>
                  <a:pt x="12668" y="6263"/>
                  <a:pt x="12676" y="6263"/>
                  <a:pt x="12692" y="6263"/>
                </a:cubicBezTo>
                <a:cubicBezTo>
                  <a:pt x="12664" y="6285"/>
                  <a:pt x="12676" y="6273"/>
                  <a:pt x="12644" y="6287"/>
                </a:cubicBezTo>
                <a:cubicBezTo>
                  <a:pt x="12611" y="6301"/>
                  <a:pt x="12619" y="6316"/>
                  <a:pt x="12597" y="6334"/>
                </a:cubicBezTo>
                <a:cubicBezTo>
                  <a:pt x="12546" y="6375"/>
                  <a:pt x="12471" y="6412"/>
                  <a:pt x="12430" y="6453"/>
                </a:cubicBezTo>
                <a:cubicBezTo>
                  <a:pt x="12337" y="6547"/>
                  <a:pt x="12242" y="6663"/>
                  <a:pt x="12192" y="6787"/>
                </a:cubicBezTo>
                <a:cubicBezTo>
                  <a:pt x="12166" y="6853"/>
                  <a:pt x="12118" y="6877"/>
                  <a:pt x="12097" y="6929"/>
                </a:cubicBezTo>
                <a:cubicBezTo>
                  <a:pt x="12078" y="6976"/>
                  <a:pt x="12066" y="7042"/>
                  <a:pt x="12049" y="7096"/>
                </a:cubicBezTo>
                <a:cubicBezTo>
                  <a:pt x="12036" y="7135"/>
                  <a:pt x="12033" y="7175"/>
                  <a:pt x="12025" y="7215"/>
                </a:cubicBezTo>
                <a:cubicBezTo>
                  <a:pt x="12025" y="7223"/>
                  <a:pt x="12025" y="7231"/>
                  <a:pt x="12025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хождения защ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стен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находится около своего стен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должен быть готов кратко представить свою работу (2 – 3 мин.), затронув самые интересные ее момен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ы, участники и автор работы обсуждают представленную работу (вопросы-ответы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втору могут подойти несколько раз и вопросы могут быть разными, а могут и повторятьс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Админ\Рабочий стол\5 марта\фото 001.jpg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Админ\Рабочий стол\5 марта\фото 002.jpg"/>
          <p:cNvPicPr/>
          <p:nvPr/>
        </p:nvPicPr>
        <p:blipFill>
          <a:blip r:embed="rId2"/>
          <a:stretch/>
        </p:blipFill>
        <p:spPr>
          <a:xfrm>
            <a:off x="5076720" y="1197000"/>
            <a:ext cx="3841920" cy="5122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1646280" y="40464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НПК  «Байкальское кольц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Админ\Рабочий стол\5 марта\фото 003.jpg"/>
          <p:cNvPicPr/>
          <p:nvPr/>
        </p:nvPicPr>
        <p:blipFill>
          <a:blip r:embed="rId1"/>
          <a:stretch/>
        </p:blipFill>
        <p:spPr>
          <a:xfrm>
            <a:off x="5435640" y="1268280"/>
            <a:ext cx="3254400" cy="433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Админ\Рабочий стол\5 марта\фото 004.jpg"/>
          <p:cNvPicPr/>
          <p:nvPr/>
        </p:nvPicPr>
        <p:blipFill>
          <a:blip r:embed="rId2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285920" y="40464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НПК  «Байкальское кольц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2"/>
          <p:cNvSpPr/>
          <p:nvPr/>
        </p:nvSpPr>
        <p:spPr>
          <a:xfrm>
            <a:off x="428760" y="3780000"/>
            <a:ext cx="5349600" cy="1758960"/>
          </a:xfrm>
          <a:custGeom>
            <a:avLst/>
            <a:gdLst/>
            <a:ahLst/>
            <a:rect l="l" t="t" r="r" b="b"/>
            <a:pathLst>
              <a:path w="14860" h="4883">
                <a:moveTo>
                  <a:pt x="6453" y="10573"/>
                </a:moveTo>
                <a:cubicBezTo>
                  <a:pt x="6254" y="10548"/>
                  <a:pt x="6060" y="10515"/>
                  <a:pt x="5858" y="10501"/>
                </a:cubicBezTo>
                <a:cubicBezTo>
                  <a:pt x="5391" y="10468"/>
                  <a:pt x="4899" y="10575"/>
                  <a:pt x="4453" y="10692"/>
                </a:cubicBezTo>
                <a:cubicBezTo>
                  <a:pt x="4029" y="10804"/>
                  <a:pt x="3616" y="10964"/>
                  <a:pt x="3191" y="11073"/>
                </a:cubicBezTo>
                <a:cubicBezTo>
                  <a:pt x="3013" y="11119"/>
                  <a:pt x="2847" y="11168"/>
                  <a:pt x="2667" y="11216"/>
                </a:cubicBezTo>
                <a:cubicBezTo>
                  <a:pt x="2438" y="11278"/>
                  <a:pt x="2174" y="11311"/>
                  <a:pt x="1976" y="11454"/>
                </a:cubicBezTo>
                <a:cubicBezTo>
                  <a:pt x="1911" y="11501"/>
                  <a:pt x="1860" y="11533"/>
                  <a:pt x="1810" y="11573"/>
                </a:cubicBezTo>
                <a:cubicBezTo>
                  <a:pt x="1772" y="11604"/>
                  <a:pt x="1742" y="11667"/>
                  <a:pt x="1715" y="11692"/>
                </a:cubicBezTo>
                <a:cubicBezTo>
                  <a:pt x="1573" y="11821"/>
                  <a:pt x="1469" y="11939"/>
                  <a:pt x="1381" y="12121"/>
                </a:cubicBezTo>
                <a:cubicBezTo>
                  <a:pt x="1225" y="12444"/>
                  <a:pt x="1234" y="12742"/>
                  <a:pt x="1214" y="13073"/>
                </a:cubicBezTo>
                <a:cubicBezTo>
                  <a:pt x="1213" y="13084"/>
                  <a:pt x="1191" y="13246"/>
                  <a:pt x="1191" y="13287"/>
                </a:cubicBezTo>
                <a:cubicBezTo>
                  <a:pt x="1188" y="13701"/>
                  <a:pt x="1176" y="14286"/>
                  <a:pt x="1524" y="14549"/>
                </a:cubicBezTo>
                <a:cubicBezTo>
                  <a:pt x="1974" y="14890"/>
                  <a:pt x="2903" y="14824"/>
                  <a:pt x="3405" y="14835"/>
                </a:cubicBezTo>
                <a:cubicBezTo>
                  <a:pt x="4043" y="14849"/>
                  <a:pt x="4154" y="14855"/>
                  <a:pt x="4667" y="14930"/>
                </a:cubicBezTo>
                <a:cubicBezTo>
                  <a:pt x="5864" y="15105"/>
                  <a:pt x="7024" y="15234"/>
                  <a:pt x="8239" y="15264"/>
                </a:cubicBezTo>
                <a:cubicBezTo>
                  <a:pt x="8739" y="15276"/>
                  <a:pt x="8921" y="15260"/>
                  <a:pt x="9311" y="15288"/>
                </a:cubicBezTo>
                <a:cubicBezTo>
                  <a:pt x="10552" y="15378"/>
                  <a:pt x="11851" y="15505"/>
                  <a:pt x="13097" y="15383"/>
                </a:cubicBezTo>
                <a:cubicBezTo>
                  <a:pt x="13419" y="15352"/>
                  <a:pt x="13830" y="15193"/>
                  <a:pt x="14121" y="15097"/>
                </a:cubicBezTo>
                <a:cubicBezTo>
                  <a:pt x="14290" y="15042"/>
                  <a:pt x="15861" y="14537"/>
                  <a:pt x="16050" y="14478"/>
                </a:cubicBezTo>
                <a:cubicBezTo>
                  <a:pt x="15918" y="14236"/>
                  <a:pt x="15768" y="13991"/>
                  <a:pt x="15645" y="13740"/>
                </a:cubicBezTo>
                <a:cubicBezTo>
                  <a:pt x="15442" y="13327"/>
                  <a:pt x="15330" y="12918"/>
                  <a:pt x="15216" y="12478"/>
                </a:cubicBezTo>
                <a:cubicBezTo>
                  <a:pt x="15200" y="12406"/>
                  <a:pt x="15185" y="12335"/>
                  <a:pt x="15169" y="12263"/>
                </a:cubicBezTo>
                <a:cubicBezTo>
                  <a:pt x="14811" y="12235"/>
                  <a:pt x="14520" y="12166"/>
                  <a:pt x="14168" y="12049"/>
                </a:cubicBezTo>
                <a:cubicBezTo>
                  <a:pt x="13808" y="11930"/>
                  <a:pt x="13206" y="11536"/>
                  <a:pt x="12859" y="11478"/>
                </a:cubicBezTo>
                <a:cubicBezTo>
                  <a:pt x="12645" y="11442"/>
                  <a:pt x="12417" y="11562"/>
                  <a:pt x="12192" y="11525"/>
                </a:cubicBezTo>
                <a:cubicBezTo>
                  <a:pt x="11622" y="11431"/>
                  <a:pt x="11044" y="11197"/>
                  <a:pt x="10501" y="11001"/>
                </a:cubicBezTo>
                <a:cubicBezTo>
                  <a:pt x="10371" y="10954"/>
                  <a:pt x="10223" y="10878"/>
                  <a:pt x="10120" y="10859"/>
                </a:cubicBezTo>
                <a:cubicBezTo>
                  <a:pt x="9816" y="10804"/>
                  <a:pt x="9504" y="10803"/>
                  <a:pt x="9192" y="10739"/>
                </a:cubicBezTo>
                <a:cubicBezTo>
                  <a:pt x="8993" y="10698"/>
                  <a:pt x="8768" y="10615"/>
                  <a:pt x="8573" y="10644"/>
                </a:cubicBezTo>
                <a:cubicBezTo>
                  <a:pt x="7855" y="10750"/>
                  <a:pt x="7149" y="11187"/>
                  <a:pt x="6406" y="11287"/>
                </a:cubicBezTo>
                <a:cubicBezTo>
                  <a:pt x="6382" y="11287"/>
                  <a:pt x="6358" y="11287"/>
                  <a:pt x="6334" y="11287"/>
                </a:cubicBezTo>
                <a:cubicBezTo>
                  <a:pt x="6340" y="11122"/>
                  <a:pt x="6442" y="10622"/>
                  <a:pt x="6406" y="10549"/>
                </a:cubicBezTo>
                <a:cubicBezTo>
                  <a:pt x="6399" y="10535"/>
                  <a:pt x="6266" y="10563"/>
                  <a:pt x="6263" y="105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3"/>
          <p:cNvSpPr/>
          <p:nvPr/>
        </p:nvSpPr>
        <p:spPr>
          <a:xfrm>
            <a:off x="2657520" y="3386160"/>
            <a:ext cx="446040" cy="385920"/>
          </a:xfrm>
          <a:custGeom>
            <a:avLst/>
            <a:gdLst/>
            <a:ahLst/>
            <a:rect l="l" t="t" r="r" b="b"/>
            <a:pathLst>
              <a:path w="1239" h="1073">
                <a:moveTo>
                  <a:pt x="8620" y="9406"/>
                </a:moveTo>
                <a:cubicBezTo>
                  <a:pt x="8581" y="9451"/>
                  <a:pt x="8574" y="9445"/>
                  <a:pt x="8525" y="9477"/>
                </a:cubicBezTo>
                <a:cubicBezTo>
                  <a:pt x="8441" y="9533"/>
                  <a:pt x="8365" y="9606"/>
                  <a:pt x="8287" y="9668"/>
                </a:cubicBezTo>
                <a:cubicBezTo>
                  <a:pt x="8196" y="9740"/>
                  <a:pt x="8150" y="9868"/>
                  <a:pt x="8049" y="9930"/>
                </a:cubicBezTo>
                <a:cubicBezTo>
                  <a:pt x="7942" y="9996"/>
                  <a:pt x="7851" y="10052"/>
                  <a:pt x="7763" y="10144"/>
                </a:cubicBezTo>
                <a:cubicBezTo>
                  <a:pt x="7701" y="10208"/>
                  <a:pt x="7606" y="10248"/>
                  <a:pt x="7549" y="10311"/>
                </a:cubicBezTo>
                <a:cubicBezTo>
                  <a:pt x="7478" y="10389"/>
                  <a:pt x="7513" y="10361"/>
                  <a:pt x="7453" y="10406"/>
                </a:cubicBezTo>
                <a:cubicBezTo>
                  <a:pt x="7448" y="10362"/>
                  <a:pt x="7437" y="10329"/>
                  <a:pt x="7430" y="10287"/>
                </a:cubicBezTo>
                <a:cubicBezTo>
                  <a:pt x="7412" y="10176"/>
                  <a:pt x="7430" y="9894"/>
                  <a:pt x="7430" y="9858"/>
                </a:cubicBezTo>
                <a:cubicBezTo>
                  <a:pt x="7430" y="9924"/>
                  <a:pt x="7427" y="9964"/>
                  <a:pt x="7406" y="10025"/>
                </a:cubicBezTo>
                <a:cubicBezTo>
                  <a:pt x="7380" y="10100"/>
                  <a:pt x="7382" y="10160"/>
                  <a:pt x="7382" y="10239"/>
                </a:cubicBezTo>
                <a:cubicBezTo>
                  <a:pt x="7382" y="10319"/>
                  <a:pt x="7382" y="10398"/>
                  <a:pt x="7382" y="10478"/>
                </a:cubicBezTo>
                <a:cubicBezTo>
                  <a:pt x="7415" y="10474"/>
                  <a:pt x="7454" y="10457"/>
                  <a:pt x="7477" y="10454"/>
                </a:cubicBezTo>
                <a:cubicBezTo>
                  <a:pt x="7531" y="10447"/>
                  <a:pt x="7570" y="10446"/>
                  <a:pt x="7620" y="10430"/>
                </a:cubicBezTo>
                <a:cubicBezTo>
                  <a:pt x="7683" y="10410"/>
                  <a:pt x="7746" y="10391"/>
                  <a:pt x="7811" y="10382"/>
                </a:cubicBezTo>
                <a:cubicBezTo>
                  <a:pt x="7902" y="10369"/>
                  <a:pt x="8003" y="10382"/>
                  <a:pt x="8096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ыбрана именно эта тем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ее актуальность (принципиальная новизна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ны ли цель и задач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образом были достигнуты задачи работы (про методы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опросить описать (пояснить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или иной использованный метод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ю, рисунок, график и др. изображение на стенд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или иной источник в списке литера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2"/>
          <p:cNvSpPr/>
          <p:nvPr/>
        </p:nvSpPr>
        <p:spPr>
          <a:xfrm>
            <a:off x="368280" y="146160"/>
            <a:ext cx="4167360" cy="1568520"/>
          </a:xfrm>
          <a:custGeom>
            <a:avLst/>
            <a:gdLst/>
            <a:ahLst/>
            <a:rect l="l" t="t" r="r" b="b"/>
            <a:pathLst>
              <a:path w="11574" h="4359">
                <a:moveTo>
                  <a:pt x="4286" y="4501"/>
                </a:moveTo>
                <a:cubicBezTo>
                  <a:pt x="4294" y="4499"/>
                  <a:pt x="4371" y="4462"/>
                  <a:pt x="4405" y="4453"/>
                </a:cubicBezTo>
                <a:cubicBezTo>
                  <a:pt x="4642" y="4387"/>
                  <a:pt x="4902" y="4339"/>
                  <a:pt x="5144" y="4310"/>
                </a:cubicBezTo>
                <a:cubicBezTo>
                  <a:pt x="5954" y="4213"/>
                  <a:pt x="6608" y="4406"/>
                  <a:pt x="7358" y="4501"/>
                </a:cubicBezTo>
                <a:cubicBezTo>
                  <a:pt x="7464" y="4514"/>
                  <a:pt x="7562" y="4454"/>
                  <a:pt x="7668" y="4453"/>
                </a:cubicBezTo>
                <a:cubicBezTo>
                  <a:pt x="8097" y="4450"/>
                  <a:pt x="8524" y="4371"/>
                  <a:pt x="8954" y="4358"/>
                </a:cubicBezTo>
                <a:cubicBezTo>
                  <a:pt x="9317" y="4347"/>
                  <a:pt x="9692" y="4366"/>
                  <a:pt x="10049" y="4334"/>
                </a:cubicBezTo>
                <a:cubicBezTo>
                  <a:pt x="10464" y="4296"/>
                  <a:pt x="10865" y="4184"/>
                  <a:pt x="11287" y="4167"/>
                </a:cubicBezTo>
                <a:cubicBezTo>
                  <a:pt x="11520" y="4158"/>
                  <a:pt x="12111" y="4196"/>
                  <a:pt x="12263" y="4048"/>
                </a:cubicBezTo>
                <a:cubicBezTo>
                  <a:pt x="12382" y="3932"/>
                  <a:pt x="12456" y="3680"/>
                  <a:pt x="12502" y="3524"/>
                </a:cubicBezTo>
                <a:cubicBezTo>
                  <a:pt x="12617" y="3131"/>
                  <a:pt x="12602" y="2835"/>
                  <a:pt x="12525" y="2429"/>
                </a:cubicBezTo>
                <a:cubicBezTo>
                  <a:pt x="12457" y="2070"/>
                  <a:pt x="12487" y="1826"/>
                  <a:pt x="12263" y="1619"/>
                </a:cubicBezTo>
                <a:cubicBezTo>
                  <a:pt x="11667" y="1066"/>
                  <a:pt x="10620" y="709"/>
                  <a:pt x="9858" y="524"/>
                </a:cubicBezTo>
                <a:cubicBezTo>
                  <a:pt x="8874" y="285"/>
                  <a:pt x="7968" y="406"/>
                  <a:pt x="7025" y="691"/>
                </a:cubicBezTo>
                <a:cubicBezTo>
                  <a:pt x="6767" y="769"/>
                  <a:pt x="6907" y="752"/>
                  <a:pt x="6620" y="714"/>
                </a:cubicBezTo>
                <a:cubicBezTo>
                  <a:pt x="5733" y="596"/>
                  <a:pt x="4893" y="542"/>
                  <a:pt x="4001" y="691"/>
                </a:cubicBezTo>
                <a:cubicBezTo>
                  <a:pt x="3679" y="745"/>
                  <a:pt x="3368" y="873"/>
                  <a:pt x="3143" y="1095"/>
                </a:cubicBezTo>
                <a:cubicBezTo>
                  <a:pt x="2706" y="1525"/>
                  <a:pt x="2314" y="2047"/>
                  <a:pt x="1929" y="2524"/>
                </a:cubicBezTo>
                <a:cubicBezTo>
                  <a:pt x="1669" y="2846"/>
                  <a:pt x="1417" y="3165"/>
                  <a:pt x="1119" y="3453"/>
                </a:cubicBezTo>
                <a:cubicBezTo>
                  <a:pt x="1062" y="3491"/>
                  <a:pt x="1051" y="3494"/>
                  <a:pt x="1024" y="3524"/>
                </a:cubicBezTo>
                <a:cubicBezTo>
                  <a:pt x="1064" y="3566"/>
                  <a:pt x="1149" y="3645"/>
                  <a:pt x="1191" y="3691"/>
                </a:cubicBezTo>
                <a:cubicBezTo>
                  <a:pt x="1357" y="3872"/>
                  <a:pt x="1513" y="4099"/>
                  <a:pt x="1738" y="4215"/>
                </a:cubicBezTo>
                <a:cubicBezTo>
                  <a:pt x="1981" y="4340"/>
                  <a:pt x="2222" y="4383"/>
                  <a:pt x="2477" y="4453"/>
                </a:cubicBezTo>
                <a:cubicBezTo>
                  <a:pt x="2888" y="4566"/>
                  <a:pt x="3339" y="4679"/>
                  <a:pt x="3762" y="4739"/>
                </a:cubicBezTo>
                <a:cubicBezTo>
                  <a:pt x="3922" y="4762"/>
                  <a:pt x="4059" y="4733"/>
                  <a:pt x="4143" y="4715"/>
                </a:cubicBezTo>
                <a:cubicBezTo>
                  <a:pt x="4175" y="4708"/>
                  <a:pt x="4205" y="4651"/>
                  <a:pt x="4239" y="4643"/>
                </a:cubicBezTo>
                <a:cubicBezTo>
                  <a:pt x="4281" y="4633"/>
                  <a:pt x="4334" y="4607"/>
                  <a:pt x="4382" y="4596"/>
                </a:cubicBezTo>
                <a:cubicBezTo>
                  <a:pt x="4515" y="4565"/>
                  <a:pt x="4656" y="4538"/>
                  <a:pt x="4786" y="4501"/>
                </a:cubicBezTo>
                <a:cubicBezTo>
                  <a:pt x="4821" y="4491"/>
                  <a:pt x="4849" y="4488"/>
                  <a:pt x="4882" y="4477"/>
                </a:cubicBezTo>
                <a:cubicBezTo>
                  <a:pt x="4903" y="4470"/>
                  <a:pt x="4929" y="4461"/>
                  <a:pt x="4953" y="4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3"/>
          <p:cNvSpPr/>
          <p:nvPr/>
        </p:nvSpPr>
        <p:spPr>
          <a:xfrm>
            <a:off x="3300480" y="1628640"/>
            <a:ext cx="506520" cy="892440"/>
          </a:xfrm>
          <a:custGeom>
            <a:avLst/>
            <a:gdLst/>
            <a:ahLst/>
            <a:rect l="l" t="t" r="r" b="b"/>
            <a:pathLst>
              <a:path w="1406" h="2478">
                <a:moveTo>
                  <a:pt x="10573" y="7001"/>
                </a:moveTo>
                <a:cubicBezTo>
                  <a:pt x="10532" y="6954"/>
                  <a:pt x="10511" y="6925"/>
                  <a:pt x="10478" y="6882"/>
                </a:cubicBezTo>
                <a:cubicBezTo>
                  <a:pt x="10406" y="6790"/>
                  <a:pt x="10336" y="6691"/>
                  <a:pt x="10263" y="6596"/>
                </a:cubicBezTo>
                <a:cubicBezTo>
                  <a:pt x="10147" y="6446"/>
                  <a:pt x="10081" y="6297"/>
                  <a:pt x="9977" y="6144"/>
                </a:cubicBezTo>
                <a:cubicBezTo>
                  <a:pt x="9860" y="5973"/>
                  <a:pt x="9761" y="5791"/>
                  <a:pt x="9644" y="5620"/>
                </a:cubicBezTo>
                <a:cubicBezTo>
                  <a:pt x="9549" y="5481"/>
                  <a:pt x="9536" y="5331"/>
                  <a:pt x="9454" y="5191"/>
                </a:cubicBezTo>
                <a:cubicBezTo>
                  <a:pt x="9439" y="5165"/>
                  <a:pt x="9361" y="5034"/>
                  <a:pt x="9358" y="5024"/>
                </a:cubicBezTo>
                <a:cubicBezTo>
                  <a:pt x="9336" y="4941"/>
                  <a:pt x="9332" y="4909"/>
                  <a:pt x="9287" y="4834"/>
                </a:cubicBezTo>
                <a:cubicBezTo>
                  <a:pt x="9265" y="4798"/>
                  <a:pt x="9254" y="4787"/>
                  <a:pt x="9239" y="4763"/>
                </a:cubicBezTo>
                <a:cubicBezTo>
                  <a:pt x="9239" y="4755"/>
                  <a:pt x="9239" y="4747"/>
                  <a:pt x="9239" y="4739"/>
                </a:cubicBezTo>
                <a:cubicBezTo>
                  <a:pt x="9235" y="4751"/>
                  <a:pt x="9216" y="4768"/>
                  <a:pt x="9215" y="4810"/>
                </a:cubicBezTo>
                <a:cubicBezTo>
                  <a:pt x="9211" y="4929"/>
                  <a:pt x="9215" y="5048"/>
                  <a:pt x="9215" y="5167"/>
                </a:cubicBezTo>
                <a:cubicBezTo>
                  <a:pt x="9203" y="5094"/>
                  <a:pt x="9177" y="5074"/>
                  <a:pt x="9168" y="5001"/>
                </a:cubicBezTo>
                <a:cubicBezTo>
                  <a:pt x="9149" y="4847"/>
                  <a:pt x="9168" y="4680"/>
                  <a:pt x="9168" y="4524"/>
                </a:cubicBezTo>
                <a:cubicBezTo>
                  <a:pt x="9212" y="4542"/>
                  <a:pt x="9241" y="4535"/>
                  <a:pt x="9287" y="4572"/>
                </a:cubicBezTo>
                <a:cubicBezTo>
                  <a:pt x="9352" y="4625"/>
                  <a:pt x="9416" y="4660"/>
                  <a:pt x="9477" y="4715"/>
                </a:cubicBezTo>
                <a:cubicBezTo>
                  <a:pt x="9565" y="4794"/>
                  <a:pt x="9654" y="4879"/>
                  <a:pt x="9739" y="4953"/>
                </a:cubicBezTo>
                <a:cubicBezTo>
                  <a:pt x="9809" y="5014"/>
                  <a:pt x="9862" y="5076"/>
                  <a:pt x="9930" y="5144"/>
                </a:cubicBezTo>
                <a:cubicBezTo>
                  <a:pt x="9975" y="5189"/>
                  <a:pt x="10026" y="5236"/>
                  <a:pt x="10073" y="5286"/>
                </a:cubicBezTo>
                <a:cubicBezTo>
                  <a:pt x="10097" y="5312"/>
                  <a:pt x="10123" y="5319"/>
                  <a:pt x="10144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2"/>
          <p:cNvSpPr/>
          <p:nvPr/>
        </p:nvSpPr>
        <p:spPr>
          <a:xfrm>
            <a:off x="6437160" y="4697280"/>
            <a:ext cx="1818000" cy="1227240"/>
          </a:xfrm>
          <a:custGeom>
            <a:avLst/>
            <a:gdLst/>
            <a:ahLst/>
            <a:rect l="l" t="t" r="r" b="b"/>
            <a:pathLst>
              <a:path w="5049" h="3406">
                <a:moveTo>
                  <a:pt x="20431" y="13049"/>
                </a:moveTo>
                <a:cubicBezTo>
                  <a:pt x="20093" y="13060"/>
                  <a:pt x="19777" y="13124"/>
                  <a:pt x="19455" y="13240"/>
                </a:cubicBezTo>
                <a:cubicBezTo>
                  <a:pt x="18904" y="13439"/>
                  <a:pt x="18413" y="13745"/>
                  <a:pt x="17883" y="13978"/>
                </a:cubicBezTo>
                <a:cubicBezTo>
                  <a:pt x="17911" y="14114"/>
                  <a:pt x="17909" y="14251"/>
                  <a:pt x="17978" y="14383"/>
                </a:cubicBezTo>
                <a:cubicBezTo>
                  <a:pt x="18104" y="14624"/>
                  <a:pt x="18215" y="14888"/>
                  <a:pt x="18359" y="15121"/>
                </a:cubicBezTo>
                <a:cubicBezTo>
                  <a:pt x="18434" y="15242"/>
                  <a:pt x="18623" y="15464"/>
                  <a:pt x="18645" y="15526"/>
                </a:cubicBezTo>
                <a:cubicBezTo>
                  <a:pt x="18694" y="15663"/>
                  <a:pt x="18666" y="15762"/>
                  <a:pt x="18740" y="15907"/>
                </a:cubicBezTo>
                <a:cubicBezTo>
                  <a:pt x="18836" y="16094"/>
                  <a:pt x="19052" y="16270"/>
                  <a:pt x="19241" y="16359"/>
                </a:cubicBezTo>
                <a:cubicBezTo>
                  <a:pt x="19362" y="16416"/>
                  <a:pt x="19494" y="16414"/>
                  <a:pt x="19622" y="16431"/>
                </a:cubicBezTo>
                <a:cubicBezTo>
                  <a:pt x="19851" y="16462"/>
                  <a:pt x="20103" y="16472"/>
                  <a:pt x="20336" y="16454"/>
                </a:cubicBezTo>
                <a:cubicBezTo>
                  <a:pt x="21091" y="16397"/>
                  <a:pt x="21815" y="16335"/>
                  <a:pt x="22574" y="16335"/>
                </a:cubicBezTo>
                <a:cubicBezTo>
                  <a:pt x="22881" y="16335"/>
                  <a:pt x="22862" y="16278"/>
                  <a:pt x="22931" y="16002"/>
                </a:cubicBezTo>
                <a:cubicBezTo>
                  <a:pt x="22977" y="15816"/>
                  <a:pt x="22959" y="15377"/>
                  <a:pt x="22908" y="15216"/>
                </a:cubicBezTo>
                <a:cubicBezTo>
                  <a:pt x="22854" y="15044"/>
                  <a:pt x="22731" y="14901"/>
                  <a:pt x="22693" y="14716"/>
                </a:cubicBezTo>
                <a:cubicBezTo>
                  <a:pt x="22648" y="14499"/>
                  <a:pt x="22603" y="14197"/>
                  <a:pt x="22646" y="13978"/>
                </a:cubicBezTo>
                <a:cubicBezTo>
                  <a:pt x="22670" y="13907"/>
                  <a:pt x="22693" y="13835"/>
                  <a:pt x="22717" y="13764"/>
                </a:cubicBezTo>
                <a:cubicBezTo>
                  <a:pt x="22631" y="13749"/>
                  <a:pt x="22544" y="13730"/>
                  <a:pt x="22455" y="13716"/>
                </a:cubicBezTo>
                <a:cubicBezTo>
                  <a:pt x="22229" y="13681"/>
                  <a:pt x="22003" y="13674"/>
                  <a:pt x="21788" y="13597"/>
                </a:cubicBezTo>
                <a:cubicBezTo>
                  <a:pt x="21684" y="13560"/>
                  <a:pt x="21634" y="13565"/>
                  <a:pt x="21527" y="13549"/>
                </a:cubicBezTo>
                <a:cubicBezTo>
                  <a:pt x="21318" y="13517"/>
                  <a:pt x="20983" y="13500"/>
                  <a:pt x="20812" y="13359"/>
                </a:cubicBezTo>
                <a:cubicBezTo>
                  <a:pt x="20761" y="13317"/>
                  <a:pt x="20723" y="13261"/>
                  <a:pt x="20693" y="13240"/>
                </a:cubicBezTo>
                <a:cubicBezTo>
                  <a:pt x="20655" y="13213"/>
                  <a:pt x="20614" y="13185"/>
                  <a:pt x="20574" y="13168"/>
                </a:cubicBezTo>
                <a:cubicBezTo>
                  <a:pt x="20530" y="13149"/>
                  <a:pt x="20520" y="13166"/>
                  <a:pt x="20479" y="13145"/>
                </a:cubicBezTo>
                <a:cubicBezTo>
                  <a:pt x="20458" y="13134"/>
                  <a:pt x="20413" y="13100"/>
                  <a:pt x="20407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3"/>
          <p:cNvSpPr/>
          <p:nvPr/>
        </p:nvSpPr>
        <p:spPr>
          <a:xfrm>
            <a:off x="5425920" y="3994200"/>
            <a:ext cx="1295640" cy="824040"/>
          </a:xfrm>
          <a:custGeom>
            <a:avLst/>
            <a:gdLst/>
            <a:ahLst/>
            <a:rect l="l" t="t" r="r" b="b"/>
            <a:pathLst>
              <a:path w="3597" h="2287">
                <a:moveTo>
                  <a:pt x="15097" y="11144"/>
                </a:moveTo>
                <a:cubicBezTo>
                  <a:pt x="15097" y="11117"/>
                  <a:pt x="15095" y="11107"/>
                  <a:pt x="15073" y="11097"/>
                </a:cubicBezTo>
                <a:cubicBezTo>
                  <a:pt x="15162" y="11101"/>
                  <a:pt x="15247" y="11107"/>
                  <a:pt x="15335" y="11120"/>
                </a:cubicBezTo>
                <a:cubicBezTo>
                  <a:pt x="15435" y="11135"/>
                  <a:pt x="15521" y="11167"/>
                  <a:pt x="15621" y="11192"/>
                </a:cubicBezTo>
                <a:cubicBezTo>
                  <a:pt x="15746" y="11223"/>
                  <a:pt x="15839" y="11258"/>
                  <a:pt x="15954" y="11311"/>
                </a:cubicBezTo>
                <a:cubicBezTo>
                  <a:pt x="16059" y="11359"/>
                  <a:pt x="16159" y="11407"/>
                  <a:pt x="16264" y="11454"/>
                </a:cubicBezTo>
                <a:cubicBezTo>
                  <a:pt x="16346" y="11491"/>
                  <a:pt x="16418" y="11556"/>
                  <a:pt x="16502" y="11597"/>
                </a:cubicBezTo>
                <a:cubicBezTo>
                  <a:pt x="16580" y="11635"/>
                  <a:pt x="16641" y="11674"/>
                  <a:pt x="16716" y="11716"/>
                </a:cubicBezTo>
                <a:cubicBezTo>
                  <a:pt x="16763" y="11742"/>
                  <a:pt x="16817" y="11766"/>
                  <a:pt x="16859" y="11787"/>
                </a:cubicBezTo>
                <a:cubicBezTo>
                  <a:pt x="16918" y="11766"/>
                  <a:pt x="16856" y="11729"/>
                  <a:pt x="16955" y="11740"/>
                </a:cubicBezTo>
                <a:cubicBezTo>
                  <a:pt x="17014" y="11747"/>
                  <a:pt x="17132" y="11810"/>
                  <a:pt x="17193" y="11835"/>
                </a:cubicBezTo>
                <a:cubicBezTo>
                  <a:pt x="17301" y="11880"/>
                  <a:pt x="17395" y="11956"/>
                  <a:pt x="17502" y="12002"/>
                </a:cubicBezTo>
                <a:cubicBezTo>
                  <a:pt x="17622" y="12053"/>
                  <a:pt x="17740" y="12109"/>
                  <a:pt x="17859" y="12168"/>
                </a:cubicBezTo>
                <a:cubicBezTo>
                  <a:pt x="17957" y="12216"/>
                  <a:pt x="18055" y="12261"/>
                  <a:pt x="18145" y="12311"/>
                </a:cubicBezTo>
                <a:cubicBezTo>
                  <a:pt x="18193" y="12338"/>
                  <a:pt x="18268" y="12372"/>
                  <a:pt x="18312" y="12406"/>
                </a:cubicBezTo>
                <a:cubicBezTo>
                  <a:pt x="18356" y="12440"/>
                  <a:pt x="18378" y="12478"/>
                  <a:pt x="18431" y="12502"/>
                </a:cubicBezTo>
                <a:cubicBezTo>
                  <a:pt x="18439" y="12502"/>
                  <a:pt x="18447" y="12502"/>
                  <a:pt x="18455" y="12502"/>
                </a:cubicBezTo>
                <a:cubicBezTo>
                  <a:pt x="18435" y="12448"/>
                  <a:pt x="18433" y="12435"/>
                  <a:pt x="18407" y="12383"/>
                </a:cubicBezTo>
                <a:cubicBezTo>
                  <a:pt x="18344" y="12260"/>
                  <a:pt x="18278" y="12178"/>
                  <a:pt x="18193" y="12073"/>
                </a:cubicBezTo>
                <a:cubicBezTo>
                  <a:pt x="18141" y="12008"/>
                  <a:pt x="18109" y="11928"/>
                  <a:pt x="18074" y="11882"/>
                </a:cubicBezTo>
                <a:cubicBezTo>
                  <a:pt x="18052" y="11853"/>
                  <a:pt x="18002" y="11790"/>
                  <a:pt x="17978" y="11763"/>
                </a:cubicBezTo>
                <a:cubicBezTo>
                  <a:pt x="17953" y="11734"/>
                  <a:pt x="17929" y="11718"/>
                  <a:pt x="17907" y="11692"/>
                </a:cubicBezTo>
                <a:cubicBezTo>
                  <a:pt x="17919" y="11724"/>
                  <a:pt x="17914" y="11757"/>
                  <a:pt x="17931" y="11787"/>
                </a:cubicBezTo>
                <a:cubicBezTo>
                  <a:pt x="17970" y="11856"/>
                  <a:pt x="18034" y="11898"/>
                  <a:pt x="18074" y="11954"/>
                </a:cubicBezTo>
                <a:cubicBezTo>
                  <a:pt x="18120" y="12019"/>
                  <a:pt x="18145" y="12104"/>
                  <a:pt x="18193" y="12168"/>
                </a:cubicBezTo>
                <a:cubicBezTo>
                  <a:pt x="18236" y="12225"/>
                  <a:pt x="18268" y="12275"/>
                  <a:pt x="18312" y="12335"/>
                </a:cubicBezTo>
                <a:cubicBezTo>
                  <a:pt x="18356" y="12395"/>
                  <a:pt x="18408" y="12437"/>
                  <a:pt x="18455" y="12502"/>
                </a:cubicBezTo>
                <a:cubicBezTo>
                  <a:pt x="18502" y="12567"/>
                  <a:pt x="18550" y="12628"/>
                  <a:pt x="18598" y="12692"/>
                </a:cubicBezTo>
                <a:cubicBezTo>
                  <a:pt x="18620" y="12721"/>
                  <a:pt x="18645" y="12779"/>
                  <a:pt x="18669" y="12811"/>
                </a:cubicBezTo>
                <a:cubicBezTo>
                  <a:pt x="18668" y="12811"/>
                  <a:pt x="18634" y="12784"/>
                  <a:pt x="18598" y="12787"/>
                </a:cubicBezTo>
                <a:cubicBezTo>
                  <a:pt x="18511" y="12793"/>
                  <a:pt x="18423" y="12833"/>
                  <a:pt x="18359" y="12883"/>
                </a:cubicBezTo>
                <a:cubicBezTo>
                  <a:pt x="18284" y="12941"/>
                  <a:pt x="18219" y="12993"/>
                  <a:pt x="18145" y="13049"/>
                </a:cubicBezTo>
                <a:cubicBezTo>
                  <a:pt x="18076" y="13101"/>
                  <a:pt x="18038" y="13153"/>
                  <a:pt x="17978" y="13216"/>
                </a:cubicBezTo>
                <a:cubicBezTo>
                  <a:pt x="17926" y="13272"/>
                  <a:pt x="17867" y="13327"/>
                  <a:pt x="17836" y="13359"/>
                </a:cubicBezTo>
                <a:cubicBezTo>
                  <a:pt x="17828" y="13367"/>
                  <a:pt x="17820" y="13375"/>
                  <a:pt x="17812" y="13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556000" y="2060640"/>
            <a:ext cx="5198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форм презентации проектной / исследовательской (реферат) работы Вашего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2"/>
          <p:cNvSpPr/>
          <p:nvPr/>
        </p:nvSpPr>
        <p:spPr>
          <a:xfrm>
            <a:off x="6618240" y="617400"/>
            <a:ext cx="1997280" cy="978120"/>
          </a:xfrm>
          <a:custGeom>
            <a:avLst/>
            <a:gdLst/>
            <a:ahLst/>
            <a:rect l="l" t="t" r="r" b="b"/>
            <a:pathLst>
              <a:path w="5550" h="2715">
                <a:moveTo>
                  <a:pt x="20955" y="1715"/>
                </a:moveTo>
                <a:cubicBezTo>
                  <a:pt x="20639" y="1715"/>
                  <a:pt x="20338" y="1764"/>
                  <a:pt x="20026" y="1786"/>
                </a:cubicBezTo>
                <a:cubicBezTo>
                  <a:pt x="19945" y="1792"/>
                  <a:pt x="19861" y="1767"/>
                  <a:pt x="19788" y="1810"/>
                </a:cubicBezTo>
                <a:cubicBezTo>
                  <a:pt x="19429" y="2022"/>
                  <a:pt x="19113" y="2503"/>
                  <a:pt x="18836" y="2810"/>
                </a:cubicBezTo>
                <a:cubicBezTo>
                  <a:pt x="18675" y="2988"/>
                  <a:pt x="18561" y="3190"/>
                  <a:pt x="18455" y="3405"/>
                </a:cubicBezTo>
                <a:cubicBezTo>
                  <a:pt x="18426" y="3463"/>
                  <a:pt x="18408" y="3538"/>
                  <a:pt x="18383" y="3596"/>
                </a:cubicBezTo>
                <a:cubicBezTo>
                  <a:pt x="18448" y="3628"/>
                  <a:pt x="18525" y="3679"/>
                  <a:pt x="18598" y="3715"/>
                </a:cubicBezTo>
                <a:cubicBezTo>
                  <a:pt x="18860" y="3845"/>
                  <a:pt x="19104" y="3943"/>
                  <a:pt x="19383" y="4048"/>
                </a:cubicBezTo>
                <a:cubicBezTo>
                  <a:pt x="19848" y="4223"/>
                  <a:pt x="20267" y="4389"/>
                  <a:pt x="20765" y="4405"/>
                </a:cubicBezTo>
                <a:cubicBezTo>
                  <a:pt x="21344" y="4423"/>
                  <a:pt x="22031" y="4532"/>
                  <a:pt x="22598" y="4429"/>
                </a:cubicBezTo>
                <a:cubicBezTo>
                  <a:pt x="22791" y="4394"/>
                  <a:pt x="23176" y="4096"/>
                  <a:pt x="23336" y="3977"/>
                </a:cubicBezTo>
                <a:cubicBezTo>
                  <a:pt x="23556" y="3814"/>
                  <a:pt x="23739" y="3622"/>
                  <a:pt x="23932" y="3429"/>
                </a:cubicBezTo>
                <a:cubicBezTo>
                  <a:pt x="23814" y="3335"/>
                  <a:pt x="23687" y="3246"/>
                  <a:pt x="23574" y="3143"/>
                </a:cubicBezTo>
                <a:cubicBezTo>
                  <a:pt x="23384" y="2969"/>
                  <a:pt x="23267" y="2757"/>
                  <a:pt x="23122" y="2548"/>
                </a:cubicBezTo>
                <a:cubicBezTo>
                  <a:pt x="23023" y="2406"/>
                  <a:pt x="23014" y="2196"/>
                  <a:pt x="22860" y="2119"/>
                </a:cubicBezTo>
                <a:cubicBezTo>
                  <a:pt x="22687" y="2033"/>
                  <a:pt x="22234" y="2000"/>
                  <a:pt x="22050" y="1976"/>
                </a:cubicBezTo>
                <a:cubicBezTo>
                  <a:pt x="21746" y="1936"/>
                  <a:pt x="21420" y="1973"/>
                  <a:pt x="21122" y="1905"/>
                </a:cubicBezTo>
                <a:cubicBezTo>
                  <a:pt x="21039" y="1886"/>
                  <a:pt x="20987" y="1822"/>
                  <a:pt x="20931" y="1810"/>
                </a:cubicBezTo>
                <a:cubicBezTo>
                  <a:pt x="20825" y="1788"/>
                  <a:pt x="20673" y="1802"/>
                  <a:pt x="20574" y="1834"/>
                </a:cubicBezTo>
                <a:cubicBezTo>
                  <a:pt x="20534" y="1847"/>
                  <a:pt x="20531" y="1869"/>
                  <a:pt x="20503" y="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3"/>
          <p:cNvSpPr/>
          <p:nvPr/>
        </p:nvSpPr>
        <p:spPr>
          <a:xfrm>
            <a:off x="5692680" y="1722600"/>
            <a:ext cx="1603440" cy="755640"/>
          </a:xfrm>
          <a:custGeom>
            <a:avLst/>
            <a:gdLst/>
            <a:ahLst/>
            <a:rect l="l" t="t" r="r" b="b"/>
            <a:pathLst>
              <a:path w="4453" h="2097">
                <a:moveTo>
                  <a:pt x="15812" y="6882"/>
                </a:moveTo>
                <a:cubicBezTo>
                  <a:pt x="15866" y="6839"/>
                  <a:pt x="15890" y="6806"/>
                  <a:pt x="15978" y="6763"/>
                </a:cubicBezTo>
                <a:cubicBezTo>
                  <a:pt x="16516" y="6500"/>
                  <a:pt x="17075" y="6291"/>
                  <a:pt x="17621" y="6048"/>
                </a:cubicBezTo>
                <a:cubicBezTo>
                  <a:pt x="17916" y="5917"/>
                  <a:pt x="18199" y="5756"/>
                  <a:pt x="18479" y="5596"/>
                </a:cubicBezTo>
                <a:cubicBezTo>
                  <a:pt x="18575" y="5541"/>
                  <a:pt x="18675" y="5486"/>
                  <a:pt x="18764" y="5429"/>
                </a:cubicBezTo>
                <a:cubicBezTo>
                  <a:pt x="18853" y="5372"/>
                  <a:pt x="18936" y="5318"/>
                  <a:pt x="19050" y="5286"/>
                </a:cubicBezTo>
                <a:cubicBezTo>
                  <a:pt x="19214" y="5240"/>
                  <a:pt x="19267" y="5229"/>
                  <a:pt x="19383" y="5120"/>
                </a:cubicBezTo>
                <a:cubicBezTo>
                  <a:pt x="19457" y="5050"/>
                  <a:pt x="19471" y="5032"/>
                  <a:pt x="19574" y="4977"/>
                </a:cubicBezTo>
                <a:cubicBezTo>
                  <a:pt x="19663" y="4929"/>
                  <a:pt x="19749" y="4881"/>
                  <a:pt x="19836" y="4834"/>
                </a:cubicBezTo>
                <a:cubicBezTo>
                  <a:pt x="19874" y="4813"/>
                  <a:pt x="19897" y="4804"/>
                  <a:pt x="19931" y="4786"/>
                </a:cubicBezTo>
                <a:cubicBezTo>
                  <a:pt x="19707" y="4794"/>
                  <a:pt x="19553" y="4841"/>
                  <a:pt x="19336" y="4905"/>
                </a:cubicBezTo>
                <a:cubicBezTo>
                  <a:pt x="19224" y="4938"/>
                  <a:pt x="19112" y="4966"/>
                  <a:pt x="19002" y="5001"/>
                </a:cubicBezTo>
                <a:cubicBezTo>
                  <a:pt x="18963" y="5020"/>
                  <a:pt x="18957" y="5028"/>
                  <a:pt x="18931" y="5024"/>
                </a:cubicBezTo>
                <a:cubicBezTo>
                  <a:pt x="18996" y="4993"/>
                  <a:pt x="19046" y="4948"/>
                  <a:pt x="19121" y="4929"/>
                </a:cubicBezTo>
                <a:cubicBezTo>
                  <a:pt x="19242" y="4899"/>
                  <a:pt x="19377" y="4905"/>
                  <a:pt x="19502" y="4882"/>
                </a:cubicBezTo>
                <a:cubicBezTo>
                  <a:pt x="19639" y="4857"/>
                  <a:pt x="19771" y="4838"/>
                  <a:pt x="19907" y="4810"/>
                </a:cubicBezTo>
                <a:cubicBezTo>
                  <a:pt x="19972" y="4796"/>
                  <a:pt x="20032" y="4792"/>
                  <a:pt x="20098" y="4786"/>
                </a:cubicBezTo>
                <a:cubicBezTo>
                  <a:pt x="20153" y="4781"/>
                  <a:pt x="20209" y="4786"/>
                  <a:pt x="20264" y="4786"/>
                </a:cubicBezTo>
                <a:cubicBezTo>
                  <a:pt x="20245" y="4830"/>
                  <a:pt x="20234" y="4883"/>
                  <a:pt x="20217" y="4929"/>
                </a:cubicBezTo>
                <a:cubicBezTo>
                  <a:pt x="20178" y="5036"/>
                  <a:pt x="20145" y="5132"/>
                  <a:pt x="20122" y="5239"/>
                </a:cubicBezTo>
                <a:cubicBezTo>
                  <a:pt x="20104" y="5320"/>
                  <a:pt x="20077" y="5396"/>
                  <a:pt x="20050" y="5477"/>
                </a:cubicBezTo>
                <a:cubicBezTo>
                  <a:pt x="20032" y="5529"/>
                  <a:pt x="20018" y="5587"/>
                  <a:pt x="20003" y="5644"/>
                </a:cubicBezTo>
                <a:cubicBezTo>
                  <a:pt x="19992" y="5684"/>
                  <a:pt x="19966" y="5699"/>
                  <a:pt x="19955" y="5739"/>
                </a:cubicBezTo>
                <a:cubicBezTo>
                  <a:pt x="19955" y="5763"/>
                  <a:pt x="19955" y="5770"/>
                  <a:pt x="19955" y="5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ебование ФГОС (Гла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. 6 «Требования к результатам освоения основной образовательной программы»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ыт, который будет востребован при написании курсовых, дипломных, магистерских и т.д. рабо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ыт самопрезентации, публичной защиты  (своих достижений, своей идеи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"/>
          <p:cNvSpPr/>
          <p:nvPr/>
        </p:nvSpPr>
        <p:spPr>
          <a:xfrm>
            <a:off x="703440" y="4518000"/>
            <a:ext cx="5160960" cy="1809720"/>
          </a:xfrm>
          <a:custGeom>
            <a:avLst/>
            <a:gdLst/>
            <a:ahLst/>
            <a:rect l="l" t="t" r="r" b="b"/>
            <a:pathLst>
              <a:path w="14336" h="5026">
                <a:moveTo>
                  <a:pt x="7596" y="12787"/>
                </a:moveTo>
                <a:cubicBezTo>
                  <a:pt x="7037" y="12787"/>
                  <a:pt x="6450" y="12930"/>
                  <a:pt x="5906" y="12883"/>
                </a:cubicBezTo>
                <a:cubicBezTo>
                  <a:pt x="5679" y="12863"/>
                  <a:pt x="5472" y="12811"/>
                  <a:pt x="5239" y="12811"/>
                </a:cubicBezTo>
                <a:cubicBezTo>
                  <a:pt x="4943" y="12811"/>
                  <a:pt x="4726" y="12889"/>
                  <a:pt x="4453" y="13002"/>
                </a:cubicBezTo>
                <a:cubicBezTo>
                  <a:pt x="4217" y="13100"/>
                  <a:pt x="4011" y="13255"/>
                  <a:pt x="3786" y="13359"/>
                </a:cubicBezTo>
                <a:cubicBezTo>
                  <a:pt x="3634" y="13429"/>
                  <a:pt x="3433" y="13460"/>
                  <a:pt x="3286" y="13549"/>
                </a:cubicBezTo>
                <a:cubicBezTo>
                  <a:pt x="2985" y="13732"/>
                  <a:pt x="2670" y="14009"/>
                  <a:pt x="2429" y="14264"/>
                </a:cubicBezTo>
                <a:cubicBezTo>
                  <a:pt x="2280" y="14421"/>
                  <a:pt x="2125" y="14597"/>
                  <a:pt x="2024" y="14788"/>
                </a:cubicBezTo>
                <a:cubicBezTo>
                  <a:pt x="1997" y="14839"/>
                  <a:pt x="1986" y="14753"/>
                  <a:pt x="1953" y="14883"/>
                </a:cubicBezTo>
                <a:cubicBezTo>
                  <a:pt x="1880" y="15170"/>
                  <a:pt x="1993" y="15665"/>
                  <a:pt x="2096" y="15931"/>
                </a:cubicBezTo>
                <a:cubicBezTo>
                  <a:pt x="2184" y="16158"/>
                  <a:pt x="2373" y="16343"/>
                  <a:pt x="2524" y="16526"/>
                </a:cubicBezTo>
                <a:cubicBezTo>
                  <a:pt x="3060" y="17176"/>
                  <a:pt x="3774" y="17291"/>
                  <a:pt x="4572" y="17383"/>
                </a:cubicBezTo>
                <a:cubicBezTo>
                  <a:pt x="5360" y="17474"/>
                  <a:pt x="6163" y="17487"/>
                  <a:pt x="6953" y="17526"/>
                </a:cubicBezTo>
                <a:cubicBezTo>
                  <a:pt x="7144" y="17535"/>
                  <a:pt x="7357" y="17568"/>
                  <a:pt x="7549" y="17574"/>
                </a:cubicBezTo>
                <a:cubicBezTo>
                  <a:pt x="8095" y="17590"/>
                  <a:pt x="8625" y="17504"/>
                  <a:pt x="9168" y="17455"/>
                </a:cubicBezTo>
                <a:cubicBezTo>
                  <a:pt x="9868" y="17392"/>
                  <a:pt x="10503" y="17236"/>
                  <a:pt x="11192" y="17145"/>
                </a:cubicBezTo>
                <a:cubicBezTo>
                  <a:pt x="12120" y="17023"/>
                  <a:pt x="12966" y="17017"/>
                  <a:pt x="13907" y="16788"/>
                </a:cubicBezTo>
                <a:cubicBezTo>
                  <a:pt x="14334" y="16684"/>
                  <a:pt x="14497" y="16585"/>
                  <a:pt x="14835" y="16335"/>
                </a:cubicBezTo>
                <a:cubicBezTo>
                  <a:pt x="15378" y="15933"/>
                  <a:pt x="15826" y="15369"/>
                  <a:pt x="16288" y="14883"/>
                </a:cubicBezTo>
                <a:cubicBezTo>
                  <a:pt x="16235" y="14829"/>
                  <a:pt x="16133" y="14763"/>
                  <a:pt x="16073" y="14692"/>
                </a:cubicBezTo>
                <a:cubicBezTo>
                  <a:pt x="15858" y="14437"/>
                  <a:pt x="15648" y="14183"/>
                  <a:pt x="15431" y="13930"/>
                </a:cubicBezTo>
                <a:cubicBezTo>
                  <a:pt x="15348" y="13832"/>
                  <a:pt x="15216" y="13653"/>
                  <a:pt x="15145" y="13621"/>
                </a:cubicBezTo>
                <a:cubicBezTo>
                  <a:pt x="14798" y="13465"/>
                  <a:pt x="13958" y="13398"/>
                  <a:pt x="13621" y="13311"/>
                </a:cubicBezTo>
                <a:cubicBezTo>
                  <a:pt x="13066" y="13168"/>
                  <a:pt x="11858" y="12529"/>
                  <a:pt x="11335" y="12549"/>
                </a:cubicBezTo>
                <a:cubicBezTo>
                  <a:pt x="11279" y="12551"/>
                  <a:pt x="11296" y="12663"/>
                  <a:pt x="11240" y="12668"/>
                </a:cubicBezTo>
                <a:cubicBezTo>
                  <a:pt x="10818" y="12708"/>
                  <a:pt x="10392" y="12841"/>
                  <a:pt x="9954" y="12859"/>
                </a:cubicBezTo>
                <a:cubicBezTo>
                  <a:pt x="9543" y="12876"/>
                  <a:pt x="9127" y="12880"/>
                  <a:pt x="8715" y="12883"/>
                </a:cubicBezTo>
                <a:cubicBezTo>
                  <a:pt x="8482" y="12885"/>
                  <a:pt x="8045" y="12733"/>
                  <a:pt x="7930" y="12740"/>
                </a:cubicBezTo>
                <a:cubicBezTo>
                  <a:pt x="7873" y="12743"/>
                  <a:pt x="7834" y="12760"/>
                  <a:pt x="7787" y="12764"/>
                </a:cubicBezTo>
                <a:cubicBezTo>
                  <a:pt x="7703" y="12772"/>
                  <a:pt x="7653" y="12861"/>
                  <a:pt x="7549" y="12859"/>
                </a:cubicBezTo>
                <a:cubicBezTo>
                  <a:pt x="7517" y="12858"/>
                  <a:pt x="7533" y="12809"/>
                  <a:pt x="7501" y="12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3"/>
          <p:cNvSpPr/>
          <p:nvPr/>
        </p:nvSpPr>
        <p:spPr>
          <a:xfrm>
            <a:off x="3257640" y="3917880"/>
            <a:ext cx="352440" cy="608040"/>
          </a:xfrm>
          <a:custGeom>
            <a:avLst/>
            <a:gdLst/>
            <a:ahLst/>
            <a:rect l="l" t="t" r="r" b="b"/>
            <a:pathLst>
              <a:path w="977" h="1692">
                <a:moveTo>
                  <a:pt x="9858" y="10882"/>
                </a:moveTo>
                <a:cubicBezTo>
                  <a:pt x="9840" y="10905"/>
                  <a:pt x="9844" y="10926"/>
                  <a:pt x="9811" y="10954"/>
                </a:cubicBezTo>
                <a:cubicBezTo>
                  <a:pt x="9759" y="10999"/>
                  <a:pt x="9736" y="11033"/>
                  <a:pt x="9692" y="11097"/>
                </a:cubicBezTo>
                <a:cubicBezTo>
                  <a:pt x="9638" y="11176"/>
                  <a:pt x="9570" y="11288"/>
                  <a:pt x="9549" y="11382"/>
                </a:cubicBezTo>
                <a:cubicBezTo>
                  <a:pt x="9533" y="11454"/>
                  <a:pt x="9500" y="11526"/>
                  <a:pt x="9477" y="11597"/>
                </a:cubicBezTo>
                <a:cubicBezTo>
                  <a:pt x="9449" y="11684"/>
                  <a:pt x="9411" y="11778"/>
                  <a:pt x="9382" y="11859"/>
                </a:cubicBezTo>
                <a:cubicBezTo>
                  <a:pt x="9368" y="11900"/>
                  <a:pt x="9354" y="11962"/>
                  <a:pt x="9335" y="12002"/>
                </a:cubicBezTo>
                <a:cubicBezTo>
                  <a:pt x="9312" y="12050"/>
                  <a:pt x="9267" y="12128"/>
                  <a:pt x="9239" y="12168"/>
                </a:cubicBezTo>
                <a:cubicBezTo>
                  <a:pt x="9223" y="12191"/>
                  <a:pt x="9199" y="12209"/>
                  <a:pt x="9168" y="12240"/>
                </a:cubicBezTo>
                <a:cubicBezTo>
                  <a:pt x="9151" y="12257"/>
                  <a:pt x="9139" y="12285"/>
                  <a:pt x="9120" y="12311"/>
                </a:cubicBezTo>
                <a:cubicBezTo>
                  <a:pt x="9120" y="12335"/>
                  <a:pt x="9120" y="12343"/>
                  <a:pt x="9096" y="12335"/>
                </a:cubicBezTo>
                <a:cubicBezTo>
                  <a:pt x="9089" y="12273"/>
                  <a:pt x="9059" y="12226"/>
                  <a:pt x="9049" y="12168"/>
                </a:cubicBezTo>
                <a:cubicBezTo>
                  <a:pt x="9028" y="12040"/>
                  <a:pt x="9049" y="11893"/>
                  <a:pt x="9049" y="11763"/>
                </a:cubicBezTo>
                <a:cubicBezTo>
                  <a:pt x="9049" y="11794"/>
                  <a:pt x="9043" y="11780"/>
                  <a:pt x="9049" y="11811"/>
                </a:cubicBezTo>
                <a:cubicBezTo>
                  <a:pt x="9066" y="11899"/>
                  <a:pt x="9100" y="11985"/>
                  <a:pt x="9120" y="12073"/>
                </a:cubicBezTo>
                <a:cubicBezTo>
                  <a:pt x="9145" y="12185"/>
                  <a:pt x="9187" y="12293"/>
                  <a:pt x="9192" y="12406"/>
                </a:cubicBezTo>
                <a:cubicBezTo>
                  <a:pt x="9194" y="12454"/>
                  <a:pt x="9192" y="12501"/>
                  <a:pt x="9192" y="12549"/>
                </a:cubicBezTo>
                <a:cubicBezTo>
                  <a:pt x="9214" y="12526"/>
                  <a:pt x="9208" y="12556"/>
                  <a:pt x="9215" y="12525"/>
                </a:cubicBezTo>
                <a:cubicBezTo>
                  <a:pt x="9231" y="12453"/>
                  <a:pt x="9288" y="12429"/>
                  <a:pt x="9358" y="12383"/>
                </a:cubicBezTo>
                <a:cubicBezTo>
                  <a:pt x="9452" y="12320"/>
                  <a:pt x="9564" y="12261"/>
                  <a:pt x="9668" y="12216"/>
                </a:cubicBezTo>
                <a:cubicBezTo>
                  <a:pt x="9754" y="12179"/>
                  <a:pt x="9813" y="12135"/>
                  <a:pt x="9906" y="12121"/>
                </a:cubicBezTo>
                <a:cubicBezTo>
                  <a:pt x="9971" y="12111"/>
                  <a:pt x="9990" y="12118"/>
                  <a:pt x="1002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своему ребен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с выбором работы для защиты (уже написанный реферат или новая работа, написание которой планируется в 9 класс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лан работы и контролировать его выполн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ь докла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епетицию защи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овать на защи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Ink 2"/>
          <p:cNvSpPr/>
          <p:nvPr/>
        </p:nvSpPr>
        <p:spPr>
          <a:xfrm>
            <a:off x="6865920" y="4911840"/>
            <a:ext cx="1827360" cy="1242720"/>
          </a:xfrm>
          <a:custGeom>
            <a:avLst/>
            <a:gdLst/>
            <a:ahLst/>
            <a:rect l="l" t="t" r="r" b="b"/>
            <a:pathLst>
              <a:path w="5073" h="3453">
                <a:moveTo>
                  <a:pt x="21598" y="13645"/>
                </a:moveTo>
                <a:cubicBezTo>
                  <a:pt x="21390" y="13645"/>
                  <a:pt x="21229" y="13671"/>
                  <a:pt x="21026" y="13716"/>
                </a:cubicBezTo>
                <a:cubicBezTo>
                  <a:pt x="20719" y="13784"/>
                  <a:pt x="20336" y="13814"/>
                  <a:pt x="20050" y="13954"/>
                </a:cubicBezTo>
                <a:cubicBezTo>
                  <a:pt x="19982" y="13987"/>
                  <a:pt x="19714" y="14140"/>
                  <a:pt x="19645" y="14192"/>
                </a:cubicBezTo>
                <a:cubicBezTo>
                  <a:pt x="19458" y="14334"/>
                  <a:pt x="19362" y="14607"/>
                  <a:pt x="19264" y="14811"/>
                </a:cubicBezTo>
                <a:cubicBezTo>
                  <a:pt x="19126" y="15097"/>
                  <a:pt x="19030" y="15400"/>
                  <a:pt x="19098" y="15716"/>
                </a:cubicBezTo>
                <a:cubicBezTo>
                  <a:pt x="19133" y="15878"/>
                  <a:pt x="19191" y="15985"/>
                  <a:pt x="19288" y="16121"/>
                </a:cubicBezTo>
                <a:cubicBezTo>
                  <a:pt x="19456" y="16356"/>
                  <a:pt x="19607" y="16496"/>
                  <a:pt x="19836" y="16669"/>
                </a:cubicBezTo>
                <a:cubicBezTo>
                  <a:pt x="20033" y="16818"/>
                  <a:pt x="20155" y="16951"/>
                  <a:pt x="20407" y="16978"/>
                </a:cubicBezTo>
                <a:cubicBezTo>
                  <a:pt x="21051" y="17047"/>
                  <a:pt x="21692" y="16979"/>
                  <a:pt x="22336" y="17074"/>
                </a:cubicBezTo>
                <a:cubicBezTo>
                  <a:pt x="22462" y="17093"/>
                  <a:pt x="22582" y="17097"/>
                  <a:pt x="22717" y="17097"/>
                </a:cubicBezTo>
                <a:cubicBezTo>
                  <a:pt x="23035" y="17097"/>
                  <a:pt x="23750" y="17181"/>
                  <a:pt x="24003" y="16978"/>
                </a:cubicBezTo>
                <a:cubicBezTo>
                  <a:pt x="24032" y="16955"/>
                  <a:pt x="24020" y="16729"/>
                  <a:pt x="24027" y="16693"/>
                </a:cubicBezTo>
                <a:cubicBezTo>
                  <a:pt x="24074" y="16443"/>
                  <a:pt x="24039" y="16206"/>
                  <a:pt x="24098" y="15954"/>
                </a:cubicBezTo>
                <a:cubicBezTo>
                  <a:pt x="24182" y="15597"/>
                  <a:pt x="23957" y="15539"/>
                  <a:pt x="23670" y="15359"/>
                </a:cubicBezTo>
                <a:cubicBezTo>
                  <a:pt x="23443" y="15216"/>
                  <a:pt x="22984" y="15088"/>
                  <a:pt x="22812" y="14883"/>
                </a:cubicBezTo>
                <a:cubicBezTo>
                  <a:pt x="22721" y="14774"/>
                  <a:pt x="22690" y="14710"/>
                  <a:pt x="22598" y="14621"/>
                </a:cubicBezTo>
                <a:cubicBezTo>
                  <a:pt x="22472" y="14500"/>
                  <a:pt x="22316" y="14390"/>
                  <a:pt x="22193" y="14264"/>
                </a:cubicBezTo>
                <a:cubicBezTo>
                  <a:pt x="22116" y="14185"/>
                  <a:pt x="22113" y="14072"/>
                  <a:pt x="22050" y="14002"/>
                </a:cubicBezTo>
                <a:cubicBezTo>
                  <a:pt x="22022" y="13971"/>
                  <a:pt x="21976" y="13940"/>
                  <a:pt x="21931" y="13907"/>
                </a:cubicBezTo>
                <a:cubicBezTo>
                  <a:pt x="21889" y="13876"/>
                  <a:pt x="21815" y="13864"/>
                  <a:pt x="21765" y="13835"/>
                </a:cubicBezTo>
                <a:cubicBezTo>
                  <a:pt x="21730" y="13815"/>
                  <a:pt x="21687" y="13787"/>
                  <a:pt x="21646" y="13764"/>
                </a:cubicBezTo>
                <a:cubicBezTo>
                  <a:pt x="21605" y="13741"/>
                  <a:pt x="21608" y="13728"/>
                  <a:pt x="21574" y="13716"/>
                </a:cubicBezTo>
                <a:cubicBezTo>
                  <a:pt x="21543" y="13705"/>
                  <a:pt x="21509" y="13700"/>
                  <a:pt x="21479" y="13692"/>
                </a:cubicBezTo>
                <a:cubicBezTo>
                  <a:pt x="21471" y="13692"/>
                  <a:pt x="21463" y="13692"/>
                  <a:pt x="2145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5665680" y="4097160"/>
            <a:ext cx="1501920" cy="874800"/>
          </a:xfrm>
          <a:custGeom>
            <a:avLst/>
            <a:gdLst/>
            <a:ahLst/>
            <a:rect l="l" t="t" r="r" b="b"/>
            <a:pathLst>
              <a:path w="4168" h="2430">
                <a:moveTo>
                  <a:pt x="15740" y="11406"/>
                </a:moveTo>
                <a:cubicBezTo>
                  <a:pt x="15783" y="11418"/>
                  <a:pt x="15793" y="11415"/>
                  <a:pt x="15835" y="11430"/>
                </a:cubicBezTo>
                <a:cubicBezTo>
                  <a:pt x="15953" y="11472"/>
                  <a:pt x="16074" y="11489"/>
                  <a:pt x="16193" y="11525"/>
                </a:cubicBezTo>
                <a:cubicBezTo>
                  <a:pt x="16402" y="11588"/>
                  <a:pt x="16611" y="11657"/>
                  <a:pt x="16812" y="11740"/>
                </a:cubicBezTo>
                <a:cubicBezTo>
                  <a:pt x="17054" y="11840"/>
                  <a:pt x="17282" y="11959"/>
                  <a:pt x="17502" y="12097"/>
                </a:cubicBezTo>
                <a:cubicBezTo>
                  <a:pt x="17740" y="12247"/>
                  <a:pt x="17973" y="12398"/>
                  <a:pt x="18193" y="12573"/>
                </a:cubicBezTo>
                <a:cubicBezTo>
                  <a:pt x="18330" y="12682"/>
                  <a:pt x="18456" y="12805"/>
                  <a:pt x="18598" y="12906"/>
                </a:cubicBezTo>
                <a:cubicBezTo>
                  <a:pt x="18660" y="12950"/>
                  <a:pt x="18752" y="13073"/>
                  <a:pt x="18788" y="13097"/>
                </a:cubicBezTo>
                <a:cubicBezTo>
                  <a:pt x="18843" y="13133"/>
                  <a:pt x="18986" y="13165"/>
                  <a:pt x="19050" y="13192"/>
                </a:cubicBezTo>
                <a:cubicBezTo>
                  <a:pt x="19156" y="13237"/>
                  <a:pt x="19282" y="13280"/>
                  <a:pt x="19383" y="13335"/>
                </a:cubicBezTo>
                <a:cubicBezTo>
                  <a:pt x="19456" y="13375"/>
                  <a:pt x="19525" y="13436"/>
                  <a:pt x="19598" y="13478"/>
                </a:cubicBezTo>
                <a:cubicBezTo>
                  <a:pt x="19664" y="13515"/>
                  <a:pt x="19730" y="13549"/>
                  <a:pt x="19788" y="13597"/>
                </a:cubicBezTo>
                <a:cubicBezTo>
                  <a:pt x="19836" y="13637"/>
                  <a:pt x="19873" y="13701"/>
                  <a:pt x="19907" y="13740"/>
                </a:cubicBezTo>
                <a:cubicBezTo>
                  <a:pt x="19886" y="13697"/>
                  <a:pt x="19867" y="13614"/>
                  <a:pt x="19836" y="13573"/>
                </a:cubicBezTo>
                <a:cubicBezTo>
                  <a:pt x="19710" y="13406"/>
                  <a:pt x="19521" y="13273"/>
                  <a:pt x="19407" y="13097"/>
                </a:cubicBezTo>
                <a:cubicBezTo>
                  <a:pt x="19353" y="13014"/>
                  <a:pt x="19310" y="12922"/>
                  <a:pt x="19264" y="12835"/>
                </a:cubicBezTo>
                <a:cubicBezTo>
                  <a:pt x="19237" y="12785"/>
                  <a:pt x="19239" y="12736"/>
                  <a:pt x="19217" y="12692"/>
                </a:cubicBezTo>
                <a:cubicBezTo>
                  <a:pt x="19202" y="12661"/>
                  <a:pt x="19193" y="12647"/>
                  <a:pt x="19169" y="12621"/>
                </a:cubicBezTo>
                <a:cubicBezTo>
                  <a:pt x="19161" y="12621"/>
                  <a:pt x="19153" y="12621"/>
                  <a:pt x="19145" y="12621"/>
                </a:cubicBezTo>
                <a:cubicBezTo>
                  <a:pt x="19154" y="12657"/>
                  <a:pt x="19160" y="12682"/>
                  <a:pt x="19169" y="12716"/>
                </a:cubicBezTo>
                <a:cubicBezTo>
                  <a:pt x="19181" y="12763"/>
                  <a:pt x="19192" y="12797"/>
                  <a:pt x="19217" y="12835"/>
                </a:cubicBezTo>
                <a:cubicBezTo>
                  <a:pt x="19247" y="12881"/>
                  <a:pt x="19285" y="12940"/>
                  <a:pt x="19312" y="12978"/>
                </a:cubicBezTo>
                <a:cubicBezTo>
                  <a:pt x="19349" y="13030"/>
                  <a:pt x="19402" y="13078"/>
                  <a:pt x="19431" y="13121"/>
                </a:cubicBezTo>
                <a:cubicBezTo>
                  <a:pt x="19456" y="13158"/>
                  <a:pt x="19456" y="13193"/>
                  <a:pt x="19502" y="13240"/>
                </a:cubicBezTo>
                <a:cubicBezTo>
                  <a:pt x="19518" y="13256"/>
                  <a:pt x="19546" y="13282"/>
                  <a:pt x="19574" y="13311"/>
                </a:cubicBezTo>
                <a:cubicBezTo>
                  <a:pt x="19596" y="13333"/>
                  <a:pt x="19635" y="13376"/>
                  <a:pt x="19669" y="13406"/>
                </a:cubicBezTo>
                <a:cubicBezTo>
                  <a:pt x="19714" y="13446"/>
                  <a:pt x="19772" y="13495"/>
                  <a:pt x="19788" y="13549"/>
                </a:cubicBezTo>
                <a:cubicBezTo>
                  <a:pt x="19801" y="13592"/>
                  <a:pt x="19782" y="13648"/>
                  <a:pt x="19788" y="13692"/>
                </a:cubicBezTo>
                <a:cubicBezTo>
                  <a:pt x="19761" y="13681"/>
                  <a:pt x="19737" y="13650"/>
                  <a:pt x="19717" y="13645"/>
                </a:cubicBezTo>
                <a:cubicBezTo>
                  <a:pt x="19612" y="13622"/>
                  <a:pt x="19490" y="13623"/>
                  <a:pt x="19383" y="13621"/>
                </a:cubicBezTo>
                <a:cubicBezTo>
                  <a:pt x="19235" y="13618"/>
                  <a:pt x="19071" y="13602"/>
                  <a:pt x="18931" y="13645"/>
                </a:cubicBezTo>
                <a:cubicBezTo>
                  <a:pt x="18849" y="13670"/>
                  <a:pt x="18852" y="13681"/>
                  <a:pt x="18788" y="13716"/>
                </a:cubicBezTo>
                <a:cubicBezTo>
                  <a:pt x="18758" y="13732"/>
                  <a:pt x="18733" y="13752"/>
                  <a:pt x="18717" y="13764"/>
                </a:cubicBezTo>
                <a:cubicBezTo>
                  <a:pt x="18645" y="13818"/>
                  <a:pt x="18714" y="13762"/>
                  <a:pt x="1866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2"/>
          <p:cNvSpPr/>
          <p:nvPr/>
        </p:nvSpPr>
        <p:spPr>
          <a:xfrm>
            <a:off x="136440" y="25560"/>
            <a:ext cx="4845240" cy="1784160"/>
          </a:xfrm>
          <a:custGeom>
            <a:avLst/>
            <a:gdLst/>
            <a:ahLst/>
            <a:rect l="l" t="t" r="r" b="b"/>
            <a:pathLst>
              <a:path w="13455" h="4954">
                <a:moveTo>
                  <a:pt x="11644" y="1262"/>
                </a:moveTo>
                <a:cubicBezTo>
                  <a:pt x="11538" y="1187"/>
                  <a:pt x="11434" y="1073"/>
                  <a:pt x="11311" y="1000"/>
                </a:cubicBezTo>
                <a:cubicBezTo>
                  <a:pt x="10932" y="774"/>
                  <a:pt x="10579" y="680"/>
                  <a:pt x="10168" y="548"/>
                </a:cubicBezTo>
                <a:cubicBezTo>
                  <a:pt x="10121" y="533"/>
                  <a:pt x="9995" y="457"/>
                  <a:pt x="9977" y="452"/>
                </a:cubicBezTo>
                <a:cubicBezTo>
                  <a:pt x="9813" y="408"/>
                  <a:pt x="9621" y="396"/>
                  <a:pt x="9454" y="357"/>
                </a:cubicBezTo>
                <a:cubicBezTo>
                  <a:pt x="8641" y="168"/>
                  <a:pt x="7857" y="71"/>
                  <a:pt x="7025" y="71"/>
                </a:cubicBezTo>
                <a:cubicBezTo>
                  <a:pt x="6715" y="71"/>
                  <a:pt x="6405" y="81"/>
                  <a:pt x="6096" y="95"/>
                </a:cubicBezTo>
                <a:cubicBezTo>
                  <a:pt x="5579" y="119"/>
                  <a:pt x="5063" y="179"/>
                  <a:pt x="4548" y="214"/>
                </a:cubicBezTo>
                <a:cubicBezTo>
                  <a:pt x="3789" y="265"/>
                  <a:pt x="3077" y="421"/>
                  <a:pt x="2334" y="572"/>
                </a:cubicBezTo>
                <a:cubicBezTo>
                  <a:pt x="2092" y="621"/>
                  <a:pt x="1905" y="670"/>
                  <a:pt x="1691" y="833"/>
                </a:cubicBezTo>
                <a:cubicBezTo>
                  <a:pt x="1246" y="1171"/>
                  <a:pt x="566" y="1915"/>
                  <a:pt x="405" y="2477"/>
                </a:cubicBezTo>
                <a:cubicBezTo>
                  <a:pt x="359" y="2637"/>
                  <a:pt x="471" y="2777"/>
                  <a:pt x="524" y="2929"/>
                </a:cubicBezTo>
                <a:cubicBezTo>
                  <a:pt x="652" y="3294"/>
                  <a:pt x="830" y="3602"/>
                  <a:pt x="1072" y="3905"/>
                </a:cubicBezTo>
                <a:cubicBezTo>
                  <a:pt x="1254" y="4133"/>
                  <a:pt x="1339" y="4211"/>
                  <a:pt x="1572" y="4334"/>
                </a:cubicBezTo>
                <a:cubicBezTo>
                  <a:pt x="2145" y="4638"/>
                  <a:pt x="2969" y="4786"/>
                  <a:pt x="3596" y="4858"/>
                </a:cubicBezTo>
                <a:cubicBezTo>
                  <a:pt x="4286" y="4937"/>
                  <a:pt x="4999" y="4873"/>
                  <a:pt x="5691" y="4929"/>
                </a:cubicBezTo>
                <a:cubicBezTo>
                  <a:pt x="6473" y="4992"/>
                  <a:pt x="7223" y="5059"/>
                  <a:pt x="8001" y="4977"/>
                </a:cubicBezTo>
                <a:cubicBezTo>
                  <a:pt x="8831" y="4890"/>
                  <a:pt x="9648" y="4844"/>
                  <a:pt x="10478" y="4786"/>
                </a:cubicBezTo>
                <a:cubicBezTo>
                  <a:pt x="11183" y="4737"/>
                  <a:pt x="11543" y="4716"/>
                  <a:pt x="12144" y="4453"/>
                </a:cubicBezTo>
                <a:cubicBezTo>
                  <a:pt x="12986" y="4057"/>
                  <a:pt x="13287" y="3913"/>
                  <a:pt x="13835" y="3596"/>
                </a:cubicBezTo>
                <a:cubicBezTo>
                  <a:pt x="13706" y="3442"/>
                  <a:pt x="13571" y="3295"/>
                  <a:pt x="13454" y="3119"/>
                </a:cubicBezTo>
                <a:cubicBezTo>
                  <a:pt x="13252" y="2815"/>
                  <a:pt x="13206" y="2576"/>
                  <a:pt x="13097" y="2238"/>
                </a:cubicBezTo>
                <a:cubicBezTo>
                  <a:pt x="12983" y="1887"/>
                  <a:pt x="13058" y="2057"/>
                  <a:pt x="12764" y="1857"/>
                </a:cubicBezTo>
                <a:cubicBezTo>
                  <a:pt x="12619" y="1758"/>
                  <a:pt x="12476" y="1712"/>
                  <a:pt x="12335" y="1595"/>
                </a:cubicBezTo>
                <a:cubicBezTo>
                  <a:pt x="12242" y="1518"/>
                  <a:pt x="12254" y="1480"/>
                  <a:pt x="12144" y="1405"/>
                </a:cubicBezTo>
                <a:cubicBezTo>
                  <a:pt x="12109" y="1381"/>
                  <a:pt x="12023" y="1382"/>
                  <a:pt x="11978" y="1357"/>
                </a:cubicBezTo>
                <a:cubicBezTo>
                  <a:pt x="11967" y="1351"/>
                  <a:pt x="11934" y="1300"/>
                  <a:pt x="11906" y="1286"/>
                </a:cubicBezTo>
                <a:cubicBezTo>
                  <a:pt x="11874" y="1270"/>
                  <a:pt x="11866" y="1255"/>
                  <a:pt x="11835" y="1238"/>
                </a:cubicBezTo>
                <a:cubicBezTo>
                  <a:pt x="11784" y="1209"/>
                  <a:pt x="11699" y="1223"/>
                  <a:pt x="11644" y="1191"/>
                </a:cubicBezTo>
                <a:cubicBezTo>
                  <a:pt x="11644" y="1164"/>
                  <a:pt x="11642" y="1154"/>
                  <a:pt x="11621" y="1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3"/>
          <p:cNvSpPr/>
          <p:nvPr/>
        </p:nvSpPr>
        <p:spPr>
          <a:xfrm>
            <a:off x="3763800" y="1911240"/>
            <a:ext cx="360360" cy="574920"/>
          </a:xfrm>
          <a:custGeom>
            <a:avLst/>
            <a:gdLst/>
            <a:ahLst/>
            <a:rect l="l" t="t" r="r" b="b"/>
            <a:pathLst>
              <a:path w="1001" h="1597">
                <a:moveTo>
                  <a:pt x="11454" y="6882"/>
                </a:moveTo>
                <a:cubicBezTo>
                  <a:pt x="11450" y="6879"/>
                  <a:pt x="11330" y="6749"/>
                  <a:pt x="11287" y="6691"/>
                </a:cubicBezTo>
                <a:cubicBezTo>
                  <a:pt x="11191" y="6562"/>
                  <a:pt x="11128" y="6424"/>
                  <a:pt x="11049" y="6287"/>
                </a:cubicBezTo>
                <a:cubicBezTo>
                  <a:pt x="10972" y="6154"/>
                  <a:pt x="10862" y="6033"/>
                  <a:pt x="10787" y="5906"/>
                </a:cubicBezTo>
                <a:cubicBezTo>
                  <a:pt x="10744" y="5833"/>
                  <a:pt x="10722" y="5735"/>
                  <a:pt x="10668" y="5667"/>
                </a:cubicBezTo>
                <a:cubicBezTo>
                  <a:pt x="10619" y="5605"/>
                  <a:pt x="10583" y="5531"/>
                  <a:pt x="10549" y="5453"/>
                </a:cubicBezTo>
                <a:cubicBezTo>
                  <a:pt x="10526" y="5401"/>
                  <a:pt x="10522" y="5363"/>
                  <a:pt x="10478" y="5334"/>
                </a:cubicBezTo>
                <a:cubicBezTo>
                  <a:pt x="10470" y="5334"/>
                  <a:pt x="10462" y="5334"/>
                  <a:pt x="10454" y="5334"/>
                </a:cubicBezTo>
                <a:cubicBezTo>
                  <a:pt x="10454" y="5496"/>
                  <a:pt x="10430" y="5690"/>
                  <a:pt x="10478" y="5834"/>
                </a:cubicBezTo>
                <a:cubicBezTo>
                  <a:pt x="10478" y="5794"/>
                  <a:pt x="10478" y="5803"/>
                  <a:pt x="10478" y="5763"/>
                </a:cubicBezTo>
                <a:cubicBezTo>
                  <a:pt x="10478" y="5620"/>
                  <a:pt x="10478" y="5477"/>
                  <a:pt x="10478" y="5334"/>
                </a:cubicBezTo>
                <a:cubicBezTo>
                  <a:pt x="10500" y="5357"/>
                  <a:pt x="10474" y="5341"/>
                  <a:pt x="10501" y="5358"/>
                </a:cubicBezTo>
                <a:cubicBezTo>
                  <a:pt x="10539" y="5382"/>
                  <a:pt x="10582" y="5375"/>
                  <a:pt x="10620" y="5405"/>
                </a:cubicBezTo>
                <a:cubicBezTo>
                  <a:pt x="10673" y="5446"/>
                  <a:pt x="10709" y="5489"/>
                  <a:pt x="10763" y="5525"/>
                </a:cubicBezTo>
                <a:cubicBezTo>
                  <a:pt x="10823" y="5566"/>
                  <a:pt x="10909" y="5583"/>
                  <a:pt x="10978" y="5620"/>
                </a:cubicBezTo>
                <a:cubicBezTo>
                  <a:pt x="11040" y="5653"/>
                  <a:pt x="11087" y="5688"/>
                  <a:pt x="11144" y="5715"/>
                </a:cubicBezTo>
                <a:cubicBezTo>
                  <a:pt x="11195" y="5739"/>
                  <a:pt x="11222" y="5771"/>
                  <a:pt x="11263" y="5786"/>
                </a:cubicBezTo>
                <a:cubicBezTo>
                  <a:pt x="11287" y="5786"/>
                  <a:pt x="11295" y="5786"/>
                  <a:pt x="11311" y="5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0:56:04Z</dcterms:created>
  <dc:creator>Админ</dc:creator>
  <dc:description/>
  <dc:language>en-US</dc:language>
  <cp:lastModifiedBy>Админ</cp:lastModifiedBy>
  <dcterms:modified xsi:type="dcterms:W3CDTF">2018-03-18T03:12:34Z</dcterms:modified>
  <cp:revision>3</cp:revision>
  <dc:subject/>
  <dc:title>Стендовая защита…?</dc:title>
</cp:coreProperties>
</file>